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652-A317-45A2-99C8-2B0D917C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0BB-A7A3-4E02-82DA-96B79F12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54F-C5EB-4830-9C64-7E350BC0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A45-EA7D-4192-A0A0-64B2BF7B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6F58-959A-4874-B0CF-3E462F3F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6825-7C83-466A-877A-F62784A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C9B6-3A65-44B3-BA27-6320A74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1A6D-C917-419B-8B4B-7CA83FA6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762E-1A41-4D0E-A96F-74F8D27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BAD-0453-4D52-AB0B-EC6B1C36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552B-3B91-4ADD-8434-1718EA84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F49-4D15-4744-AED7-648D85DE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F7B-C8AA-4F13-893D-CD2662D0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E47B-263B-44DC-BCEC-241CA72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DE11-7A01-4938-82D0-E3A5EDA0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805-DB22-449F-A23E-8F52629E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B63A-57F9-4C44-B3BA-95CE1ACE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F5D-9310-4433-AF63-643F81C1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BA8-D683-4552-A74B-56213B71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912-F750-4E11-8BA0-D95A69D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6B6-BED3-4B83-AADA-96B6C99D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EBC-94F2-4A19-956E-CC4C8E5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DA9-489C-4B06-AB6F-E7F6485D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3BD-DC9E-498A-86CC-50E3593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B3C4-393E-4DBB-AFE7-A49E510EE8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E386-3C00-4DF8-841E-E61CD3D3F7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2133720" y="1600200"/>
            <a:ext cx="5105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eck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Ink 6"/>
          <p:cNvSpPr/>
          <p:nvPr/>
        </p:nvSpPr>
        <p:spPr>
          <a:xfrm>
            <a:off x="446040" y="3251160"/>
            <a:ext cx="1938240" cy="384120"/>
          </a:xfrm>
          <a:custGeom>
            <a:avLst/>
            <a:gdLst/>
            <a:ahLst/>
            <a:rect l="l" t="t" r="r" b="b"/>
            <a:pathLst>
              <a:path w="5384" h="1068">
                <a:moveTo>
                  <a:pt x="1662" y="9376"/>
                </a:moveTo>
                <a:cubicBezTo>
                  <a:pt x="1692" y="9406"/>
                  <a:pt x="1697" y="9420"/>
                  <a:pt x="1662" y="9451"/>
                </a:cubicBezTo>
                <a:cubicBezTo>
                  <a:pt x="1662" y="9360"/>
                  <a:pt x="1666" y="9287"/>
                  <a:pt x="1637" y="9203"/>
                </a:cubicBezTo>
                <a:cubicBezTo>
                  <a:pt x="1621" y="9157"/>
                  <a:pt x="1587" y="9056"/>
                  <a:pt x="1538" y="9029"/>
                </a:cubicBezTo>
                <a:cubicBezTo>
                  <a:pt x="1482" y="8998"/>
                  <a:pt x="1431" y="9096"/>
                  <a:pt x="1414" y="9128"/>
                </a:cubicBezTo>
                <a:cubicBezTo>
                  <a:pt x="1385" y="9183"/>
                  <a:pt x="1369" y="9290"/>
                  <a:pt x="1364" y="9351"/>
                </a:cubicBezTo>
                <a:cubicBezTo>
                  <a:pt x="1350" y="9517"/>
                  <a:pt x="1330" y="9767"/>
                  <a:pt x="1389" y="9922"/>
                </a:cubicBezTo>
              </a:path>
              <a:path w="5384" h="1068">
                <a:moveTo>
                  <a:pt x="1240" y="9674"/>
                </a:moveTo>
                <a:cubicBezTo>
                  <a:pt x="1320" y="9709"/>
                  <a:pt x="1376" y="9723"/>
                  <a:pt x="1463" y="9723"/>
                </a:cubicBezTo>
                <a:cubicBezTo>
                  <a:pt x="1513" y="9723"/>
                  <a:pt x="1530" y="9723"/>
                  <a:pt x="1563" y="9723"/>
                </a:cubicBezTo>
              </a:path>
              <a:path w="5384" h="1068">
                <a:moveTo>
                  <a:pt x="2009" y="9227"/>
                </a:moveTo>
                <a:cubicBezTo>
                  <a:pt x="1975" y="9321"/>
                  <a:pt x="1932" y="9386"/>
                  <a:pt x="1885" y="9475"/>
                </a:cubicBezTo>
                <a:cubicBezTo>
                  <a:pt x="1845" y="9552"/>
                  <a:pt x="1839" y="9662"/>
                  <a:pt x="1836" y="9748"/>
                </a:cubicBezTo>
                <a:cubicBezTo>
                  <a:pt x="1832" y="9872"/>
                  <a:pt x="1844" y="9971"/>
                  <a:pt x="1960" y="10021"/>
                </a:cubicBezTo>
                <a:cubicBezTo>
                  <a:pt x="1968" y="10021"/>
                  <a:pt x="1976" y="10021"/>
                  <a:pt x="1984" y="10021"/>
                </a:cubicBezTo>
              </a:path>
              <a:path w="5384" h="1068">
                <a:moveTo>
                  <a:pt x="2084" y="9550"/>
                </a:moveTo>
                <a:cubicBezTo>
                  <a:pt x="2106" y="9633"/>
                  <a:pt x="2127" y="9693"/>
                  <a:pt x="2158" y="9773"/>
                </a:cubicBezTo>
                <a:cubicBezTo>
                  <a:pt x="2187" y="9846"/>
                  <a:pt x="2207" y="9928"/>
                  <a:pt x="2282" y="9971"/>
                </a:cubicBezTo>
                <a:cubicBezTo>
                  <a:pt x="2290" y="9971"/>
                  <a:pt x="2299" y="9971"/>
                  <a:pt x="2307" y="9971"/>
                </a:cubicBezTo>
              </a:path>
              <a:path w="5384" h="1068">
                <a:moveTo>
                  <a:pt x="2282" y="9550"/>
                </a:moveTo>
                <a:cubicBezTo>
                  <a:pt x="2224" y="9640"/>
                  <a:pt x="2177" y="9727"/>
                  <a:pt x="2133" y="9823"/>
                </a:cubicBezTo>
                <a:cubicBezTo>
                  <a:pt x="2115" y="9862"/>
                  <a:pt x="2071" y="9954"/>
                  <a:pt x="2084" y="9996"/>
                </a:cubicBezTo>
                <a:cubicBezTo>
                  <a:pt x="2106" y="10019"/>
                  <a:pt x="2114" y="10030"/>
                  <a:pt x="2108" y="9996"/>
                </a:cubicBezTo>
              </a:path>
              <a:path w="5384" h="1068">
                <a:moveTo>
                  <a:pt x="2232" y="9153"/>
                </a:moveTo>
                <a:cubicBezTo>
                  <a:pt x="2312" y="9164"/>
                  <a:pt x="2325" y="9197"/>
                  <a:pt x="2356" y="9277"/>
                </a:cubicBezTo>
                <a:cubicBezTo>
                  <a:pt x="2402" y="9395"/>
                  <a:pt x="2427" y="9495"/>
                  <a:pt x="2431" y="9624"/>
                </a:cubicBezTo>
                <a:cubicBezTo>
                  <a:pt x="2434" y="9730"/>
                  <a:pt x="2422" y="9824"/>
                  <a:pt x="2406" y="9922"/>
                </a:cubicBezTo>
                <a:cubicBezTo>
                  <a:pt x="2396" y="9982"/>
                  <a:pt x="2384" y="10014"/>
                  <a:pt x="2356" y="10071"/>
                </a:cubicBezTo>
              </a:path>
              <a:path w="5384" h="1068">
                <a:moveTo>
                  <a:pt x="2679" y="9649"/>
                </a:moveTo>
                <a:cubicBezTo>
                  <a:pt x="2778" y="9629"/>
                  <a:pt x="2794" y="9621"/>
                  <a:pt x="2853" y="9624"/>
                </a:cubicBezTo>
              </a:path>
              <a:path w="5384" h="1068">
                <a:moveTo>
                  <a:pt x="2704" y="9823"/>
                </a:moveTo>
                <a:cubicBezTo>
                  <a:pt x="2778" y="9823"/>
                  <a:pt x="2853" y="9823"/>
                  <a:pt x="2927" y="9823"/>
                </a:cubicBezTo>
              </a:path>
              <a:path w="5384" h="1068">
                <a:moveTo>
                  <a:pt x="3200" y="9500"/>
                </a:moveTo>
                <a:cubicBezTo>
                  <a:pt x="3233" y="9616"/>
                  <a:pt x="3269" y="9733"/>
                  <a:pt x="3349" y="9823"/>
                </a:cubicBezTo>
                <a:cubicBezTo>
                  <a:pt x="3415" y="9897"/>
                  <a:pt x="3488" y="9968"/>
                  <a:pt x="3572" y="10021"/>
                </a:cubicBezTo>
                <a:cubicBezTo>
                  <a:pt x="3625" y="10054"/>
                  <a:pt x="3687" y="10084"/>
                  <a:pt x="3746" y="10096"/>
                </a:cubicBezTo>
              </a:path>
              <a:path w="5384" h="1068">
                <a:moveTo>
                  <a:pt x="3547" y="9451"/>
                </a:moveTo>
                <a:cubicBezTo>
                  <a:pt x="3481" y="9570"/>
                  <a:pt x="3449" y="9675"/>
                  <a:pt x="3398" y="9798"/>
                </a:cubicBezTo>
                <a:cubicBezTo>
                  <a:pt x="3373" y="9860"/>
                  <a:pt x="3349" y="9942"/>
                  <a:pt x="3324" y="9996"/>
                </a:cubicBezTo>
                <a:cubicBezTo>
                  <a:pt x="3294" y="10026"/>
                  <a:pt x="3283" y="10040"/>
                  <a:pt x="3274" y="10071"/>
                </a:cubicBezTo>
              </a:path>
              <a:path w="5384" h="1068">
                <a:moveTo>
                  <a:pt x="3621" y="9079"/>
                </a:moveTo>
                <a:cubicBezTo>
                  <a:pt x="3665" y="9046"/>
                  <a:pt x="3752" y="8992"/>
                  <a:pt x="3795" y="9079"/>
                </a:cubicBezTo>
                <a:cubicBezTo>
                  <a:pt x="3811" y="9111"/>
                  <a:pt x="3764" y="9204"/>
                  <a:pt x="3746" y="9227"/>
                </a:cubicBezTo>
                <a:cubicBezTo>
                  <a:pt x="3728" y="9250"/>
                  <a:pt x="3618" y="9319"/>
                  <a:pt x="3696" y="9351"/>
                </a:cubicBezTo>
                <a:cubicBezTo>
                  <a:pt x="3762" y="9378"/>
                  <a:pt x="3905" y="9351"/>
                  <a:pt x="3969" y="9327"/>
                </a:cubicBezTo>
                <a:cubicBezTo>
                  <a:pt x="3985" y="9319"/>
                  <a:pt x="4002" y="9310"/>
                  <a:pt x="4018" y="9302"/>
                </a:cubicBezTo>
              </a:path>
              <a:path w="5384" h="1068">
                <a:moveTo>
                  <a:pt x="4465" y="9376"/>
                </a:moveTo>
                <a:cubicBezTo>
                  <a:pt x="4465" y="9351"/>
                  <a:pt x="4465" y="9343"/>
                  <a:pt x="4465" y="9327"/>
                </a:cubicBezTo>
                <a:cubicBezTo>
                  <a:pt x="4437" y="9392"/>
                  <a:pt x="4419" y="9453"/>
                  <a:pt x="4415" y="9525"/>
                </a:cubicBezTo>
                <a:cubicBezTo>
                  <a:pt x="4411" y="9595"/>
                  <a:pt x="4390" y="9649"/>
                  <a:pt x="4390" y="9723"/>
                </a:cubicBezTo>
                <a:cubicBezTo>
                  <a:pt x="4390" y="9748"/>
                  <a:pt x="4390" y="9773"/>
                  <a:pt x="4390" y="9798"/>
                </a:cubicBezTo>
              </a:path>
              <a:path w="5384" h="1068">
                <a:moveTo>
                  <a:pt x="4192" y="9599"/>
                </a:moveTo>
                <a:cubicBezTo>
                  <a:pt x="4275" y="9630"/>
                  <a:pt x="4349" y="9624"/>
                  <a:pt x="4440" y="9624"/>
                </a:cubicBezTo>
                <a:cubicBezTo>
                  <a:pt x="4457" y="9624"/>
                  <a:pt x="4473" y="9624"/>
                  <a:pt x="4490" y="9624"/>
                </a:cubicBezTo>
              </a:path>
              <a:path w="5384" h="1068">
                <a:moveTo>
                  <a:pt x="4911" y="9376"/>
                </a:moveTo>
                <a:cubicBezTo>
                  <a:pt x="4962" y="9484"/>
                  <a:pt x="5035" y="9566"/>
                  <a:pt x="5085" y="9674"/>
                </a:cubicBezTo>
                <a:cubicBezTo>
                  <a:pt x="5133" y="9778"/>
                  <a:pt x="5178" y="9863"/>
                  <a:pt x="5259" y="9947"/>
                </a:cubicBezTo>
                <a:cubicBezTo>
                  <a:pt x="5333" y="10021"/>
                  <a:pt x="5342" y="10030"/>
                  <a:pt x="5383" y="10071"/>
                </a:cubicBezTo>
              </a:path>
              <a:path w="5384" h="1068">
                <a:moveTo>
                  <a:pt x="5184" y="9351"/>
                </a:moveTo>
                <a:cubicBezTo>
                  <a:pt x="5112" y="9433"/>
                  <a:pt x="5063" y="9508"/>
                  <a:pt x="5011" y="9599"/>
                </a:cubicBezTo>
                <a:cubicBezTo>
                  <a:pt x="4959" y="9689"/>
                  <a:pt x="4921" y="9774"/>
                  <a:pt x="4887" y="9872"/>
                </a:cubicBezTo>
                <a:cubicBezTo>
                  <a:pt x="4865" y="9937"/>
                  <a:pt x="4857" y="9952"/>
                  <a:pt x="4862" y="9996"/>
                </a:cubicBezTo>
              </a:path>
              <a:path w="5384" h="1068">
                <a:moveTo>
                  <a:pt x="5482" y="9699"/>
                </a:moveTo>
                <a:cubicBezTo>
                  <a:pt x="5622" y="9679"/>
                  <a:pt x="5646" y="9670"/>
                  <a:pt x="5730" y="9674"/>
                </a:cubicBezTo>
              </a:path>
              <a:path w="5384" h="1068">
                <a:moveTo>
                  <a:pt x="5978" y="9327"/>
                </a:moveTo>
                <a:cubicBezTo>
                  <a:pt x="6095" y="9282"/>
                  <a:pt x="6100" y="9267"/>
                  <a:pt x="6176" y="9351"/>
                </a:cubicBezTo>
                <a:cubicBezTo>
                  <a:pt x="6224" y="9404"/>
                  <a:pt x="6202" y="9463"/>
                  <a:pt x="6176" y="9525"/>
                </a:cubicBezTo>
                <a:cubicBezTo>
                  <a:pt x="6156" y="9574"/>
                  <a:pt x="6091" y="9686"/>
                  <a:pt x="6052" y="9723"/>
                </a:cubicBezTo>
                <a:cubicBezTo>
                  <a:pt x="5999" y="9772"/>
                  <a:pt x="5941" y="9815"/>
                  <a:pt x="6028" y="9872"/>
                </a:cubicBezTo>
                <a:cubicBezTo>
                  <a:pt x="6089" y="9911"/>
                  <a:pt x="6207" y="9910"/>
                  <a:pt x="6276" y="9897"/>
                </a:cubicBezTo>
                <a:cubicBezTo>
                  <a:pt x="6360" y="9881"/>
                  <a:pt x="6488" y="9829"/>
                  <a:pt x="6573" y="9847"/>
                </a:cubicBezTo>
                <a:cubicBezTo>
                  <a:pt x="6590" y="9855"/>
                  <a:pt x="6606" y="9864"/>
                  <a:pt x="6623" y="98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7"/>
          <p:cNvSpPr/>
          <p:nvPr/>
        </p:nvSpPr>
        <p:spPr>
          <a:xfrm>
            <a:off x="490680" y="3714840"/>
            <a:ext cx="1644480" cy="401400"/>
          </a:xfrm>
          <a:custGeom>
            <a:avLst/>
            <a:gdLst/>
            <a:ahLst/>
            <a:rect l="l" t="t" r="r" b="b"/>
            <a:pathLst>
              <a:path w="4565" h="1117">
                <a:moveTo>
                  <a:pt x="1488" y="10418"/>
                </a:moveTo>
                <a:cubicBezTo>
                  <a:pt x="1455" y="10492"/>
                  <a:pt x="1419" y="10566"/>
                  <a:pt x="1389" y="10641"/>
                </a:cubicBezTo>
                <a:cubicBezTo>
                  <a:pt x="1356" y="10724"/>
                  <a:pt x="1364" y="10801"/>
                  <a:pt x="1364" y="10889"/>
                </a:cubicBezTo>
                <a:cubicBezTo>
                  <a:pt x="1364" y="10965"/>
                  <a:pt x="1368" y="11001"/>
                  <a:pt x="1414" y="11063"/>
                </a:cubicBezTo>
                <a:cubicBezTo>
                  <a:pt x="1443" y="11102"/>
                  <a:pt x="1542" y="11098"/>
                  <a:pt x="1588" y="11088"/>
                </a:cubicBezTo>
                <a:cubicBezTo>
                  <a:pt x="1663" y="11072"/>
                  <a:pt x="1726" y="10981"/>
                  <a:pt x="1761" y="10914"/>
                </a:cubicBezTo>
                <a:cubicBezTo>
                  <a:pt x="1803" y="10833"/>
                  <a:pt x="1786" y="10729"/>
                  <a:pt x="1786" y="10641"/>
                </a:cubicBezTo>
                <a:cubicBezTo>
                  <a:pt x="1786" y="10551"/>
                  <a:pt x="1754" y="10494"/>
                  <a:pt x="1712" y="10418"/>
                </a:cubicBezTo>
                <a:cubicBezTo>
                  <a:pt x="1672" y="10347"/>
                  <a:pt x="1614" y="10337"/>
                  <a:pt x="1538" y="10319"/>
                </a:cubicBezTo>
                <a:cubicBezTo>
                  <a:pt x="1455" y="10300"/>
                  <a:pt x="1432" y="10329"/>
                  <a:pt x="1414" y="10393"/>
                </a:cubicBezTo>
              </a:path>
              <a:path w="4565" h="1117">
                <a:moveTo>
                  <a:pt x="2158" y="10765"/>
                </a:moveTo>
                <a:cubicBezTo>
                  <a:pt x="2208" y="10765"/>
                  <a:pt x="2257" y="10765"/>
                  <a:pt x="2307" y="10765"/>
                </a:cubicBezTo>
              </a:path>
              <a:path w="4565" h="1117">
                <a:moveTo>
                  <a:pt x="2232" y="10889"/>
                </a:moveTo>
                <a:cubicBezTo>
                  <a:pt x="2294" y="10935"/>
                  <a:pt x="2329" y="10949"/>
                  <a:pt x="2406" y="10964"/>
                </a:cubicBezTo>
              </a:path>
              <a:path w="4565" h="1117">
                <a:moveTo>
                  <a:pt x="2704" y="10666"/>
                </a:moveTo>
                <a:cubicBezTo>
                  <a:pt x="2736" y="10753"/>
                  <a:pt x="2761" y="10858"/>
                  <a:pt x="2803" y="10939"/>
                </a:cubicBezTo>
                <a:cubicBezTo>
                  <a:pt x="2850" y="11028"/>
                  <a:pt x="2908" y="11114"/>
                  <a:pt x="2977" y="11187"/>
                </a:cubicBezTo>
                <a:cubicBezTo>
                  <a:pt x="3018" y="11229"/>
                  <a:pt x="3026" y="11237"/>
                  <a:pt x="3051" y="11261"/>
                </a:cubicBezTo>
              </a:path>
              <a:path w="4565" h="1117">
                <a:moveTo>
                  <a:pt x="3001" y="10567"/>
                </a:moveTo>
                <a:cubicBezTo>
                  <a:pt x="2921" y="10681"/>
                  <a:pt x="2835" y="10788"/>
                  <a:pt x="2778" y="10914"/>
                </a:cubicBezTo>
                <a:cubicBezTo>
                  <a:pt x="2740" y="10998"/>
                  <a:pt x="2675" y="11198"/>
                  <a:pt x="2679" y="11261"/>
                </a:cubicBezTo>
                <a:cubicBezTo>
                  <a:pt x="2702" y="11284"/>
                  <a:pt x="2710" y="11295"/>
                  <a:pt x="2704" y="11261"/>
                </a:cubicBezTo>
              </a:path>
              <a:path w="4565" h="1117">
                <a:moveTo>
                  <a:pt x="3175" y="10344"/>
                </a:moveTo>
                <a:cubicBezTo>
                  <a:pt x="3256" y="10334"/>
                  <a:pt x="3399" y="10304"/>
                  <a:pt x="3324" y="10443"/>
                </a:cubicBezTo>
                <a:cubicBezTo>
                  <a:pt x="3300" y="10487"/>
                  <a:pt x="3261" y="10530"/>
                  <a:pt x="3225" y="10567"/>
                </a:cubicBezTo>
                <a:cubicBezTo>
                  <a:pt x="3153" y="10639"/>
                  <a:pt x="3222" y="10648"/>
                  <a:pt x="3274" y="10666"/>
                </a:cubicBezTo>
                <a:cubicBezTo>
                  <a:pt x="3339" y="10689"/>
                  <a:pt x="3354" y="10675"/>
                  <a:pt x="3423" y="10666"/>
                </a:cubicBezTo>
              </a:path>
              <a:path w="4565" h="1117">
                <a:moveTo>
                  <a:pt x="3721" y="10691"/>
                </a:moveTo>
                <a:cubicBezTo>
                  <a:pt x="3695" y="10877"/>
                  <a:pt x="3682" y="10947"/>
                  <a:pt x="3696" y="11112"/>
                </a:cubicBezTo>
              </a:path>
              <a:path w="4565" h="1117">
                <a:moveTo>
                  <a:pt x="3547" y="10914"/>
                </a:moveTo>
                <a:cubicBezTo>
                  <a:pt x="3614" y="10931"/>
                  <a:pt x="3751" y="10971"/>
                  <a:pt x="3820" y="10964"/>
                </a:cubicBezTo>
                <a:cubicBezTo>
                  <a:pt x="3837" y="10956"/>
                  <a:pt x="3853" y="10947"/>
                  <a:pt x="3870" y="10939"/>
                </a:cubicBezTo>
              </a:path>
              <a:path w="4565" h="1117">
                <a:moveTo>
                  <a:pt x="4142" y="10740"/>
                </a:moveTo>
                <a:cubicBezTo>
                  <a:pt x="4199" y="10868"/>
                  <a:pt x="4264" y="10972"/>
                  <a:pt x="4341" y="11088"/>
                </a:cubicBezTo>
                <a:cubicBezTo>
                  <a:pt x="4403" y="11181"/>
                  <a:pt x="4470" y="11294"/>
                  <a:pt x="4564" y="11361"/>
                </a:cubicBezTo>
                <a:cubicBezTo>
                  <a:pt x="4581" y="11369"/>
                  <a:pt x="4597" y="11377"/>
                  <a:pt x="4614" y="11385"/>
                </a:cubicBezTo>
              </a:path>
              <a:path w="4565" h="1117">
                <a:moveTo>
                  <a:pt x="4539" y="10740"/>
                </a:moveTo>
                <a:cubicBezTo>
                  <a:pt x="4454" y="10872"/>
                  <a:pt x="4346" y="10990"/>
                  <a:pt x="4291" y="11137"/>
                </a:cubicBezTo>
                <a:cubicBezTo>
                  <a:pt x="4263" y="11212"/>
                  <a:pt x="4206" y="11292"/>
                  <a:pt x="4192" y="11361"/>
                </a:cubicBezTo>
                <a:cubicBezTo>
                  <a:pt x="4192" y="11402"/>
                  <a:pt x="4192" y="11410"/>
                  <a:pt x="4192" y="11435"/>
                </a:cubicBezTo>
              </a:path>
              <a:path w="4565" h="1117">
                <a:moveTo>
                  <a:pt x="4589" y="11088"/>
                </a:moveTo>
                <a:cubicBezTo>
                  <a:pt x="4676" y="11066"/>
                  <a:pt x="4747" y="11063"/>
                  <a:pt x="4837" y="11063"/>
                </a:cubicBezTo>
              </a:path>
              <a:path w="4565" h="1117">
                <a:moveTo>
                  <a:pt x="5060" y="10691"/>
                </a:moveTo>
                <a:cubicBezTo>
                  <a:pt x="5179" y="10627"/>
                  <a:pt x="5212" y="10587"/>
                  <a:pt x="5333" y="10641"/>
                </a:cubicBezTo>
                <a:cubicBezTo>
                  <a:pt x="5401" y="10671"/>
                  <a:pt x="5449" y="10707"/>
                  <a:pt x="5432" y="10790"/>
                </a:cubicBezTo>
                <a:cubicBezTo>
                  <a:pt x="5421" y="10845"/>
                  <a:pt x="5371" y="10924"/>
                  <a:pt x="5333" y="10964"/>
                </a:cubicBezTo>
                <a:cubicBezTo>
                  <a:pt x="5298" y="11000"/>
                  <a:pt x="5222" y="11063"/>
                  <a:pt x="5209" y="11112"/>
                </a:cubicBezTo>
                <a:cubicBezTo>
                  <a:pt x="5178" y="11227"/>
                  <a:pt x="5287" y="11220"/>
                  <a:pt x="5358" y="11237"/>
                </a:cubicBezTo>
                <a:cubicBezTo>
                  <a:pt x="5460" y="11262"/>
                  <a:pt x="5550" y="11261"/>
                  <a:pt x="5655" y="11261"/>
                </a:cubicBezTo>
                <a:cubicBezTo>
                  <a:pt x="5746" y="11261"/>
                  <a:pt x="5837" y="11261"/>
                  <a:pt x="5928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8"/>
          <p:cNvSpPr/>
          <p:nvPr/>
        </p:nvSpPr>
        <p:spPr>
          <a:xfrm>
            <a:off x="534960" y="4125960"/>
            <a:ext cx="992160" cy="322200"/>
          </a:xfrm>
          <a:custGeom>
            <a:avLst/>
            <a:gdLst/>
            <a:ahLst/>
            <a:rect l="l" t="t" r="r" b="b"/>
            <a:pathLst>
              <a:path w="2755" h="894">
                <a:moveTo>
                  <a:pt x="1662" y="11559"/>
                </a:moveTo>
                <a:cubicBezTo>
                  <a:pt x="1599" y="11631"/>
                  <a:pt x="1570" y="11691"/>
                  <a:pt x="1538" y="11782"/>
                </a:cubicBezTo>
                <a:cubicBezTo>
                  <a:pt x="1506" y="11875"/>
                  <a:pt x="1465" y="11979"/>
                  <a:pt x="1488" y="12080"/>
                </a:cubicBezTo>
                <a:cubicBezTo>
                  <a:pt x="1506" y="12160"/>
                  <a:pt x="1543" y="12238"/>
                  <a:pt x="1612" y="12278"/>
                </a:cubicBezTo>
                <a:cubicBezTo>
                  <a:pt x="1674" y="12314"/>
                  <a:pt x="1775" y="12322"/>
                  <a:pt x="1836" y="12278"/>
                </a:cubicBezTo>
                <a:cubicBezTo>
                  <a:pt x="1912" y="12223"/>
                  <a:pt x="1926" y="12091"/>
                  <a:pt x="1935" y="12005"/>
                </a:cubicBezTo>
                <a:cubicBezTo>
                  <a:pt x="1947" y="11890"/>
                  <a:pt x="1941" y="11767"/>
                  <a:pt x="1910" y="11658"/>
                </a:cubicBezTo>
                <a:cubicBezTo>
                  <a:pt x="1890" y="11590"/>
                  <a:pt x="1863" y="11482"/>
                  <a:pt x="1786" y="11460"/>
                </a:cubicBezTo>
                <a:cubicBezTo>
                  <a:pt x="1708" y="11437"/>
                  <a:pt x="1642" y="11463"/>
                  <a:pt x="1588" y="11509"/>
                </a:cubicBezTo>
                <a:cubicBezTo>
                  <a:pt x="1534" y="11555"/>
                  <a:pt x="1544" y="11592"/>
                  <a:pt x="1538" y="11658"/>
                </a:cubicBezTo>
              </a:path>
              <a:path w="2755" h="894">
                <a:moveTo>
                  <a:pt x="2183" y="11906"/>
                </a:moveTo>
                <a:cubicBezTo>
                  <a:pt x="2257" y="11906"/>
                  <a:pt x="2332" y="11906"/>
                  <a:pt x="2406" y="11906"/>
                </a:cubicBezTo>
              </a:path>
              <a:path w="2755" h="894">
                <a:moveTo>
                  <a:pt x="2282" y="12129"/>
                </a:moveTo>
                <a:cubicBezTo>
                  <a:pt x="2414" y="12167"/>
                  <a:pt x="2428" y="12184"/>
                  <a:pt x="2505" y="12179"/>
                </a:cubicBezTo>
              </a:path>
              <a:path w="2755" h="894">
                <a:moveTo>
                  <a:pt x="3051" y="11584"/>
                </a:moveTo>
                <a:cubicBezTo>
                  <a:pt x="2938" y="11706"/>
                  <a:pt x="2923" y="11750"/>
                  <a:pt x="2877" y="11906"/>
                </a:cubicBezTo>
                <a:cubicBezTo>
                  <a:pt x="2838" y="12040"/>
                  <a:pt x="2864" y="12146"/>
                  <a:pt x="2902" y="12278"/>
                </a:cubicBezTo>
                <a:cubicBezTo>
                  <a:pt x="2910" y="12303"/>
                  <a:pt x="2919" y="12328"/>
                  <a:pt x="2927" y="12353"/>
                </a:cubicBezTo>
              </a:path>
              <a:path w="2755" h="894">
                <a:moveTo>
                  <a:pt x="3051" y="11807"/>
                </a:moveTo>
                <a:cubicBezTo>
                  <a:pt x="3084" y="11862"/>
                  <a:pt x="3073" y="11918"/>
                  <a:pt x="3101" y="11981"/>
                </a:cubicBezTo>
                <a:cubicBezTo>
                  <a:pt x="3133" y="12055"/>
                  <a:pt x="3210" y="12154"/>
                  <a:pt x="3274" y="12204"/>
                </a:cubicBezTo>
                <a:cubicBezTo>
                  <a:pt x="3317" y="12237"/>
                  <a:pt x="3358" y="12263"/>
                  <a:pt x="3398" y="12303"/>
                </a:cubicBezTo>
              </a:path>
              <a:path w="2755" h="894">
                <a:moveTo>
                  <a:pt x="3274" y="11658"/>
                </a:moveTo>
                <a:cubicBezTo>
                  <a:pt x="3220" y="11744"/>
                  <a:pt x="3167" y="11817"/>
                  <a:pt x="3125" y="11906"/>
                </a:cubicBezTo>
                <a:cubicBezTo>
                  <a:pt x="3097" y="11966"/>
                  <a:pt x="3035" y="12064"/>
                  <a:pt x="3026" y="12129"/>
                </a:cubicBezTo>
                <a:cubicBezTo>
                  <a:pt x="3026" y="12204"/>
                  <a:pt x="3026" y="12212"/>
                  <a:pt x="3026" y="12254"/>
                </a:cubicBezTo>
              </a:path>
              <a:path w="2755" h="894">
                <a:moveTo>
                  <a:pt x="3473" y="11981"/>
                </a:moveTo>
                <a:cubicBezTo>
                  <a:pt x="3548" y="11935"/>
                  <a:pt x="3586" y="11969"/>
                  <a:pt x="3671" y="11981"/>
                </a:cubicBezTo>
                <a:cubicBezTo>
                  <a:pt x="3737" y="11991"/>
                  <a:pt x="3805" y="12001"/>
                  <a:pt x="3870" y="12005"/>
                </a:cubicBezTo>
                <a:cubicBezTo>
                  <a:pt x="3919" y="12005"/>
                  <a:pt x="3936" y="12005"/>
                  <a:pt x="3969" y="12005"/>
                </a:cubicBezTo>
              </a:path>
              <a:path w="2755" h="894">
                <a:moveTo>
                  <a:pt x="4242" y="11708"/>
                </a:moveTo>
                <a:cubicBezTo>
                  <a:pt x="4242" y="11818"/>
                  <a:pt x="4210" y="11952"/>
                  <a:pt x="4217" y="12055"/>
                </a:cubicBezTo>
                <a:cubicBezTo>
                  <a:pt x="4222" y="12125"/>
                  <a:pt x="4242" y="12199"/>
                  <a:pt x="4242" y="12278"/>
                </a:cubicBezTo>
                <a:cubicBezTo>
                  <a:pt x="4242" y="12295"/>
                  <a:pt x="4242" y="12311"/>
                  <a:pt x="4242" y="123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9"/>
          <p:cNvSpPr/>
          <p:nvPr/>
        </p:nvSpPr>
        <p:spPr>
          <a:xfrm>
            <a:off x="1731960" y="4098960"/>
            <a:ext cx="8571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4911" y="11633"/>
                </a:moveTo>
                <a:cubicBezTo>
                  <a:pt x="4986" y="11729"/>
                  <a:pt x="5010" y="11814"/>
                  <a:pt x="5035" y="11931"/>
                </a:cubicBezTo>
                <a:cubicBezTo>
                  <a:pt x="5060" y="12050"/>
                  <a:pt x="5047" y="12163"/>
                  <a:pt x="5011" y="12278"/>
                </a:cubicBezTo>
                <a:cubicBezTo>
                  <a:pt x="4983" y="12368"/>
                  <a:pt x="4952" y="12411"/>
                  <a:pt x="4887" y="12477"/>
                </a:cubicBezTo>
                <a:cubicBezTo>
                  <a:pt x="4858" y="12506"/>
                  <a:pt x="4849" y="12517"/>
                  <a:pt x="4812" y="12526"/>
                </a:cubicBezTo>
              </a:path>
              <a:path w="2382" h="1142">
                <a:moveTo>
                  <a:pt x="5283" y="11633"/>
                </a:moveTo>
                <a:cubicBezTo>
                  <a:pt x="5217" y="11675"/>
                  <a:pt x="5104" y="11720"/>
                  <a:pt x="5085" y="11807"/>
                </a:cubicBezTo>
                <a:cubicBezTo>
                  <a:pt x="5061" y="11915"/>
                  <a:pt x="5090" y="12079"/>
                  <a:pt x="5135" y="12179"/>
                </a:cubicBezTo>
                <a:cubicBezTo>
                  <a:pt x="5179" y="12277"/>
                  <a:pt x="5255" y="12337"/>
                  <a:pt x="5333" y="12402"/>
                </a:cubicBezTo>
              </a:path>
              <a:path w="2382" h="1142">
                <a:moveTo>
                  <a:pt x="6921" y="11385"/>
                </a:moveTo>
                <a:cubicBezTo>
                  <a:pt x="7019" y="11434"/>
                  <a:pt x="7081" y="11517"/>
                  <a:pt x="7119" y="11633"/>
                </a:cubicBezTo>
                <a:cubicBezTo>
                  <a:pt x="7163" y="11767"/>
                  <a:pt x="7217" y="11910"/>
                  <a:pt x="7193" y="12055"/>
                </a:cubicBezTo>
                <a:cubicBezTo>
                  <a:pt x="7178" y="12143"/>
                  <a:pt x="7156" y="12262"/>
                  <a:pt x="7094" y="12328"/>
                </a:cubicBezTo>
                <a:cubicBezTo>
                  <a:pt x="7078" y="12336"/>
                  <a:pt x="7061" y="12345"/>
                  <a:pt x="7045" y="12353"/>
                </a:cubicBezTo>
              </a:path>
              <a:path w="2382" h="1142">
                <a:moveTo>
                  <a:pt x="5259" y="11832"/>
                </a:moveTo>
                <a:cubicBezTo>
                  <a:pt x="5316" y="11932"/>
                  <a:pt x="5382" y="12018"/>
                  <a:pt x="5457" y="12105"/>
                </a:cubicBezTo>
                <a:cubicBezTo>
                  <a:pt x="5512" y="12168"/>
                  <a:pt x="5561" y="12256"/>
                  <a:pt x="5631" y="12303"/>
                </a:cubicBezTo>
                <a:cubicBezTo>
                  <a:pt x="5647" y="12311"/>
                  <a:pt x="5664" y="12320"/>
                  <a:pt x="5680" y="12328"/>
                </a:cubicBezTo>
              </a:path>
              <a:path w="2382" h="1142">
                <a:moveTo>
                  <a:pt x="5531" y="11757"/>
                </a:moveTo>
                <a:cubicBezTo>
                  <a:pt x="5425" y="11888"/>
                  <a:pt x="5353" y="11970"/>
                  <a:pt x="5308" y="12129"/>
                </a:cubicBezTo>
                <a:cubicBezTo>
                  <a:pt x="5283" y="12218"/>
                  <a:pt x="5253" y="12274"/>
                  <a:pt x="5209" y="12353"/>
                </a:cubicBezTo>
              </a:path>
              <a:path w="2382" h="1142">
                <a:moveTo>
                  <a:pt x="5978" y="11832"/>
                </a:moveTo>
                <a:cubicBezTo>
                  <a:pt x="5978" y="11916"/>
                  <a:pt x="5999" y="11976"/>
                  <a:pt x="6003" y="12055"/>
                </a:cubicBezTo>
                <a:cubicBezTo>
                  <a:pt x="6006" y="12110"/>
                  <a:pt x="6021" y="12150"/>
                  <a:pt x="6028" y="12204"/>
                </a:cubicBezTo>
              </a:path>
              <a:path w="2382" h="1142">
                <a:moveTo>
                  <a:pt x="5829" y="11931"/>
                </a:moveTo>
                <a:cubicBezTo>
                  <a:pt x="5936" y="11953"/>
                  <a:pt x="6021" y="11981"/>
                  <a:pt x="6127" y="11981"/>
                </a:cubicBezTo>
              </a:path>
              <a:path w="2382" h="1142">
                <a:moveTo>
                  <a:pt x="6375" y="11633"/>
                </a:moveTo>
                <a:cubicBezTo>
                  <a:pt x="6522" y="11615"/>
                  <a:pt x="6489" y="11599"/>
                  <a:pt x="6573" y="11683"/>
                </a:cubicBezTo>
                <a:cubicBezTo>
                  <a:pt x="6608" y="11718"/>
                  <a:pt x="6613" y="11833"/>
                  <a:pt x="6598" y="11881"/>
                </a:cubicBezTo>
                <a:cubicBezTo>
                  <a:pt x="6581" y="11934"/>
                  <a:pt x="6514" y="11990"/>
                  <a:pt x="6474" y="12030"/>
                </a:cubicBezTo>
                <a:cubicBezTo>
                  <a:pt x="6436" y="12068"/>
                  <a:pt x="6414" y="12115"/>
                  <a:pt x="6375" y="12154"/>
                </a:cubicBezTo>
                <a:cubicBezTo>
                  <a:pt x="6434" y="12214"/>
                  <a:pt x="6460" y="12204"/>
                  <a:pt x="6548" y="12204"/>
                </a:cubicBezTo>
                <a:cubicBezTo>
                  <a:pt x="6625" y="12204"/>
                  <a:pt x="6693" y="12229"/>
                  <a:pt x="6772" y="12229"/>
                </a:cubicBezTo>
                <a:cubicBezTo>
                  <a:pt x="6829" y="12229"/>
                  <a:pt x="6848" y="12239"/>
                  <a:pt x="6871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10"/>
          <p:cNvSpPr/>
          <p:nvPr/>
        </p:nvSpPr>
        <p:spPr>
          <a:xfrm>
            <a:off x="509760" y="4589640"/>
            <a:ext cx="776160" cy="304560"/>
          </a:xfrm>
          <a:custGeom>
            <a:avLst/>
            <a:gdLst/>
            <a:ahLst/>
            <a:rect l="l" t="t" r="r" b="b"/>
            <a:pathLst>
              <a:path w="2159" h="844">
                <a:moveTo>
                  <a:pt x="1488" y="12849"/>
                </a:moveTo>
                <a:cubicBezTo>
                  <a:pt x="1496" y="12944"/>
                  <a:pt x="1508" y="13033"/>
                  <a:pt x="1538" y="13122"/>
                </a:cubicBezTo>
                <a:cubicBezTo>
                  <a:pt x="1572" y="13224"/>
                  <a:pt x="1610" y="13326"/>
                  <a:pt x="1662" y="13419"/>
                </a:cubicBezTo>
                <a:cubicBezTo>
                  <a:pt x="1699" y="13486"/>
                  <a:pt x="1737" y="13537"/>
                  <a:pt x="1786" y="13593"/>
                </a:cubicBezTo>
              </a:path>
              <a:path w="2159" h="844">
                <a:moveTo>
                  <a:pt x="1811" y="12774"/>
                </a:moveTo>
                <a:cubicBezTo>
                  <a:pt x="1803" y="12766"/>
                  <a:pt x="1794" y="12758"/>
                  <a:pt x="1786" y="12750"/>
                </a:cubicBezTo>
                <a:cubicBezTo>
                  <a:pt x="1736" y="12798"/>
                  <a:pt x="1702" y="12840"/>
                  <a:pt x="1662" y="12898"/>
                </a:cubicBezTo>
                <a:cubicBezTo>
                  <a:pt x="1601" y="12987"/>
                  <a:pt x="1538" y="13076"/>
                  <a:pt x="1488" y="13171"/>
                </a:cubicBezTo>
                <a:cubicBezTo>
                  <a:pt x="1454" y="13235"/>
                  <a:pt x="1430" y="13302"/>
                  <a:pt x="1414" y="13370"/>
                </a:cubicBezTo>
                <a:cubicBezTo>
                  <a:pt x="1414" y="13378"/>
                  <a:pt x="1414" y="13387"/>
                  <a:pt x="1414" y="13395"/>
                </a:cubicBezTo>
              </a:path>
              <a:path w="2159" h="844">
                <a:moveTo>
                  <a:pt x="1786" y="13146"/>
                </a:moveTo>
                <a:cubicBezTo>
                  <a:pt x="1857" y="13146"/>
                  <a:pt x="1945" y="13182"/>
                  <a:pt x="2009" y="13171"/>
                </a:cubicBezTo>
                <a:cubicBezTo>
                  <a:pt x="2034" y="13163"/>
                  <a:pt x="2059" y="13154"/>
                  <a:pt x="2084" y="13146"/>
                </a:cubicBezTo>
              </a:path>
              <a:path w="2159" h="844">
                <a:moveTo>
                  <a:pt x="2356" y="12799"/>
                </a:moveTo>
                <a:cubicBezTo>
                  <a:pt x="2356" y="13039"/>
                  <a:pt x="2356" y="13279"/>
                  <a:pt x="2356" y="13519"/>
                </a:cubicBezTo>
              </a:path>
              <a:path w="2159" h="844">
                <a:moveTo>
                  <a:pt x="2505" y="13146"/>
                </a:moveTo>
                <a:cubicBezTo>
                  <a:pt x="2600" y="13099"/>
                  <a:pt x="2657" y="13073"/>
                  <a:pt x="2753" y="13122"/>
                </a:cubicBezTo>
              </a:path>
              <a:path w="2159" h="844">
                <a:moveTo>
                  <a:pt x="2604" y="13246"/>
                </a:moveTo>
                <a:cubicBezTo>
                  <a:pt x="2693" y="13293"/>
                  <a:pt x="2719" y="13319"/>
                  <a:pt x="2803" y="13295"/>
                </a:cubicBezTo>
              </a:path>
              <a:path w="2159" h="844">
                <a:moveTo>
                  <a:pt x="3150" y="12898"/>
                </a:moveTo>
                <a:cubicBezTo>
                  <a:pt x="3121" y="13001"/>
                  <a:pt x="3101" y="13065"/>
                  <a:pt x="3101" y="13171"/>
                </a:cubicBezTo>
                <a:cubicBezTo>
                  <a:pt x="3101" y="13306"/>
                  <a:pt x="3160" y="13436"/>
                  <a:pt x="3249" y="13519"/>
                </a:cubicBezTo>
                <a:cubicBezTo>
                  <a:pt x="3298" y="13565"/>
                  <a:pt x="3364" y="13609"/>
                  <a:pt x="3423" y="13568"/>
                </a:cubicBezTo>
                <a:cubicBezTo>
                  <a:pt x="3482" y="13527"/>
                  <a:pt x="3559" y="13414"/>
                  <a:pt x="3572" y="13345"/>
                </a:cubicBezTo>
                <a:cubicBezTo>
                  <a:pt x="3590" y="13251"/>
                  <a:pt x="3554" y="13181"/>
                  <a:pt x="3522" y="13097"/>
                </a:cubicBezTo>
                <a:cubicBezTo>
                  <a:pt x="3486" y="13003"/>
                  <a:pt x="3438" y="12947"/>
                  <a:pt x="3349" y="12898"/>
                </a:cubicBezTo>
                <a:cubicBezTo>
                  <a:pt x="3285" y="12863"/>
                  <a:pt x="3241" y="12808"/>
                  <a:pt x="3200" y="12898"/>
                </a:cubicBezTo>
                <a:cubicBezTo>
                  <a:pt x="3200" y="12906"/>
                  <a:pt x="3200" y="12915"/>
                  <a:pt x="3200" y="129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1"/>
          <p:cNvSpPr/>
          <p:nvPr/>
        </p:nvSpPr>
        <p:spPr>
          <a:xfrm>
            <a:off x="1554120" y="4606920"/>
            <a:ext cx="839880" cy="295200"/>
          </a:xfrm>
          <a:custGeom>
            <a:avLst/>
            <a:gdLst/>
            <a:ahLst/>
            <a:rect l="l" t="t" r="r" b="b"/>
            <a:pathLst>
              <a:path w="2333" h="820">
                <a:moveTo>
                  <a:pt x="4316" y="12973"/>
                </a:moveTo>
                <a:cubicBezTo>
                  <a:pt x="4379" y="13053"/>
                  <a:pt x="4430" y="13134"/>
                  <a:pt x="4490" y="13221"/>
                </a:cubicBezTo>
                <a:cubicBezTo>
                  <a:pt x="4549" y="13307"/>
                  <a:pt x="4610" y="13425"/>
                  <a:pt x="4688" y="13494"/>
                </a:cubicBezTo>
                <a:cubicBezTo>
                  <a:pt x="4705" y="13502"/>
                  <a:pt x="4721" y="13511"/>
                  <a:pt x="4738" y="13519"/>
                </a:cubicBezTo>
              </a:path>
              <a:path w="2333" h="820">
                <a:moveTo>
                  <a:pt x="4713" y="12998"/>
                </a:moveTo>
                <a:cubicBezTo>
                  <a:pt x="4592" y="13074"/>
                  <a:pt x="4568" y="13134"/>
                  <a:pt x="4490" y="13246"/>
                </a:cubicBezTo>
                <a:cubicBezTo>
                  <a:pt x="4443" y="13313"/>
                  <a:pt x="4422" y="13364"/>
                  <a:pt x="4415" y="13444"/>
                </a:cubicBezTo>
                <a:cubicBezTo>
                  <a:pt x="4415" y="13452"/>
                  <a:pt x="4415" y="13461"/>
                  <a:pt x="4415" y="13469"/>
                </a:cubicBezTo>
              </a:path>
              <a:path w="2333" h="820">
                <a:moveTo>
                  <a:pt x="4911" y="12898"/>
                </a:moveTo>
                <a:cubicBezTo>
                  <a:pt x="4911" y="12996"/>
                  <a:pt x="4923" y="13077"/>
                  <a:pt x="4936" y="13171"/>
                </a:cubicBezTo>
                <a:cubicBezTo>
                  <a:pt x="4945" y="13239"/>
                  <a:pt x="4961" y="13301"/>
                  <a:pt x="4961" y="13370"/>
                </a:cubicBezTo>
              </a:path>
              <a:path w="2333" h="820">
                <a:moveTo>
                  <a:pt x="4837" y="13196"/>
                </a:moveTo>
                <a:cubicBezTo>
                  <a:pt x="4923" y="13196"/>
                  <a:pt x="4987" y="13215"/>
                  <a:pt x="5060" y="13196"/>
                </a:cubicBezTo>
              </a:path>
              <a:path w="2333" h="820">
                <a:moveTo>
                  <a:pt x="5259" y="12849"/>
                </a:moveTo>
                <a:cubicBezTo>
                  <a:pt x="5347" y="12813"/>
                  <a:pt x="5355" y="12793"/>
                  <a:pt x="5432" y="12824"/>
                </a:cubicBezTo>
                <a:cubicBezTo>
                  <a:pt x="5544" y="12869"/>
                  <a:pt x="5586" y="12922"/>
                  <a:pt x="5482" y="13047"/>
                </a:cubicBezTo>
                <a:cubicBezTo>
                  <a:pt x="5471" y="13060"/>
                  <a:pt x="5305" y="13193"/>
                  <a:pt x="5308" y="13246"/>
                </a:cubicBezTo>
                <a:cubicBezTo>
                  <a:pt x="5311" y="13299"/>
                  <a:pt x="5377" y="13385"/>
                  <a:pt x="5432" y="13395"/>
                </a:cubicBezTo>
                <a:cubicBezTo>
                  <a:pt x="5500" y="13407"/>
                  <a:pt x="5546" y="13393"/>
                  <a:pt x="5606" y="13370"/>
                </a:cubicBezTo>
              </a:path>
              <a:path w="2333" h="820">
                <a:moveTo>
                  <a:pt x="5779" y="13122"/>
                </a:moveTo>
                <a:cubicBezTo>
                  <a:pt x="5837" y="13141"/>
                  <a:pt x="5844" y="13149"/>
                  <a:pt x="5879" y="13146"/>
                </a:cubicBezTo>
              </a:path>
              <a:path w="2333" h="820">
                <a:moveTo>
                  <a:pt x="5705" y="13271"/>
                </a:moveTo>
                <a:cubicBezTo>
                  <a:pt x="5795" y="13348"/>
                  <a:pt x="5821" y="13389"/>
                  <a:pt x="5928" y="13395"/>
                </a:cubicBezTo>
                <a:cubicBezTo>
                  <a:pt x="5973" y="13395"/>
                  <a:pt x="5986" y="13398"/>
                  <a:pt x="6003" y="13370"/>
                </a:cubicBezTo>
              </a:path>
              <a:path w="2333" h="820">
                <a:moveTo>
                  <a:pt x="6276" y="12998"/>
                </a:moveTo>
                <a:cubicBezTo>
                  <a:pt x="6225" y="13056"/>
                  <a:pt x="6180" y="13095"/>
                  <a:pt x="6176" y="13171"/>
                </a:cubicBezTo>
                <a:cubicBezTo>
                  <a:pt x="6172" y="13232"/>
                  <a:pt x="6193" y="13366"/>
                  <a:pt x="6226" y="13419"/>
                </a:cubicBezTo>
                <a:cubicBezTo>
                  <a:pt x="6259" y="13473"/>
                  <a:pt x="6321" y="13557"/>
                  <a:pt x="6375" y="13593"/>
                </a:cubicBezTo>
                <a:cubicBezTo>
                  <a:pt x="6441" y="13637"/>
                  <a:pt x="6552" y="13607"/>
                  <a:pt x="6598" y="13543"/>
                </a:cubicBezTo>
                <a:cubicBezTo>
                  <a:pt x="6651" y="13470"/>
                  <a:pt x="6629" y="13396"/>
                  <a:pt x="6623" y="13320"/>
                </a:cubicBezTo>
                <a:cubicBezTo>
                  <a:pt x="6617" y="13238"/>
                  <a:pt x="6599" y="13143"/>
                  <a:pt x="6548" y="13072"/>
                </a:cubicBezTo>
                <a:cubicBezTo>
                  <a:pt x="6493" y="12996"/>
                  <a:pt x="6412" y="12899"/>
                  <a:pt x="6325" y="12874"/>
                </a:cubicBezTo>
                <a:cubicBezTo>
                  <a:pt x="6284" y="12862"/>
                  <a:pt x="6218" y="12874"/>
                  <a:pt x="6176" y="128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2"/>
          <p:cNvSpPr/>
          <p:nvPr/>
        </p:nvSpPr>
        <p:spPr>
          <a:xfrm>
            <a:off x="625320" y="4813200"/>
            <a:ext cx="1803600" cy="785880"/>
          </a:xfrm>
          <a:custGeom>
            <a:avLst/>
            <a:gdLst/>
            <a:ahLst/>
            <a:rect l="l" t="t" r="r" b="b"/>
            <a:pathLst>
              <a:path w="5012" h="2184">
                <a:moveTo>
                  <a:pt x="2356" y="13866"/>
                </a:moveTo>
                <a:cubicBezTo>
                  <a:pt x="2393" y="13977"/>
                  <a:pt x="2429" y="14083"/>
                  <a:pt x="2480" y="14188"/>
                </a:cubicBezTo>
                <a:cubicBezTo>
                  <a:pt x="2540" y="14312"/>
                  <a:pt x="2595" y="14436"/>
                  <a:pt x="2654" y="14560"/>
                </a:cubicBezTo>
                <a:cubicBezTo>
                  <a:pt x="2662" y="14577"/>
                  <a:pt x="2671" y="14593"/>
                  <a:pt x="2679" y="14610"/>
                </a:cubicBezTo>
              </a:path>
              <a:path w="5012" h="2184">
                <a:moveTo>
                  <a:pt x="2555" y="13965"/>
                </a:moveTo>
                <a:cubicBezTo>
                  <a:pt x="2475" y="14074"/>
                  <a:pt x="2418" y="14158"/>
                  <a:pt x="2381" y="14288"/>
                </a:cubicBezTo>
                <a:cubicBezTo>
                  <a:pt x="2350" y="14397"/>
                  <a:pt x="2313" y="14501"/>
                  <a:pt x="2282" y="14610"/>
                </a:cubicBezTo>
              </a:path>
              <a:path w="5012" h="2184">
                <a:moveTo>
                  <a:pt x="2704" y="14213"/>
                </a:moveTo>
                <a:cubicBezTo>
                  <a:pt x="2787" y="14213"/>
                  <a:pt x="2869" y="14213"/>
                  <a:pt x="2952" y="14213"/>
                </a:cubicBezTo>
              </a:path>
              <a:path w="5012" h="2184">
                <a:moveTo>
                  <a:pt x="2778" y="14412"/>
                </a:moveTo>
                <a:cubicBezTo>
                  <a:pt x="2890" y="14472"/>
                  <a:pt x="2908" y="14464"/>
                  <a:pt x="3026" y="14412"/>
                </a:cubicBezTo>
              </a:path>
              <a:path w="5012" h="2184">
                <a:moveTo>
                  <a:pt x="3324" y="14039"/>
                </a:moveTo>
                <a:cubicBezTo>
                  <a:pt x="3324" y="14144"/>
                  <a:pt x="3338" y="14236"/>
                  <a:pt x="3349" y="14337"/>
                </a:cubicBezTo>
                <a:cubicBezTo>
                  <a:pt x="3362" y="14450"/>
                  <a:pt x="3349" y="14570"/>
                  <a:pt x="3349" y="14684"/>
                </a:cubicBezTo>
              </a:path>
              <a:path w="5012" h="2184">
                <a:moveTo>
                  <a:pt x="4862" y="14015"/>
                </a:moveTo>
                <a:cubicBezTo>
                  <a:pt x="4936" y="14099"/>
                  <a:pt x="4977" y="14191"/>
                  <a:pt x="5035" y="14288"/>
                </a:cubicBezTo>
                <a:cubicBezTo>
                  <a:pt x="5098" y="14393"/>
                  <a:pt x="5154" y="14500"/>
                  <a:pt x="5209" y="14610"/>
                </a:cubicBezTo>
              </a:path>
              <a:path w="5012" h="2184">
                <a:moveTo>
                  <a:pt x="5209" y="13940"/>
                </a:moveTo>
                <a:cubicBezTo>
                  <a:pt x="5151" y="14020"/>
                  <a:pt x="5073" y="14094"/>
                  <a:pt x="5035" y="14188"/>
                </a:cubicBezTo>
                <a:cubicBezTo>
                  <a:pt x="4997" y="14281"/>
                  <a:pt x="4968" y="14342"/>
                  <a:pt x="4936" y="14436"/>
                </a:cubicBezTo>
                <a:cubicBezTo>
                  <a:pt x="4917" y="14494"/>
                  <a:pt x="4927" y="14519"/>
                  <a:pt x="4887" y="14511"/>
                </a:cubicBezTo>
              </a:path>
              <a:path w="5012" h="2184">
                <a:moveTo>
                  <a:pt x="5407" y="14213"/>
                </a:moveTo>
                <a:cubicBezTo>
                  <a:pt x="5473" y="14213"/>
                  <a:pt x="5540" y="14213"/>
                  <a:pt x="5606" y="14213"/>
                </a:cubicBezTo>
              </a:path>
              <a:path w="5012" h="2184">
                <a:moveTo>
                  <a:pt x="5482" y="14288"/>
                </a:moveTo>
                <a:cubicBezTo>
                  <a:pt x="5568" y="14363"/>
                  <a:pt x="5596" y="14374"/>
                  <a:pt x="5705" y="14337"/>
                </a:cubicBezTo>
              </a:path>
              <a:path w="5012" h="2184">
                <a:moveTo>
                  <a:pt x="5928" y="14139"/>
                </a:moveTo>
                <a:cubicBezTo>
                  <a:pt x="6010" y="14127"/>
                  <a:pt x="6130" y="14083"/>
                  <a:pt x="6201" y="14139"/>
                </a:cubicBezTo>
                <a:cubicBezTo>
                  <a:pt x="6249" y="14177"/>
                  <a:pt x="6192" y="14237"/>
                  <a:pt x="6152" y="14263"/>
                </a:cubicBezTo>
                <a:cubicBezTo>
                  <a:pt x="6084" y="14307"/>
                  <a:pt x="6075" y="14323"/>
                  <a:pt x="6028" y="14387"/>
                </a:cubicBezTo>
                <a:cubicBezTo>
                  <a:pt x="5998" y="14427"/>
                  <a:pt x="5995" y="14527"/>
                  <a:pt x="6052" y="14560"/>
                </a:cubicBezTo>
                <a:cubicBezTo>
                  <a:pt x="6096" y="14585"/>
                  <a:pt x="6172" y="14585"/>
                  <a:pt x="6226" y="14585"/>
                </a:cubicBezTo>
              </a:path>
              <a:path w="5012" h="2184">
                <a:moveTo>
                  <a:pt x="5581" y="13841"/>
                </a:moveTo>
                <a:cubicBezTo>
                  <a:pt x="5652" y="13856"/>
                  <a:pt x="5687" y="13866"/>
                  <a:pt x="5755" y="13866"/>
                </a:cubicBezTo>
              </a:path>
              <a:path w="5012" h="2184">
                <a:moveTo>
                  <a:pt x="6201" y="13866"/>
                </a:moveTo>
                <a:cubicBezTo>
                  <a:pt x="6162" y="13842"/>
                  <a:pt x="6142" y="13809"/>
                  <a:pt x="6102" y="13791"/>
                </a:cubicBezTo>
                <a:cubicBezTo>
                  <a:pt x="6044" y="13765"/>
                  <a:pt x="5968" y="13748"/>
                  <a:pt x="5904" y="13717"/>
                </a:cubicBezTo>
                <a:cubicBezTo>
                  <a:pt x="5830" y="13681"/>
                  <a:pt x="5756" y="13649"/>
                  <a:pt x="5680" y="13618"/>
                </a:cubicBezTo>
                <a:cubicBezTo>
                  <a:pt x="5586" y="13580"/>
                  <a:pt x="5503" y="13568"/>
                  <a:pt x="5407" y="13543"/>
                </a:cubicBezTo>
                <a:cubicBezTo>
                  <a:pt x="5290" y="13513"/>
                  <a:pt x="5179" y="13488"/>
                  <a:pt x="5060" y="13469"/>
                </a:cubicBezTo>
                <a:cubicBezTo>
                  <a:pt x="4944" y="13450"/>
                  <a:pt x="4830" y="13435"/>
                  <a:pt x="4713" y="13419"/>
                </a:cubicBezTo>
                <a:cubicBezTo>
                  <a:pt x="4560" y="13398"/>
                  <a:pt x="4398" y="13379"/>
                  <a:pt x="4242" y="13370"/>
                </a:cubicBezTo>
                <a:cubicBezTo>
                  <a:pt x="4027" y="13357"/>
                  <a:pt x="3806" y="13369"/>
                  <a:pt x="3597" y="13395"/>
                </a:cubicBezTo>
                <a:cubicBezTo>
                  <a:pt x="3479" y="13410"/>
                  <a:pt x="3364" y="13409"/>
                  <a:pt x="3249" y="13444"/>
                </a:cubicBezTo>
                <a:cubicBezTo>
                  <a:pt x="3137" y="13478"/>
                  <a:pt x="3039" y="13529"/>
                  <a:pt x="2927" y="13568"/>
                </a:cubicBezTo>
                <a:cubicBezTo>
                  <a:pt x="2753" y="13628"/>
                  <a:pt x="2597" y="13692"/>
                  <a:pt x="2431" y="13767"/>
                </a:cubicBezTo>
                <a:cubicBezTo>
                  <a:pt x="2350" y="13804"/>
                  <a:pt x="2264" y="13830"/>
                  <a:pt x="2183" y="13866"/>
                </a:cubicBezTo>
                <a:cubicBezTo>
                  <a:pt x="2110" y="13899"/>
                  <a:pt x="2028" y="13925"/>
                  <a:pt x="1960" y="13965"/>
                </a:cubicBezTo>
                <a:cubicBezTo>
                  <a:pt x="1916" y="13991"/>
                  <a:pt x="1871" y="14025"/>
                  <a:pt x="1836" y="14064"/>
                </a:cubicBezTo>
                <a:cubicBezTo>
                  <a:pt x="1772" y="14135"/>
                  <a:pt x="1740" y="14161"/>
                  <a:pt x="1736" y="14263"/>
                </a:cubicBezTo>
                <a:cubicBezTo>
                  <a:pt x="1734" y="14324"/>
                  <a:pt x="1752" y="14398"/>
                  <a:pt x="1761" y="14461"/>
                </a:cubicBezTo>
                <a:cubicBezTo>
                  <a:pt x="1774" y="14550"/>
                  <a:pt x="1805" y="14646"/>
                  <a:pt x="1836" y="14734"/>
                </a:cubicBezTo>
                <a:cubicBezTo>
                  <a:pt x="1874" y="14843"/>
                  <a:pt x="1911" y="14905"/>
                  <a:pt x="1984" y="14982"/>
                </a:cubicBezTo>
                <a:cubicBezTo>
                  <a:pt x="2047" y="15049"/>
                  <a:pt x="2109" y="15106"/>
                  <a:pt x="2183" y="15156"/>
                </a:cubicBezTo>
                <a:cubicBezTo>
                  <a:pt x="2272" y="15217"/>
                  <a:pt x="2356" y="15235"/>
                  <a:pt x="2456" y="15280"/>
                </a:cubicBezTo>
                <a:cubicBezTo>
                  <a:pt x="2577" y="15335"/>
                  <a:pt x="2695" y="15397"/>
                  <a:pt x="2828" y="15429"/>
                </a:cubicBezTo>
                <a:cubicBezTo>
                  <a:pt x="2934" y="15454"/>
                  <a:pt x="3040" y="15462"/>
                  <a:pt x="3150" y="15478"/>
                </a:cubicBezTo>
                <a:cubicBezTo>
                  <a:pt x="3266" y="15495"/>
                  <a:pt x="3381" y="15513"/>
                  <a:pt x="3497" y="15528"/>
                </a:cubicBezTo>
                <a:cubicBezTo>
                  <a:pt x="3625" y="15545"/>
                  <a:pt x="3740" y="15551"/>
                  <a:pt x="3870" y="15553"/>
                </a:cubicBezTo>
                <a:cubicBezTo>
                  <a:pt x="4048" y="15556"/>
                  <a:pt x="4216" y="15547"/>
                  <a:pt x="4390" y="15528"/>
                </a:cubicBezTo>
                <a:cubicBezTo>
                  <a:pt x="4523" y="15513"/>
                  <a:pt x="4654" y="15495"/>
                  <a:pt x="4787" y="15478"/>
                </a:cubicBezTo>
                <a:cubicBezTo>
                  <a:pt x="4919" y="15461"/>
                  <a:pt x="5052" y="15445"/>
                  <a:pt x="5184" y="15429"/>
                </a:cubicBezTo>
                <a:cubicBezTo>
                  <a:pt x="5349" y="15409"/>
                  <a:pt x="5513" y="15399"/>
                  <a:pt x="5680" y="15379"/>
                </a:cubicBezTo>
                <a:cubicBezTo>
                  <a:pt x="5796" y="15365"/>
                  <a:pt x="5914" y="15337"/>
                  <a:pt x="6028" y="15304"/>
                </a:cubicBezTo>
                <a:cubicBezTo>
                  <a:pt x="6130" y="15274"/>
                  <a:pt x="6205" y="15223"/>
                  <a:pt x="6300" y="15180"/>
                </a:cubicBezTo>
                <a:cubicBezTo>
                  <a:pt x="6400" y="15135"/>
                  <a:pt x="6438" y="15099"/>
                  <a:pt x="6524" y="15032"/>
                </a:cubicBezTo>
                <a:cubicBezTo>
                  <a:pt x="6615" y="14961"/>
                  <a:pt x="6725" y="14834"/>
                  <a:pt x="6747" y="14709"/>
                </a:cubicBezTo>
                <a:cubicBezTo>
                  <a:pt x="6765" y="14606"/>
                  <a:pt x="6755" y="14453"/>
                  <a:pt x="6722" y="14362"/>
                </a:cubicBezTo>
                <a:cubicBezTo>
                  <a:pt x="6674" y="14230"/>
                  <a:pt x="6567" y="14155"/>
                  <a:pt x="6474" y="14064"/>
                </a:cubicBezTo>
                <a:cubicBezTo>
                  <a:pt x="6362" y="13954"/>
                  <a:pt x="6255" y="13880"/>
                  <a:pt x="6127" y="137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3"/>
          <p:cNvSpPr/>
          <p:nvPr/>
        </p:nvSpPr>
        <p:spPr>
          <a:xfrm>
            <a:off x="357120" y="231840"/>
            <a:ext cx="1258920" cy="500040"/>
          </a:xfrm>
          <a:custGeom>
            <a:avLst/>
            <a:gdLst/>
            <a:ahLst/>
            <a:rect l="l" t="t" r="r" b="b"/>
            <a:pathLst>
              <a:path w="3499" h="1390">
                <a:moveTo>
                  <a:pt x="1761" y="1240"/>
                </a:moveTo>
                <a:cubicBezTo>
                  <a:pt x="1761" y="1290"/>
                  <a:pt x="1761" y="1306"/>
                  <a:pt x="1761" y="1339"/>
                </a:cubicBezTo>
                <a:cubicBezTo>
                  <a:pt x="1709" y="1275"/>
                  <a:pt x="1679" y="1208"/>
                  <a:pt x="1637" y="1141"/>
                </a:cubicBezTo>
                <a:cubicBezTo>
                  <a:pt x="1607" y="1111"/>
                  <a:pt x="1596" y="1097"/>
                  <a:pt x="1588" y="1067"/>
                </a:cubicBezTo>
                <a:cubicBezTo>
                  <a:pt x="1529" y="1139"/>
                  <a:pt x="1538" y="1197"/>
                  <a:pt x="1538" y="1290"/>
                </a:cubicBezTo>
                <a:cubicBezTo>
                  <a:pt x="1538" y="1411"/>
                  <a:pt x="1571" y="1521"/>
                  <a:pt x="1588" y="1637"/>
                </a:cubicBezTo>
                <a:cubicBezTo>
                  <a:pt x="1606" y="1763"/>
                  <a:pt x="1588" y="1906"/>
                  <a:pt x="1588" y="2034"/>
                </a:cubicBezTo>
              </a:path>
              <a:path w="3499" h="1390">
                <a:moveTo>
                  <a:pt x="1389" y="1786"/>
                </a:moveTo>
                <a:cubicBezTo>
                  <a:pt x="1493" y="1803"/>
                  <a:pt x="1558" y="1790"/>
                  <a:pt x="1662" y="1761"/>
                </a:cubicBezTo>
              </a:path>
              <a:path w="3499" h="1390">
                <a:moveTo>
                  <a:pt x="1984" y="1191"/>
                </a:moveTo>
                <a:cubicBezTo>
                  <a:pt x="1950" y="1285"/>
                  <a:pt x="1938" y="1368"/>
                  <a:pt x="1910" y="1463"/>
                </a:cubicBezTo>
                <a:cubicBezTo>
                  <a:pt x="1886" y="1544"/>
                  <a:pt x="1865" y="1630"/>
                  <a:pt x="1860" y="1712"/>
                </a:cubicBezTo>
                <a:cubicBezTo>
                  <a:pt x="1856" y="1780"/>
                  <a:pt x="1844" y="1858"/>
                  <a:pt x="1885" y="1910"/>
                </a:cubicBezTo>
                <a:cubicBezTo>
                  <a:pt x="1910" y="1941"/>
                  <a:pt x="1926" y="1951"/>
                  <a:pt x="1960" y="1960"/>
                </a:cubicBezTo>
              </a:path>
              <a:path w="3499" h="1390">
                <a:moveTo>
                  <a:pt x="2257" y="1290"/>
                </a:moveTo>
                <a:cubicBezTo>
                  <a:pt x="2232" y="1379"/>
                  <a:pt x="2232" y="1476"/>
                  <a:pt x="2208" y="1563"/>
                </a:cubicBezTo>
                <a:cubicBezTo>
                  <a:pt x="2186" y="1644"/>
                  <a:pt x="2182" y="1704"/>
                  <a:pt x="2208" y="1786"/>
                </a:cubicBezTo>
                <a:cubicBezTo>
                  <a:pt x="2224" y="1837"/>
                  <a:pt x="2278" y="1921"/>
                  <a:pt x="2332" y="1910"/>
                </a:cubicBezTo>
                <a:cubicBezTo>
                  <a:pt x="2340" y="1902"/>
                  <a:pt x="2348" y="1893"/>
                  <a:pt x="2356" y="1885"/>
                </a:cubicBezTo>
              </a:path>
              <a:path w="3499" h="1390">
                <a:moveTo>
                  <a:pt x="2084" y="1761"/>
                </a:moveTo>
                <a:cubicBezTo>
                  <a:pt x="2163" y="1754"/>
                  <a:pt x="2234" y="1744"/>
                  <a:pt x="2307" y="1712"/>
                </a:cubicBezTo>
                <a:cubicBezTo>
                  <a:pt x="2323" y="1704"/>
                  <a:pt x="2340" y="1695"/>
                  <a:pt x="2356" y="1687"/>
                </a:cubicBezTo>
              </a:path>
              <a:path w="3499" h="1390">
                <a:moveTo>
                  <a:pt x="2332" y="1017"/>
                </a:moveTo>
                <a:cubicBezTo>
                  <a:pt x="2370" y="1066"/>
                  <a:pt x="2429" y="1138"/>
                  <a:pt x="2456" y="1191"/>
                </a:cubicBezTo>
                <a:cubicBezTo>
                  <a:pt x="2508" y="1292"/>
                  <a:pt x="2565" y="1424"/>
                  <a:pt x="2580" y="1538"/>
                </a:cubicBezTo>
                <a:cubicBezTo>
                  <a:pt x="2593" y="1635"/>
                  <a:pt x="2594" y="1696"/>
                  <a:pt x="2580" y="1786"/>
                </a:cubicBezTo>
                <a:cubicBezTo>
                  <a:pt x="2570" y="1846"/>
                  <a:pt x="2544" y="1883"/>
                  <a:pt x="2505" y="1935"/>
                </a:cubicBezTo>
                <a:cubicBezTo>
                  <a:pt x="2475" y="1975"/>
                  <a:pt x="2423" y="1968"/>
                  <a:pt x="2381" y="2009"/>
                </a:cubicBezTo>
              </a:path>
              <a:path w="3499" h="1390">
                <a:moveTo>
                  <a:pt x="2803" y="1488"/>
                </a:moveTo>
                <a:cubicBezTo>
                  <a:pt x="2877" y="1488"/>
                  <a:pt x="2952" y="1488"/>
                  <a:pt x="3026" y="1488"/>
                </a:cubicBezTo>
              </a:path>
              <a:path w="3499" h="1390">
                <a:moveTo>
                  <a:pt x="2803" y="1712"/>
                </a:moveTo>
                <a:cubicBezTo>
                  <a:pt x="2854" y="1681"/>
                  <a:pt x="2921" y="1663"/>
                  <a:pt x="2977" y="1637"/>
                </a:cubicBezTo>
                <a:cubicBezTo>
                  <a:pt x="2985" y="1637"/>
                  <a:pt x="2993" y="1637"/>
                  <a:pt x="3001" y="1637"/>
                </a:cubicBezTo>
              </a:path>
              <a:path w="3499" h="1390">
                <a:moveTo>
                  <a:pt x="1017" y="1116"/>
                </a:moveTo>
                <a:cubicBezTo>
                  <a:pt x="982" y="1058"/>
                  <a:pt x="986" y="1025"/>
                  <a:pt x="1017" y="967"/>
                </a:cubicBezTo>
                <a:cubicBezTo>
                  <a:pt x="1042" y="918"/>
                  <a:pt x="1051" y="901"/>
                  <a:pt x="1067" y="868"/>
                </a:cubicBezTo>
                <a:cubicBezTo>
                  <a:pt x="1110" y="912"/>
                  <a:pt x="1135" y="950"/>
                  <a:pt x="1116" y="1017"/>
                </a:cubicBezTo>
                <a:cubicBezTo>
                  <a:pt x="1097" y="1087"/>
                  <a:pt x="1076" y="1148"/>
                  <a:pt x="1042" y="1215"/>
                </a:cubicBezTo>
                <a:cubicBezTo>
                  <a:pt x="1091" y="1167"/>
                  <a:pt x="1110" y="1091"/>
                  <a:pt x="1191" y="1091"/>
                </a:cubicBezTo>
                <a:cubicBezTo>
                  <a:pt x="1207" y="1099"/>
                  <a:pt x="1224" y="1108"/>
                  <a:pt x="1240" y="1116"/>
                </a:cubicBezTo>
                <a:cubicBezTo>
                  <a:pt x="1268" y="1199"/>
                  <a:pt x="1283" y="1279"/>
                  <a:pt x="1240" y="1364"/>
                </a:cubicBezTo>
                <a:cubicBezTo>
                  <a:pt x="1210" y="1424"/>
                  <a:pt x="1139" y="1424"/>
                  <a:pt x="1116" y="1389"/>
                </a:cubicBezTo>
              </a:path>
              <a:path w="3499" h="1390">
                <a:moveTo>
                  <a:pt x="1215" y="794"/>
                </a:moveTo>
                <a:cubicBezTo>
                  <a:pt x="1285" y="768"/>
                  <a:pt x="1371" y="744"/>
                  <a:pt x="1339" y="868"/>
                </a:cubicBezTo>
                <a:cubicBezTo>
                  <a:pt x="1331" y="898"/>
                  <a:pt x="1286" y="942"/>
                  <a:pt x="1265" y="967"/>
                </a:cubicBezTo>
                <a:cubicBezTo>
                  <a:pt x="1353" y="967"/>
                  <a:pt x="1409" y="941"/>
                  <a:pt x="1414" y="1042"/>
                </a:cubicBezTo>
                <a:cubicBezTo>
                  <a:pt x="1416" y="1089"/>
                  <a:pt x="1400" y="1173"/>
                  <a:pt x="1339" y="1191"/>
                </a:cubicBezTo>
                <a:cubicBezTo>
                  <a:pt x="1290" y="1191"/>
                  <a:pt x="1273" y="1191"/>
                  <a:pt x="1240" y="1191"/>
                </a:cubicBezTo>
              </a:path>
              <a:path w="3499" h="1390">
                <a:moveTo>
                  <a:pt x="1290" y="645"/>
                </a:moveTo>
                <a:cubicBezTo>
                  <a:pt x="1399" y="695"/>
                  <a:pt x="1525" y="765"/>
                  <a:pt x="1563" y="893"/>
                </a:cubicBezTo>
                <a:cubicBezTo>
                  <a:pt x="1584" y="965"/>
                  <a:pt x="1567" y="1075"/>
                  <a:pt x="1538" y="1141"/>
                </a:cubicBezTo>
                <a:cubicBezTo>
                  <a:pt x="1512" y="1200"/>
                  <a:pt x="1488" y="1227"/>
                  <a:pt x="1463" y="1290"/>
                </a:cubicBezTo>
              </a:path>
              <a:path w="3499" h="1390">
                <a:moveTo>
                  <a:pt x="3497" y="1017"/>
                </a:moveTo>
                <a:cubicBezTo>
                  <a:pt x="3490" y="1116"/>
                  <a:pt x="3484" y="1221"/>
                  <a:pt x="3448" y="1315"/>
                </a:cubicBezTo>
                <a:cubicBezTo>
                  <a:pt x="3421" y="1384"/>
                  <a:pt x="3403" y="1487"/>
                  <a:pt x="3423" y="1563"/>
                </a:cubicBezTo>
                <a:cubicBezTo>
                  <a:pt x="3434" y="1606"/>
                  <a:pt x="3468" y="1721"/>
                  <a:pt x="3522" y="1736"/>
                </a:cubicBezTo>
                <a:cubicBezTo>
                  <a:pt x="3577" y="1751"/>
                  <a:pt x="3609" y="1717"/>
                  <a:pt x="3646" y="1687"/>
                </a:cubicBezTo>
              </a:path>
              <a:path w="3499" h="1390">
                <a:moveTo>
                  <a:pt x="3274" y="1463"/>
                </a:moveTo>
                <a:cubicBezTo>
                  <a:pt x="3346" y="1506"/>
                  <a:pt x="3372" y="1476"/>
                  <a:pt x="3448" y="1463"/>
                </a:cubicBezTo>
                <a:cubicBezTo>
                  <a:pt x="3505" y="1453"/>
                  <a:pt x="3539" y="1426"/>
                  <a:pt x="3597" y="1414"/>
                </a:cubicBezTo>
              </a:path>
              <a:path w="3499" h="1390">
                <a:moveTo>
                  <a:pt x="3671" y="868"/>
                </a:moveTo>
                <a:cubicBezTo>
                  <a:pt x="3710" y="819"/>
                  <a:pt x="3736" y="781"/>
                  <a:pt x="3795" y="769"/>
                </a:cubicBezTo>
                <a:cubicBezTo>
                  <a:pt x="3843" y="759"/>
                  <a:pt x="3906" y="719"/>
                  <a:pt x="3944" y="769"/>
                </a:cubicBezTo>
                <a:cubicBezTo>
                  <a:pt x="3986" y="823"/>
                  <a:pt x="3934" y="894"/>
                  <a:pt x="3894" y="943"/>
                </a:cubicBezTo>
                <a:cubicBezTo>
                  <a:pt x="3874" y="967"/>
                  <a:pt x="3808" y="1041"/>
                  <a:pt x="3845" y="967"/>
                </a:cubicBezTo>
                <a:cubicBezTo>
                  <a:pt x="3930" y="977"/>
                  <a:pt x="3942" y="981"/>
                  <a:pt x="3994" y="1042"/>
                </a:cubicBezTo>
                <a:cubicBezTo>
                  <a:pt x="3972" y="1069"/>
                  <a:pt x="3933" y="1158"/>
                  <a:pt x="3894" y="1166"/>
                </a:cubicBezTo>
                <a:cubicBezTo>
                  <a:pt x="3834" y="1179"/>
                  <a:pt x="3757" y="1166"/>
                  <a:pt x="3696" y="1166"/>
                </a:cubicBezTo>
              </a:path>
              <a:path w="3499" h="1390">
                <a:moveTo>
                  <a:pt x="4142" y="1389"/>
                </a:moveTo>
                <a:cubicBezTo>
                  <a:pt x="4215" y="1352"/>
                  <a:pt x="4302" y="1364"/>
                  <a:pt x="4390" y="1364"/>
                </a:cubicBezTo>
                <a:cubicBezTo>
                  <a:pt x="4440" y="1364"/>
                  <a:pt x="4457" y="1364"/>
                  <a:pt x="4490" y="13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4"/>
          <p:cNvSpPr/>
          <p:nvPr/>
        </p:nvSpPr>
        <p:spPr>
          <a:xfrm>
            <a:off x="1714680" y="285840"/>
            <a:ext cx="947520" cy="349200"/>
          </a:xfrm>
          <a:custGeom>
            <a:avLst/>
            <a:gdLst/>
            <a:ahLst/>
            <a:rect l="l" t="t" r="r" b="b"/>
            <a:pathLst>
              <a:path w="2631" h="968">
                <a:moveTo>
                  <a:pt x="4837" y="992"/>
                </a:moveTo>
                <a:cubicBezTo>
                  <a:pt x="4872" y="1061"/>
                  <a:pt x="4870" y="1117"/>
                  <a:pt x="4837" y="1191"/>
                </a:cubicBezTo>
                <a:cubicBezTo>
                  <a:pt x="4808" y="1256"/>
                  <a:pt x="4814" y="1289"/>
                  <a:pt x="4762" y="1339"/>
                </a:cubicBezTo>
                <a:cubicBezTo>
                  <a:pt x="4832" y="1365"/>
                  <a:pt x="4885" y="1364"/>
                  <a:pt x="4961" y="1364"/>
                </a:cubicBezTo>
                <a:cubicBezTo>
                  <a:pt x="5020" y="1364"/>
                  <a:pt x="5040" y="1350"/>
                  <a:pt x="5085" y="1315"/>
                </a:cubicBezTo>
              </a:path>
              <a:path w="2631" h="968">
                <a:moveTo>
                  <a:pt x="5110" y="918"/>
                </a:moveTo>
                <a:cubicBezTo>
                  <a:pt x="5085" y="1018"/>
                  <a:pt x="5079" y="1115"/>
                  <a:pt x="5060" y="1215"/>
                </a:cubicBezTo>
                <a:cubicBezTo>
                  <a:pt x="5039" y="1324"/>
                  <a:pt x="5016" y="1428"/>
                  <a:pt x="5011" y="1538"/>
                </a:cubicBezTo>
                <a:cubicBezTo>
                  <a:pt x="5009" y="1578"/>
                  <a:pt x="4983" y="1692"/>
                  <a:pt x="4986" y="1712"/>
                </a:cubicBezTo>
                <a:cubicBezTo>
                  <a:pt x="5006" y="1752"/>
                  <a:pt x="5015" y="1778"/>
                  <a:pt x="5011" y="1736"/>
                </a:cubicBezTo>
              </a:path>
              <a:path w="2631" h="968">
                <a:moveTo>
                  <a:pt x="5556" y="1042"/>
                </a:moveTo>
                <a:cubicBezTo>
                  <a:pt x="5522" y="1151"/>
                  <a:pt x="5503" y="1255"/>
                  <a:pt x="5482" y="1364"/>
                </a:cubicBezTo>
                <a:cubicBezTo>
                  <a:pt x="5462" y="1469"/>
                  <a:pt x="5440" y="1537"/>
                  <a:pt x="5482" y="1637"/>
                </a:cubicBezTo>
                <a:cubicBezTo>
                  <a:pt x="5514" y="1712"/>
                  <a:pt x="5530" y="1712"/>
                  <a:pt x="5606" y="1712"/>
                </a:cubicBezTo>
              </a:path>
              <a:path w="2631" h="968">
                <a:moveTo>
                  <a:pt x="5308" y="1414"/>
                </a:moveTo>
                <a:cubicBezTo>
                  <a:pt x="5419" y="1414"/>
                  <a:pt x="5497" y="1390"/>
                  <a:pt x="5606" y="1364"/>
                </a:cubicBezTo>
              </a:path>
              <a:path w="2631" h="968">
                <a:moveTo>
                  <a:pt x="5854" y="843"/>
                </a:moveTo>
                <a:cubicBezTo>
                  <a:pt x="5878" y="830"/>
                  <a:pt x="6029" y="734"/>
                  <a:pt x="6052" y="819"/>
                </a:cubicBezTo>
                <a:cubicBezTo>
                  <a:pt x="6081" y="925"/>
                  <a:pt x="5971" y="1041"/>
                  <a:pt x="5904" y="1116"/>
                </a:cubicBezTo>
                <a:cubicBezTo>
                  <a:pt x="5876" y="1144"/>
                  <a:pt x="5867" y="1158"/>
                  <a:pt x="5879" y="1191"/>
                </a:cubicBezTo>
                <a:cubicBezTo>
                  <a:pt x="5969" y="1191"/>
                  <a:pt x="6151" y="1210"/>
                  <a:pt x="6152" y="1166"/>
                </a:cubicBezTo>
              </a:path>
              <a:path w="2631" h="968">
                <a:moveTo>
                  <a:pt x="6400" y="1339"/>
                </a:moveTo>
                <a:cubicBezTo>
                  <a:pt x="6487" y="1339"/>
                  <a:pt x="6596" y="1362"/>
                  <a:pt x="6672" y="1315"/>
                </a:cubicBezTo>
                <a:cubicBezTo>
                  <a:pt x="6680" y="1307"/>
                  <a:pt x="6689" y="1298"/>
                  <a:pt x="6697" y="1290"/>
                </a:cubicBezTo>
              </a:path>
              <a:path w="2631" h="968">
                <a:moveTo>
                  <a:pt x="6424" y="1141"/>
                </a:moveTo>
                <a:cubicBezTo>
                  <a:pt x="6424" y="1222"/>
                  <a:pt x="6437" y="1290"/>
                  <a:pt x="6449" y="1364"/>
                </a:cubicBezTo>
                <a:cubicBezTo>
                  <a:pt x="6459" y="1425"/>
                  <a:pt x="6474" y="1475"/>
                  <a:pt x="6474" y="1538"/>
                </a:cubicBezTo>
              </a:path>
              <a:path w="2631" h="968">
                <a:moveTo>
                  <a:pt x="6821" y="967"/>
                </a:moveTo>
                <a:cubicBezTo>
                  <a:pt x="6821" y="1052"/>
                  <a:pt x="6809" y="1113"/>
                  <a:pt x="6796" y="1191"/>
                </a:cubicBezTo>
                <a:cubicBezTo>
                  <a:pt x="6781" y="1278"/>
                  <a:pt x="6879" y="1286"/>
                  <a:pt x="6945" y="1265"/>
                </a:cubicBezTo>
                <a:cubicBezTo>
                  <a:pt x="6979" y="1254"/>
                  <a:pt x="7033" y="1209"/>
                  <a:pt x="7069" y="1191"/>
                </a:cubicBezTo>
              </a:path>
              <a:path w="2631" h="968">
                <a:moveTo>
                  <a:pt x="6995" y="893"/>
                </a:moveTo>
                <a:cubicBezTo>
                  <a:pt x="6975" y="1007"/>
                  <a:pt x="6970" y="1100"/>
                  <a:pt x="6970" y="1215"/>
                </a:cubicBezTo>
                <a:cubicBezTo>
                  <a:pt x="6970" y="1292"/>
                  <a:pt x="6933" y="1501"/>
                  <a:pt x="6995" y="1563"/>
                </a:cubicBezTo>
                <a:cubicBezTo>
                  <a:pt x="6995" y="1555"/>
                  <a:pt x="6995" y="1546"/>
                  <a:pt x="6995" y="1538"/>
                </a:cubicBezTo>
              </a:path>
              <a:path w="2631" h="968">
                <a:moveTo>
                  <a:pt x="7293" y="992"/>
                </a:moveTo>
                <a:cubicBezTo>
                  <a:pt x="7285" y="1086"/>
                  <a:pt x="7268" y="1169"/>
                  <a:pt x="7268" y="1265"/>
                </a:cubicBezTo>
                <a:cubicBezTo>
                  <a:pt x="7268" y="1341"/>
                  <a:pt x="7272" y="1397"/>
                  <a:pt x="7317" y="1463"/>
                </a:cubicBezTo>
                <a:cubicBezTo>
                  <a:pt x="7350" y="1511"/>
                  <a:pt x="7374" y="1490"/>
                  <a:pt x="7392" y="1463"/>
                </a:cubicBezTo>
              </a:path>
              <a:path w="2631" h="968">
                <a:moveTo>
                  <a:pt x="7169" y="1166"/>
                </a:moveTo>
                <a:cubicBezTo>
                  <a:pt x="7237" y="1192"/>
                  <a:pt x="7298" y="1190"/>
                  <a:pt x="7367" y="12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5"/>
          <p:cNvSpPr/>
          <p:nvPr/>
        </p:nvSpPr>
        <p:spPr>
          <a:xfrm>
            <a:off x="660240" y="884160"/>
            <a:ext cx="108000" cy="250920"/>
          </a:xfrm>
          <a:custGeom>
            <a:avLst/>
            <a:gdLst/>
            <a:ahLst/>
            <a:rect l="l" t="t" r="r" b="b"/>
            <a:pathLst>
              <a:path w="298" h="695">
                <a:moveTo>
                  <a:pt x="1910" y="2505"/>
                </a:moveTo>
                <a:cubicBezTo>
                  <a:pt x="1910" y="2602"/>
                  <a:pt x="1896" y="2685"/>
                  <a:pt x="1885" y="2778"/>
                </a:cubicBezTo>
                <a:cubicBezTo>
                  <a:pt x="1875" y="2865"/>
                  <a:pt x="1856" y="3058"/>
                  <a:pt x="1910" y="3125"/>
                </a:cubicBezTo>
                <a:cubicBezTo>
                  <a:pt x="1933" y="3154"/>
                  <a:pt x="1999" y="3167"/>
                  <a:pt x="2034" y="3150"/>
                </a:cubicBezTo>
                <a:cubicBezTo>
                  <a:pt x="2113" y="3111"/>
                  <a:pt x="2129" y="3000"/>
                  <a:pt x="2133" y="2927"/>
                </a:cubicBezTo>
                <a:cubicBezTo>
                  <a:pt x="2138" y="2828"/>
                  <a:pt x="2121" y="2746"/>
                  <a:pt x="2084" y="2654"/>
                </a:cubicBezTo>
                <a:cubicBezTo>
                  <a:pt x="2052" y="2576"/>
                  <a:pt x="1996" y="2551"/>
                  <a:pt x="1935" y="2505"/>
                </a:cubicBezTo>
                <a:cubicBezTo>
                  <a:pt x="1884" y="2467"/>
                  <a:pt x="1903" y="2465"/>
                  <a:pt x="1836" y="24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6"/>
          <p:cNvSpPr/>
          <p:nvPr/>
        </p:nvSpPr>
        <p:spPr>
          <a:xfrm>
            <a:off x="919080" y="704880"/>
            <a:ext cx="1438200" cy="349200"/>
          </a:xfrm>
          <a:custGeom>
            <a:avLst/>
            <a:gdLst/>
            <a:ahLst/>
            <a:rect l="l" t="t" r="r" b="b"/>
            <a:pathLst>
              <a:path w="3994" h="968">
                <a:moveTo>
                  <a:pt x="2604" y="2555"/>
                </a:moveTo>
                <a:cubicBezTo>
                  <a:pt x="2644" y="2531"/>
                  <a:pt x="2684" y="2516"/>
                  <a:pt x="2729" y="2505"/>
                </a:cubicBezTo>
              </a:path>
              <a:path w="3994" h="968">
                <a:moveTo>
                  <a:pt x="2555" y="2704"/>
                </a:moveTo>
                <a:cubicBezTo>
                  <a:pt x="2609" y="2768"/>
                  <a:pt x="2624" y="2751"/>
                  <a:pt x="2704" y="2729"/>
                </a:cubicBezTo>
                <a:cubicBezTo>
                  <a:pt x="2729" y="2721"/>
                  <a:pt x="2753" y="2712"/>
                  <a:pt x="2778" y="2704"/>
                </a:cubicBezTo>
              </a:path>
              <a:path w="3994" h="968">
                <a:moveTo>
                  <a:pt x="3125" y="2257"/>
                </a:moveTo>
                <a:cubicBezTo>
                  <a:pt x="3118" y="2355"/>
                  <a:pt x="3088" y="2438"/>
                  <a:pt x="3076" y="2530"/>
                </a:cubicBezTo>
                <a:cubicBezTo>
                  <a:pt x="3064" y="2625"/>
                  <a:pt x="3024" y="2757"/>
                  <a:pt x="3051" y="2853"/>
                </a:cubicBezTo>
                <a:cubicBezTo>
                  <a:pt x="3073" y="2931"/>
                  <a:pt x="3151" y="2950"/>
                  <a:pt x="3225" y="2927"/>
                </a:cubicBezTo>
                <a:cubicBezTo>
                  <a:pt x="3289" y="2907"/>
                  <a:pt x="3316" y="2861"/>
                  <a:pt x="3324" y="2803"/>
                </a:cubicBezTo>
              </a:path>
              <a:path w="3994" h="968">
                <a:moveTo>
                  <a:pt x="2952" y="2580"/>
                </a:moveTo>
                <a:cubicBezTo>
                  <a:pt x="2952" y="2596"/>
                  <a:pt x="2952" y="2613"/>
                  <a:pt x="2952" y="2629"/>
                </a:cubicBezTo>
                <a:cubicBezTo>
                  <a:pt x="3018" y="2604"/>
                  <a:pt x="3086" y="2601"/>
                  <a:pt x="3150" y="2580"/>
                </a:cubicBezTo>
                <a:cubicBezTo>
                  <a:pt x="3167" y="2572"/>
                  <a:pt x="3183" y="2563"/>
                  <a:pt x="3200" y="2555"/>
                </a:cubicBezTo>
              </a:path>
              <a:path w="3994" h="968">
                <a:moveTo>
                  <a:pt x="3373" y="2034"/>
                </a:moveTo>
                <a:cubicBezTo>
                  <a:pt x="3424" y="2027"/>
                  <a:pt x="3490" y="1987"/>
                  <a:pt x="3547" y="2009"/>
                </a:cubicBezTo>
                <a:cubicBezTo>
                  <a:pt x="3555" y="2017"/>
                  <a:pt x="3564" y="2026"/>
                  <a:pt x="3572" y="2034"/>
                </a:cubicBezTo>
                <a:cubicBezTo>
                  <a:pt x="3557" y="2094"/>
                  <a:pt x="3523" y="2122"/>
                  <a:pt x="3473" y="2158"/>
                </a:cubicBezTo>
                <a:cubicBezTo>
                  <a:pt x="3517" y="2212"/>
                  <a:pt x="3545" y="2204"/>
                  <a:pt x="3597" y="2257"/>
                </a:cubicBezTo>
                <a:cubicBezTo>
                  <a:pt x="3648" y="2309"/>
                  <a:pt x="3609" y="2365"/>
                  <a:pt x="3547" y="2381"/>
                </a:cubicBezTo>
                <a:cubicBezTo>
                  <a:pt x="3516" y="2389"/>
                  <a:pt x="3354" y="2371"/>
                  <a:pt x="3423" y="2406"/>
                </a:cubicBezTo>
              </a:path>
              <a:path w="3994" h="968">
                <a:moveTo>
                  <a:pt x="3746" y="2530"/>
                </a:moveTo>
                <a:cubicBezTo>
                  <a:pt x="3810" y="2521"/>
                  <a:pt x="3854" y="2495"/>
                  <a:pt x="3919" y="2480"/>
                </a:cubicBezTo>
                <a:cubicBezTo>
                  <a:pt x="3927" y="2480"/>
                  <a:pt x="3936" y="2480"/>
                  <a:pt x="3944" y="2480"/>
                </a:cubicBezTo>
              </a:path>
              <a:path w="3994" h="968">
                <a:moveTo>
                  <a:pt x="4217" y="2133"/>
                </a:moveTo>
                <a:cubicBezTo>
                  <a:pt x="4196" y="2216"/>
                  <a:pt x="4184" y="2293"/>
                  <a:pt x="4192" y="2356"/>
                </a:cubicBezTo>
                <a:cubicBezTo>
                  <a:pt x="4203" y="2435"/>
                  <a:pt x="4282" y="2458"/>
                  <a:pt x="4366" y="2431"/>
                </a:cubicBezTo>
                <a:cubicBezTo>
                  <a:pt x="4386" y="2425"/>
                  <a:pt x="4446" y="2367"/>
                  <a:pt x="4465" y="2356"/>
                </a:cubicBezTo>
              </a:path>
              <a:path w="3994" h="968">
                <a:moveTo>
                  <a:pt x="4465" y="2034"/>
                </a:moveTo>
                <a:cubicBezTo>
                  <a:pt x="4432" y="2124"/>
                  <a:pt x="4401" y="2212"/>
                  <a:pt x="4390" y="2307"/>
                </a:cubicBezTo>
                <a:cubicBezTo>
                  <a:pt x="4376" y="2432"/>
                  <a:pt x="4388" y="2565"/>
                  <a:pt x="4366" y="2679"/>
                </a:cubicBezTo>
                <a:cubicBezTo>
                  <a:pt x="4346" y="2781"/>
                  <a:pt x="4384" y="2705"/>
                  <a:pt x="4390" y="2679"/>
                </a:cubicBezTo>
              </a:path>
              <a:path w="3994" h="968">
                <a:moveTo>
                  <a:pt x="4787" y="2059"/>
                </a:moveTo>
                <a:cubicBezTo>
                  <a:pt x="4759" y="2133"/>
                  <a:pt x="4740" y="2205"/>
                  <a:pt x="4713" y="2282"/>
                </a:cubicBezTo>
                <a:cubicBezTo>
                  <a:pt x="4682" y="2370"/>
                  <a:pt x="4663" y="2438"/>
                  <a:pt x="4663" y="2530"/>
                </a:cubicBezTo>
                <a:cubicBezTo>
                  <a:pt x="4663" y="2589"/>
                  <a:pt x="4698" y="2660"/>
                  <a:pt x="4762" y="2679"/>
                </a:cubicBezTo>
                <a:cubicBezTo>
                  <a:pt x="4807" y="2679"/>
                  <a:pt x="4820" y="2682"/>
                  <a:pt x="4837" y="2654"/>
                </a:cubicBezTo>
              </a:path>
              <a:path w="3994" h="968">
                <a:moveTo>
                  <a:pt x="4564" y="2406"/>
                </a:moveTo>
                <a:cubicBezTo>
                  <a:pt x="4612" y="2425"/>
                  <a:pt x="4670" y="2406"/>
                  <a:pt x="4738" y="2406"/>
                </a:cubicBezTo>
                <a:cubicBezTo>
                  <a:pt x="4808" y="2406"/>
                  <a:pt x="4857" y="2375"/>
                  <a:pt x="4911" y="2332"/>
                </a:cubicBezTo>
              </a:path>
              <a:path w="3994" h="968">
                <a:moveTo>
                  <a:pt x="5060" y="1960"/>
                </a:moveTo>
                <a:cubicBezTo>
                  <a:pt x="5161" y="1960"/>
                  <a:pt x="5182" y="1950"/>
                  <a:pt x="5234" y="1984"/>
                </a:cubicBezTo>
                <a:cubicBezTo>
                  <a:pt x="5225" y="2045"/>
                  <a:pt x="5198" y="2080"/>
                  <a:pt x="5159" y="2133"/>
                </a:cubicBezTo>
                <a:cubicBezTo>
                  <a:pt x="5133" y="2167"/>
                  <a:pt x="5095" y="2162"/>
                  <a:pt x="5060" y="2183"/>
                </a:cubicBezTo>
                <a:cubicBezTo>
                  <a:pt x="5122" y="2214"/>
                  <a:pt x="5185" y="2208"/>
                  <a:pt x="5259" y="2208"/>
                </a:cubicBezTo>
              </a:path>
              <a:path w="3994" h="968">
                <a:moveTo>
                  <a:pt x="5407" y="2332"/>
                </a:moveTo>
                <a:cubicBezTo>
                  <a:pt x="5521" y="2332"/>
                  <a:pt x="5623" y="2330"/>
                  <a:pt x="5730" y="2307"/>
                </a:cubicBezTo>
                <a:cubicBezTo>
                  <a:pt x="5738" y="2307"/>
                  <a:pt x="5747" y="2307"/>
                  <a:pt x="5755" y="2307"/>
                </a:cubicBezTo>
              </a:path>
              <a:path w="3994" h="968">
                <a:moveTo>
                  <a:pt x="5531" y="2108"/>
                </a:moveTo>
                <a:cubicBezTo>
                  <a:pt x="5514" y="2207"/>
                  <a:pt x="5507" y="2283"/>
                  <a:pt x="5507" y="2381"/>
                </a:cubicBezTo>
                <a:cubicBezTo>
                  <a:pt x="5507" y="2439"/>
                  <a:pt x="5507" y="2497"/>
                  <a:pt x="5507" y="2555"/>
                </a:cubicBezTo>
              </a:path>
              <a:path w="3994" h="968">
                <a:moveTo>
                  <a:pt x="5953" y="2034"/>
                </a:moveTo>
                <a:cubicBezTo>
                  <a:pt x="5926" y="2089"/>
                  <a:pt x="5851" y="2199"/>
                  <a:pt x="5854" y="2257"/>
                </a:cubicBezTo>
                <a:cubicBezTo>
                  <a:pt x="5858" y="2341"/>
                  <a:pt x="5970" y="2351"/>
                  <a:pt x="6028" y="2332"/>
                </a:cubicBezTo>
                <a:cubicBezTo>
                  <a:pt x="6049" y="2325"/>
                  <a:pt x="6118" y="2241"/>
                  <a:pt x="6127" y="2232"/>
                </a:cubicBezTo>
              </a:path>
              <a:path w="3994" h="968">
                <a:moveTo>
                  <a:pt x="6052" y="1984"/>
                </a:moveTo>
                <a:cubicBezTo>
                  <a:pt x="6016" y="2093"/>
                  <a:pt x="5976" y="2213"/>
                  <a:pt x="6003" y="2332"/>
                </a:cubicBezTo>
                <a:cubicBezTo>
                  <a:pt x="6022" y="2414"/>
                  <a:pt x="6026" y="2499"/>
                  <a:pt x="6052" y="2580"/>
                </a:cubicBezTo>
              </a:path>
              <a:path w="3994" h="968">
                <a:moveTo>
                  <a:pt x="6400" y="2034"/>
                </a:moveTo>
                <a:cubicBezTo>
                  <a:pt x="6377" y="2131"/>
                  <a:pt x="6337" y="2238"/>
                  <a:pt x="6325" y="2332"/>
                </a:cubicBezTo>
                <a:cubicBezTo>
                  <a:pt x="6315" y="2411"/>
                  <a:pt x="6350" y="2473"/>
                  <a:pt x="6400" y="2530"/>
                </a:cubicBezTo>
                <a:cubicBezTo>
                  <a:pt x="6450" y="2586"/>
                  <a:pt x="6484" y="2545"/>
                  <a:pt x="6524" y="2505"/>
                </a:cubicBezTo>
              </a:path>
              <a:path w="3994" h="968">
                <a:moveTo>
                  <a:pt x="6251" y="2257"/>
                </a:moveTo>
                <a:cubicBezTo>
                  <a:pt x="6350" y="2257"/>
                  <a:pt x="6449" y="2257"/>
                  <a:pt x="6548" y="22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7"/>
          <p:cNvSpPr/>
          <p:nvPr/>
        </p:nvSpPr>
        <p:spPr>
          <a:xfrm>
            <a:off x="3500280" y="608040"/>
            <a:ext cx="374760" cy="392040"/>
          </a:xfrm>
          <a:custGeom>
            <a:avLst/>
            <a:gdLst/>
            <a:ahLst/>
            <a:rect l="l" t="t" r="r" b="b"/>
            <a:pathLst>
              <a:path w="1043" h="1092">
                <a:moveTo>
                  <a:pt x="9723" y="2158"/>
                </a:moveTo>
                <a:cubicBezTo>
                  <a:pt x="9733" y="2082"/>
                  <a:pt x="9755" y="2032"/>
                  <a:pt x="9823" y="1984"/>
                </a:cubicBezTo>
                <a:cubicBezTo>
                  <a:pt x="9871" y="1961"/>
                  <a:pt x="9885" y="1953"/>
                  <a:pt x="9922" y="1960"/>
                </a:cubicBezTo>
                <a:cubicBezTo>
                  <a:pt x="9963" y="2026"/>
                  <a:pt x="9953" y="2041"/>
                  <a:pt x="9947" y="2108"/>
                </a:cubicBezTo>
                <a:cubicBezTo>
                  <a:pt x="9936" y="2234"/>
                  <a:pt x="9895" y="2317"/>
                  <a:pt x="9847" y="2431"/>
                </a:cubicBezTo>
                <a:cubicBezTo>
                  <a:pt x="9815" y="2505"/>
                  <a:pt x="9789" y="2541"/>
                  <a:pt x="9748" y="2604"/>
                </a:cubicBezTo>
                <a:cubicBezTo>
                  <a:pt x="9740" y="2621"/>
                  <a:pt x="9731" y="2637"/>
                  <a:pt x="9723" y="2654"/>
                </a:cubicBezTo>
                <a:cubicBezTo>
                  <a:pt x="9796" y="2654"/>
                  <a:pt x="9879" y="2651"/>
                  <a:pt x="9947" y="2629"/>
                </a:cubicBezTo>
                <a:cubicBezTo>
                  <a:pt x="10008" y="2610"/>
                  <a:pt x="10072" y="2569"/>
                  <a:pt x="10120" y="2530"/>
                </a:cubicBezTo>
              </a:path>
              <a:path w="1043" h="1092">
                <a:moveTo>
                  <a:pt x="10120" y="2009"/>
                </a:moveTo>
                <a:cubicBezTo>
                  <a:pt x="10191" y="1985"/>
                  <a:pt x="10252" y="1978"/>
                  <a:pt x="10319" y="1960"/>
                </a:cubicBezTo>
                <a:cubicBezTo>
                  <a:pt x="10384" y="1938"/>
                  <a:pt x="10399" y="1930"/>
                  <a:pt x="10443" y="1935"/>
                </a:cubicBezTo>
                <a:cubicBezTo>
                  <a:pt x="10443" y="2032"/>
                  <a:pt x="10437" y="2138"/>
                  <a:pt x="10418" y="2232"/>
                </a:cubicBezTo>
                <a:cubicBezTo>
                  <a:pt x="10401" y="2319"/>
                  <a:pt x="10393" y="2390"/>
                  <a:pt x="10393" y="2480"/>
                </a:cubicBezTo>
                <a:cubicBezTo>
                  <a:pt x="10393" y="2525"/>
                  <a:pt x="10390" y="2545"/>
                  <a:pt x="10418" y="2505"/>
                </a:cubicBezTo>
              </a:path>
              <a:path w="1043" h="1092">
                <a:moveTo>
                  <a:pt x="10393" y="1712"/>
                </a:moveTo>
                <a:cubicBezTo>
                  <a:pt x="10487" y="1695"/>
                  <a:pt x="10563" y="1705"/>
                  <a:pt x="10641" y="1786"/>
                </a:cubicBezTo>
                <a:cubicBezTo>
                  <a:pt x="10789" y="1940"/>
                  <a:pt x="10764" y="2139"/>
                  <a:pt x="10740" y="2332"/>
                </a:cubicBezTo>
                <a:cubicBezTo>
                  <a:pt x="10725" y="2449"/>
                  <a:pt x="10679" y="2539"/>
                  <a:pt x="10616" y="2629"/>
                </a:cubicBezTo>
                <a:cubicBezTo>
                  <a:pt x="10561" y="2707"/>
                  <a:pt x="10530" y="2807"/>
                  <a:pt x="10468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8"/>
          <p:cNvSpPr/>
          <p:nvPr/>
        </p:nvSpPr>
        <p:spPr>
          <a:xfrm>
            <a:off x="4017960" y="544680"/>
            <a:ext cx="1046160" cy="349200"/>
          </a:xfrm>
          <a:custGeom>
            <a:avLst/>
            <a:gdLst/>
            <a:ahLst/>
            <a:rect l="l" t="t" r="r" b="b"/>
            <a:pathLst>
              <a:path w="2903" h="968">
                <a:moveTo>
                  <a:pt x="11162" y="1910"/>
                </a:moveTo>
                <a:cubicBezTo>
                  <a:pt x="11210" y="1986"/>
                  <a:pt x="11265" y="2053"/>
                  <a:pt x="11311" y="2133"/>
                </a:cubicBezTo>
                <a:cubicBezTo>
                  <a:pt x="11361" y="2220"/>
                  <a:pt x="11396" y="2283"/>
                  <a:pt x="11485" y="2332"/>
                </a:cubicBezTo>
                <a:cubicBezTo>
                  <a:pt x="11555" y="2370"/>
                  <a:pt x="11591" y="2396"/>
                  <a:pt x="11658" y="2356"/>
                </a:cubicBezTo>
              </a:path>
              <a:path w="2903" h="968">
                <a:moveTo>
                  <a:pt x="11509" y="1960"/>
                </a:moveTo>
                <a:cubicBezTo>
                  <a:pt x="11405" y="2132"/>
                  <a:pt x="11341" y="2252"/>
                  <a:pt x="11286" y="2431"/>
                </a:cubicBezTo>
                <a:cubicBezTo>
                  <a:pt x="11278" y="2447"/>
                  <a:pt x="11269" y="2464"/>
                  <a:pt x="11261" y="2480"/>
                </a:cubicBezTo>
              </a:path>
              <a:path w="2903" h="968">
                <a:moveTo>
                  <a:pt x="11534" y="1588"/>
                </a:moveTo>
                <a:cubicBezTo>
                  <a:pt x="11580" y="1548"/>
                  <a:pt x="11685" y="1452"/>
                  <a:pt x="11733" y="1563"/>
                </a:cubicBezTo>
                <a:cubicBezTo>
                  <a:pt x="11769" y="1645"/>
                  <a:pt x="11724" y="1728"/>
                  <a:pt x="11683" y="1786"/>
                </a:cubicBezTo>
                <a:cubicBezTo>
                  <a:pt x="11639" y="1851"/>
                  <a:pt x="11633" y="1870"/>
                  <a:pt x="11584" y="1885"/>
                </a:cubicBezTo>
                <a:cubicBezTo>
                  <a:pt x="11668" y="1913"/>
                  <a:pt x="11730" y="1880"/>
                  <a:pt x="11807" y="1836"/>
                </a:cubicBezTo>
                <a:cubicBezTo>
                  <a:pt x="11851" y="1814"/>
                  <a:pt x="11862" y="1811"/>
                  <a:pt x="11881" y="1786"/>
                </a:cubicBezTo>
              </a:path>
              <a:path w="2903" h="968">
                <a:moveTo>
                  <a:pt x="11857" y="2158"/>
                </a:moveTo>
                <a:cubicBezTo>
                  <a:pt x="11936" y="2151"/>
                  <a:pt x="11999" y="2133"/>
                  <a:pt x="12080" y="2133"/>
                </a:cubicBezTo>
                <a:cubicBezTo>
                  <a:pt x="12088" y="2133"/>
                  <a:pt x="12097" y="2133"/>
                  <a:pt x="12105" y="2133"/>
                </a:cubicBezTo>
              </a:path>
              <a:path w="2903" h="968">
                <a:moveTo>
                  <a:pt x="12402" y="1712"/>
                </a:moveTo>
                <a:cubicBezTo>
                  <a:pt x="12529" y="1721"/>
                  <a:pt x="12603" y="1725"/>
                  <a:pt x="12576" y="1885"/>
                </a:cubicBezTo>
                <a:cubicBezTo>
                  <a:pt x="12556" y="2007"/>
                  <a:pt x="12472" y="2028"/>
                  <a:pt x="12402" y="2108"/>
                </a:cubicBezTo>
                <a:cubicBezTo>
                  <a:pt x="12376" y="2137"/>
                  <a:pt x="12315" y="2242"/>
                  <a:pt x="12328" y="2282"/>
                </a:cubicBezTo>
                <a:cubicBezTo>
                  <a:pt x="12346" y="2337"/>
                  <a:pt x="12432" y="2345"/>
                  <a:pt x="12477" y="2332"/>
                </a:cubicBezTo>
                <a:cubicBezTo>
                  <a:pt x="12547" y="2312"/>
                  <a:pt x="12568" y="2300"/>
                  <a:pt x="12626" y="2257"/>
                </a:cubicBezTo>
              </a:path>
              <a:path w="2903" h="968">
                <a:moveTo>
                  <a:pt x="12824" y="1786"/>
                </a:moveTo>
                <a:cubicBezTo>
                  <a:pt x="12896" y="1746"/>
                  <a:pt x="12925" y="1738"/>
                  <a:pt x="12998" y="1712"/>
                </a:cubicBezTo>
              </a:path>
              <a:path w="2903" h="968">
                <a:moveTo>
                  <a:pt x="12849" y="1811"/>
                </a:moveTo>
                <a:cubicBezTo>
                  <a:pt x="12797" y="1862"/>
                  <a:pt x="12732" y="1888"/>
                  <a:pt x="12774" y="1960"/>
                </a:cubicBezTo>
                <a:cubicBezTo>
                  <a:pt x="12805" y="2013"/>
                  <a:pt x="12922" y="2024"/>
                  <a:pt x="12973" y="2034"/>
                </a:cubicBezTo>
                <a:cubicBezTo>
                  <a:pt x="13029" y="2045"/>
                  <a:pt x="13036" y="2130"/>
                  <a:pt x="13022" y="2183"/>
                </a:cubicBezTo>
                <a:cubicBezTo>
                  <a:pt x="12999" y="2268"/>
                  <a:pt x="12908" y="2318"/>
                  <a:pt x="12824" y="2307"/>
                </a:cubicBezTo>
                <a:cubicBezTo>
                  <a:pt x="12766" y="2299"/>
                  <a:pt x="12749" y="2250"/>
                  <a:pt x="12725" y="2208"/>
                </a:cubicBezTo>
              </a:path>
              <a:path w="2903" h="968">
                <a:moveTo>
                  <a:pt x="13221" y="1885"/>
                </a:moveTo>
                <a:cubicBezTo>
                  <a:pt x="13304" y="1885"/>
                  <a:pt x="13320" y="1885"/>
                  <a:pt x="13370" y="1885"/>
                </a:cubicBezTo>
              </a:path>
              <a:path w="2903" h="968">
                <a:moveTo>
                  <a:pt x="13146" y="2133"/>
                </a:moveTo>
                <a:cubicBezTo>
                  <a:pt x="13268" y="2124"/>
                  <a:pt x="13267" y="2124"/>
                  <a:pt x="13370" y="2059"/>
                </a:cubicBezTo>
              </a:path>
              <a:path w="2903" h="968">
                <a:moveTo>
                  <a:pt x="13692" y="1786"/>
                </a:moveTo>
                <a:cubicBezTo>
                  <a:pt x="13664" y="1862"/>
                  <a:pt x="13574" y="2021"/>
                  <a:pt x="13593" y="2108"/>
                </a:cubicBezTo>
                <a:cubicBezTo>
                  <a:pt x="13615" y="2205"/>
                  <a:pt x="13702" y="2187"/>
                  <a:pt x="13767" y="2158"/>
                </a:cubicBezTo>
                <a:cubicBezTo>
                  <a:pt x="13832" y="2129"/>
                  <a:pt x="13929" y="2047"/>
                  <a:pt x="13965" y="1984"/>
                </a:cubicBezTo>
                <a:cubicBezTo>
                  <a:pt x="13984" y="1951"/>
                  <a:pt x="14070" y="1817"/>
                  <a:pt x="14064" y="1786"/>
                </a:cubicBezTo>
                <a:cubicBezTo>
                  <a:pt x="14057" y="1750"/>
                  <a:pt x="13967" y="1698"/>
                  <a:pt x="13940" y="1687"/>
                </a:cubicBezTo>
                <a:cubicBezTo>
                  <a:pt x="13827" y="1641"/>
                  <a:pt x="13752" y="1675"/>
                  <a:pt x="13643" y="17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9"/>
          <p:cNvSpPr/>
          <p:nvPr/>
        </p:nvSpPr>
        <p:spPr>
          <a:xfrm>
            <a:off x="660240" y="1152360"/>
            <a:ext cx="519120" cy="276480"/>
          </a:xfrm>
          <a:custGeom>
            <a:avLst/>
            <a:gdLst/>
            <a:ahLst/>
            <a:rect l="l" t="t" r="r" b="b"/>
            <a:pathLst>
              <a:path w="1439" h="770">
                <a:moveTo>
                  <a:pt x="1960" y="3448"/>
                </a:moveTo>
                <a:cubicBezTo>
                  <a:pt x="1932" y="3503"/>
                  <a:pt x="1914" y="3578"/>
                  <a:pt x="1910" y="3646"/>
                </a:cubicBezTo>
                <a:cubicBezTo>
                  <a:pt x="1906" y="3718"/>
                  <a:pt x="1914" y="3804"/>
                  <a:pt x="1935" y="3870"/>
                </a:cubicBezTo>
                <a:cubicBezTo>
                  <a:pt x="1960" y="3948"/>
                  <a:pt x="1996" y="3994"/>
                  <a:pt x="2084" y="3969"/>
                </a:cubicBezTo>
                <a:cubicBezTo>
                  <a:pt x="2145" y="3952"/>
                  <a:pt x="2203" y="3895"/>
                  <a:pt x="2232" y="3845"/>
                </a:cubicBezTo>
                <a:cubicBezTo>
                  <a:pt x="2272" y="3776"/>
                  <a:pt x="2317" y="3677"/>
                  <a:pt x="2307" y="3597"/>
                </a:cubicBezTo>
                <a:cubicBezTo>
                  <a:pt x="2299" y="3537"/>
                  <a:pt x="2265" y="3413"/>
                  <a:pt x="2208" y="3373"/>
                </a:cubicBezTo>
                <a:cubicBezTo>
                  <a:pt x="2124" y="3314"/>
                  <a:pt x="2041" y="3317"/>
                  <a:pt x="1960" y="3373"/>
                </a:cubicBezTo>
                <a:cubicBezTo>
                  <a:pt x="1920" y="3401"/>
                  <a:pt x="1833" y="3491"/>
                  <a:pt x="1836" y="3547"/>
                </a:cubicBezTo>
                <a:cubicBezTo>
                  <a:pt x="1857" y="3591"/>
                  <a:pt x="1860" y="3603"/>
                  <a:pt x="1885" y="3621"/>
                </a:cubicBezTo>
              </a:path>
              <a:path w="1439" h="770">
                <a:moveTo>
                  <a:pt x="2480" y="3547"/>
                </a:moveTo>
                <a:cubicBezTo>
                  <a:pt x="2546" y="3547"/>
                  <a:pt x="2613" y="3547"/>
                  <a:pt x="2679" y="3547"/>
                </a:cubicBezTo>
              </a:path>
              <a:path w="1439" h="770">
                <a:moveTo>
                  <a:pt x="2505" y="3770"/>
                </a:moveTo>
                <a:cubicBezTo>
                  <a:pt x="2563" y="3770"/>
                  <a:pt x="2621" y="3770"/>
                  <a:pt x="2679" y="3770"/>
                </a:cubicBezTo>
              </a:path>
              <a:path w="1439" h="770">
                <a:moveTo>
                  <a:pt x="3150" y="3200"/>
                </a:moveTo>
                <a:cubicBezTo>
                  <a:pt x="3122" y="3299"/>
                  <a:pt x="3101" y="3401"/>
                  <a:pt x="3076" y="3497"/>
                </a:cubicBezTo>
                <a:cubicBezTo>
                  <a:pt x="3054" y="3582"/>
                  <a:pt x="3049" y="3620"/>
                  <a:pt x="3076" y="3696"/>
                </a:cubicBezTo>
                <a:cubicBezTo>
                  <a:pt x="3100" y="3764"/>
                  <a:pt x="3134" y="3791"/>
                  <a:pt x="3200" y="3795"/>
                </a:cubicBezTo>
                <a:cubicBezTo>
                  <a:pt x="3244" y="3795"/>
                  <a:pt x="3258" y="3798"/>
                  <a:pt x="3274" y="3770"/>
                </a:cubicBezTo>
              </a:path>
              <a:path w="1439" h="770">
                <a:moveTo>
                  <a:pt x="2803" y="3522"/>
                </a:moveTo>
                <a:cubicBezTo>
                  <a:pt x="2903" y="3515"/>
                  <a:pt x="2979" y="3484"/>
                  <a:pt x="3076" y="3473"/>
                </a:cubicBezTo>
                <a:cubicBezTo>
                  <a:pt x="3101" y="3473"/>
                  <a:pt x="3125" y="3473"/>
                  <a:pt x="3150" y="34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20"/>
          <p:cNvSpPr/>
          <p:nvPr/>
        </p:nvSpPr>
        <p:spPr>
          <a:xfrm>
            <a:off x="1295280" y="1054080"/>
            <a:ext cx="455760" cy="295200"/>
          </a:xfrm>
          <a:custGeom>
            <a:avLst/>
            <a:gdLst/>
            <a:ahLst/>
            <a:rect l="l" t="t" r="r" b="b"/>
            <a:pathLst>
              <a:path w="1266" h="820">
                <a:moveTo>
                  <a:pt x="3820" y="3026"/>
                </a:moveTo>
                <a:cubicBezTo>
                  <a:pt x="3777" y="3080"/>
                  <a:pt x="3724" y="3136"/>
                  <a:pt x="3696" y="3200"/>
                </a:cubicBezTo>
                <a:cubicBezTo>
                  <a:pt x="3648" y="3309"/>
                  <a:pt x="3602" y="3430"/>
                  <a:pt x="3597" y="3547"/>
                </a:cubicBezTo>
                <a:cubicBezTo>
                  <a:pt x="3594" y="3605"/>
                  <a:pt x="3621" y="3685"/>
                  <a:pt x="3671" y="3721"/>
                </a:cubicBezTo>
                <a:cubicBezTo>
                  <a:pt x="3719" y="3745"/>
                  <a:pt x="3733" y="3753"/>
                  <a:pt x="3770" y="3746"/>
                </a:cubicBezTo>
              </a:path>
              <a:path w="1266" h="820">
                <a:moveTo>
                  <a:pt x="4142" y="3051"/>
                </a:moveTo>
                <a:cubicBezTo>
                  <a:pt x="4109" y="3162"/>
                  <a:pt x="4058" y="3252"/>
                  <a:pt x="4043" y="3373"/>
                </a:cubicBezTo>
                <a:cubicBezTo>
                  <a:pt x="4032" y="3461"/>
                  <a:pt x="4033" y="3588"/>
                  <a:pt x="4068" y="3671"/>
                </a:cubicBezTo>
                <a:cubicBezTo>
                  <a:pt x="4094" y="3733"/>
                  <a:pt x="4185" y="3755"/>
                  <a:pt x="4242" y="3746"/>
                </a:cubicBezTo>
                <a:cubicBezTo>
                  <a:pt x="4267" y="3738"/>
                  <a:pt x="4291" y="3729"/>
                  <a:pt x="4316" y="3721"/>
                </a:cubicBezTo>
              </a:path>
              <a:path w="1266" h="820">
                <a:moveTo>
                  <a:pt x="3944" y="3448"/>
                </a:moveTo>
                <a:cubicBezTo>
                  <a:pt x="4027" y="3448"/>
                  <a:pt x="4088" y="3434"/>
                  <a:pt x="4167" y="3423"/>
                </a:cubicBezTo>
                <a:cubicBezTo>
                  <a:pt x="4184" y="3423"/>
                  <a:pt x="4200" y="3423"/>
                  <a:pt x="4217" y="3423"/>
                </a:cubicBezTo>
              </a:path>
              <a:path w="1266" h="820">
                <a:moveTo>
                  <a:pt x="4490" y="2927"/>
                </a:moveTo>
                <a:cubicBezTo>
                  <a:pt x="4506" y="2927"/>
                  <a:pt x="4523" y="2927"/>
                  <a:pt x="4539" y="2927"/>
                </a:cubicBezTo>
                <a:cubicBezTo>
                  <a:pt x="4568" y="3014"/>
                  <a:pt x="4535" y="3040"/>
                  <a:pt x="4490" y="3101"/>
                </a:cubicBezTo>
                <a:cubicBezTo>
                  <a:pt x="4448" y="3158"/>
                  <a:pt x="4418" y="3147"/>
                  <a:pt x="4366" y="3200"/>
                </a:cubicBezTo>
                <a:cubicBezTo>
                  <a:pt x="4405" y="3224"/>
                  <a:pt x="4487" y="3245"/>
                  <a:pt x="4539" y="3225"/>
                </a:cubicBezTo>
                <a:cubicBezTo>
                  <a:pt x="4567" y="3197"/>
                  <a:pt x="4581" y="3188"/>
                  <a:pt x="4614" y="3200"/>
                </a:cubicBezTo>
              </a:path>
              <a:path w="1266" h="820">
                <a:moveTo>
                  <a:pt x="4663" y="3398"/>
                </a:moveTo>
                <a:cubicBezTo>
                  <a:pt x="4718" y="3365"/>
                  <a:pt x="4769" y="3373"/>
                  <a:pt x="4837" y="3373"/>
                </a:cubicBezTo>
                <a:cubicBezTo>
                  <a:pt x="4845" y="3373"/>
                  <a:pt x="4854" y="3373"/>
                  <a:pt x="4862" y="33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21"/>
          <p:cNvSpPr/>
          <p:nvPr/>
        </p:nvSpPr>
        <p:spPr>
          <a:xfrm>
            <a:off x="1874880" y="1017720"/>
            <a:ext cx="23328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5234" y="2952"/>
                </a:moveTo>
                <a:cubicBezTo>
                  <a:pt x="5234" y="3028"/>
                  <a:pt x="5225" y="3080"/>
                  <a:pt x="5209" y="3150"/>
                </a:cubicBezTo>
                <a:cubicBezTo>
                  <a:pt x="5209" y="3158"/>
                  <a:pt x="5209" y="3167"/>
                  <a:pt x="5209" y="3175"/>
                </a:cubicBezTo>
                <a:cubicBezTo>
                  <a:pt x="5267" y="3175"/>
                  <a:pt x="5325" y="3175"/>
                  <a:pt x="5383" y="3175"/>
                </a:cubicBezTo>
              </a:path>
              <a:path w="646" h="720">
                <a:moveTo>
                  <a:pt x="5383" y="2828"/>
                </a:moveTo>
                <a:cubicBezTo>
                  <a:pt x="5383" y="2915"/>
                  <a:pt x="5365" y="2993"/>
                  <a:pt x="5358" y="3076"/>
                </a:cubicBezTo>
                <a:cubicBezTo>
                  <a:pt x="5347" y="3207"/>
                  <a:pt x="5368" y="3321"/>
                  <a:pt x="5383" y="3448"/>
                </a:cubicBezTo>
                <a:cubicBezTo>
                  <a:pt x="5388" y="3489"/>
                  <a:pt x="5383" y="3563"/>
                  <a:pt x="5383" y="3522"/>
                </a:cubicBezTo>
              </a:path>
              <a:path w="646" h="720">
                <a:moveTo>
                  <a:pt x="5730" y="2952"/>
                </a:moveTo>
                <a:cubicBezTo>
                  <a:pt x="5730" y="3019"/>
                  <a:pt x="5726" y="3089"/>
                  <a:pt x="5705" y="3150"/>
                </a:cubicBezTo>
                <a:cubicBezTo>
                  <a:pt x="5672" y="3247"/>
                  <a:pt x="5689" y="3312"/>
                  <a:pt x="5705" y="3398"/>
                </a:cubicBezTo>
                <a:cubicBezTo>
                  <a:pt x="5719" y="3472"/>
                  <a:pt x="5752" y="3534"/>
                  <a:pt x="5829" y="3473"/>
                </a:cubicBezTo>
                <a:cubicBezTo>
                  <a:pt x="5837" y="3465"/>
                  <a:pt x="5846" y="3456"/>
                  <a:pt x="5854" y="3448"/>
                </a:cubicBezTo>
              </a:path>
              <a:path w="646" h="720">
                <a:moveTo>
                  <a:pt x="5556" y="3225"/>
                </a:moveTo>
                <a:cubicBezTo>
                  <a:pt x="5648" y="3194"/>
                  <a:pt x="5728" y="3200"/>
                  <a:pt x="5829" y="32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22"/>
          <p:cNvSpPr/>
          <p:nvPr/>
        </p:nvSpPr>
        <p:spPr>
          <a:xfrm>
            <a:off x="2197080" y="919080"/>
            <a:ext cx="374760" cy="366840"/>
          </a:xfrm>
          <a:custGeom>
            <a:avLst/>
            <a:gdLst/>
            <a:ahLst/>
            <a:rect l="l" t="t" r="r" b="b"/>
            <a:pathLst>
              <a:path w="1043" h="1018">
                <a:moveTo>
                  <a:pt x="6102" y="3150"/>
                </a:moveTo>
                <a:cubicBezTo>
                  <a:pt x="6190" y="3150"/>
                  <a:pt x="6293" y="3165"/>
                  <a:pt x="6375" y="3125"/>
                </a:cubicBezTo>
                <a:cubicBezTo>
                  <a:pt x="6383" y="3117"/>
                  <a:pt x="6392" y="3109"/>
                  <a:pt x="6400" y="3101"/>
                </a:cubicBezTo>
              </a:path>
              <a:path w="1043" h="1018">
                <a:moveTo>
                  <a:pt x="6276" y="3051"/>
                </a:moveTo>
                <a:cubicBezTo>
                  <a:pt x="6276" y="3166"/>
                  <a:pt x="6240" y="3290"/>
                  <a:pt x="6325" y="3373"/>
                </a:cubicBezTo>
              </a:path>
              <a:path w="1043" h="1018">
                <a:moveTo>
                  <a:pt x="6573" y="2877"/>
                </a:moveTo>
                <a:cubicBezTo>
                  <a:pt x="6573" y="2960"/>
                  <a:pt x="6573" y="3042"/>
                  <a:pt x="6573" y="3125"/>
                </a:cubicBezTo>
                <a:cubicBezTo>
                  <a:pt x="6623" y="3118"/>
                  <a:pt x="6701" y="3097"/>
                  <a:pt x="6747" y="3076"/>
                </a:cubicBezTo>
                <a:cubicBezTo>
                  <a:pt x="6772" y="3051"/>
                  <a:pt x="6780" y="3043"/>
                  <a:pt x="6796" y="3026"/>
                </a:cubicBezTo>
              </a:path>
              <a:path w="1043" h="1018">
                <a:moveTo>
                  <a:pt x="6722" y="2828"/>
                </a:moveTo>
                <a:cubicBezTo>
                  <a:pt x="6717" y="2941"/>
                  <a:pt x="6697" y="3039"/>
                  <a:pt x="6697" y="3150"/>
                </a:cubicBezTo>
                <a:cubicBezTo>
                  <a:pt x="6697" y="3225"/>
                  <a:pt x="6733" y="3324"/>
                  <a:pt x="6747" y="3324"/>
                </a:cubicBezTo>
              </a:path>
              <a:path w="1043" h="1018">
                <a:moveTo>
                  <a:pt x="6921" y="2555"/>
                </a:moveTo>
                <a:cubicBezTo>
                  <a:pt x="7015" y="2640"/>
                  <a:pt x="7061" y="2723"/>
                  <a:pt x="7094" y="2853"/>
                </a:cubicBezTo>
                <a:cubicBezTo>
                  <a:pt x="7131" y="3000"/>
                  <a:pt x="7144" y="3127"/>
                  <a:pt x="7119" y="3274"/>
                </a:cubicBezTo>
                <a:cubicBezTo>
                  <a:pt x="7105" y="3353"/>
                  <a:pt x="7052" y="3453"/>
                  <a:pt x="7020" y="3522"/>
                </a:cubicBezTo>
                <a:cubicBezTo>
                  <a:pt x="6990" y="3552"/>
                  <a:pt x="6976" y="3563"/>
                  <a:pt x="6945" y="35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23"/>
          <p:cNvSpPr/>
          <p:nvPr/>
        </p:nvSpPr>
        <p:spPr>
          <a:xfrm>
            <a:off x="4295880" y="928800"/>
            <a:ext cx="347400" cy="206280"/>
          </a:xfrm>
          <a:custGeom>
            <a:avLst/>
            <a:gdLst/>
            <a:ahLst/>
            <a:rect l="l" t="t" r="r" b="b"/>
            <a:pathLst>
              <a:path w="968" h="571">
                <a:moveTo>
                  <a:pt x="12105" y="2729"/>
                </a:moveTo>
                <a:cubicBezTo>
                  <a:pt x="12118" y="2879"/>
                  <a:pt x="12136" y="3010"/>
                  <a:pt x="12154" y="3150"/>
                </a:cubicBezTo>
              </a:path>
              <a:path w="968" h="571">
                <a:moveTo>
                  <a:pt x="11931" y="2853"/>
                </a:moveTo>
                <a:cubicBezTo>
                  <a:pt x="12005" y="2853"/>
                  <a:pt x="12080" y="2853"/>
                  <a:pt x="12154" y="2853"/>
                </a:cubicBezTo>
              </a:path>
              <a:path w="968" h="571">
                <a:moveTo>
                  <a:pt x="12353" y="2654"/>
                </a:moveTo>
                <a:cubicBezTo>
                  <a:pt x="12403" y="2637"/>
                  <a:pt x="12503" y="2595"/>
                  <a:pt x="12526" y="2679"/>
                </a:cubicBezTo>
                <a:cubicBezTo>
                  <a:pt x="12547" y="2753"/>
                  <a:pt x="12487" y="2850"/>
                  <a:pt x="12452" y="2902"/>
                </a:cubicBezTo>
                <a:cubicBezTo>
                  <a:pt x="12430" y="2934"/>
                  <a:pt x="12319" y="3075"/>
                  <a:pt x="12353" y="3125"/>
                </a:cubicBezTo>
                <a:cubicBezTo>
                  <a:pt x="12383" y="3169"/>
                  <a:pt x="12460" y="3150"/>
                  <a:pt x="12502" y="3150"/>
                </a:cubicBezTo>
              </a:path>
              <a:path w="968" h="571">
                <a:moveTo>
                  <a:pt x="12700" y="2629"/>
                </a:moveTo>
                <a:cubicBezTo>
                  <a:pt x="12767" y="2602"/>
                  <a:pt x="12826" y="2587"/>
                  <a:pt x="12898" y="2580"/>
                </a:cubicBezTo>
              </a:path>
              <a:path w="968" h="571">
                <a:moveTo>
                  <a:pt x="12626" y="2679"/>
                </a:moveTo>
                <a:cubicBezTo>
                  <a:pt x="12601" y="2712"/>
                  <a:pt x="12576" y="2745"/>
                  <a:pt x="12551" y="2778"/>
                </a:cubicBezTo>
                <a:cubicBezTo>
                  <a:pt x="12625" y="2815"/>
                  <a:pt x="12698" y="2845"/>
                  <a:pt x="12774" y="2877"/>
                </a:cubicBezTo>
                <a:cubicBezTo>
                  <a:pt x="12808" y="2892"/>
                  <a:pt x="12961" y="2977"/>
                  <a:pt x="12849" y="3026"/>
                </a:cubicBezTo>
                <a:cubicBezTo>
                  <a:pt x="12785" y="3054"/>
                  <a:pt x="12711" y="3038"/>
                  <a:pt x="12650" y="30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24"/>
          <p:cNvSpPr/>
          <p:nvPr/>
        </p:nvSpPr>
        <p:spPr>
          <a:xfrm>
            <a:off x="4813200" y="839880"/>
            <a:ext cx="33984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13370" y="2530"/>
                </a:moveTo>
                <a:cubicBezTo>
                  <a:pt x="13377" y="2614"/>
                  <a:pt x="13376" y="2721"/>
                  <a:pt x="13395" y="2803"/>
                </a:cubicBezTo>
                <a:cubicBezTo>
                  <a:pt x="13404" y="2843"/>
                  <a:pt x="13523" y="3068"/>
                  <a:pt x="13419" y="2778"/>
                </a:cubicBezTo>
              </a:path>
              <a:path w="943" h="571">
                <a:moveTo>
                  <a:pt x="13395" y="2679"/>
                </a:moveTo>
                <a:cubicBezTo>
                  <a:pt x="13494" y="2685"/>
                  <a:pt x="13513" y="2688"/>
                  <a:pt x="13593" y="2704"/>
                </a:cubicBezTo>
              </a:path>
              <a:path w="943" h="571">
                <a:moveTo>
                  <a:pt x="13767" y="2431"/>
                </a:moveTo>
                <a:cubicBezTo>
                  <a:pt x="13853" y="2431"/>
                  <a:pt x="13920" y="2423"/>
                  <a:pt x="13990" y="2480"/>
                </a:cubicBezTo>
                <a:cubicBezTo>
                  <a:pt x="14033" y="2515"/>
                  <a:pt x="13971" y="2614"/>
                  <a:pt x="13940" y="2654"/>
                </a:cubicBezTo>
                <a:cubicBezTo>
                  <a:pt x="13910" y="2693"/>
                  <a:pt x="13786" y="2768"/>
                  <a:pt x="13791" y="2828"/>
                </a:cubicBezTo>
                <a:cubicBezTo>
                  <a:pt x="13794" y="2865"/>
                  <a:pt x="13866" y="2872"/>
                  <a:pt x="13891" y="2877"/>
                </a:cubicBezTo>
              </a:path>
              <a:path w="943" h="571">
                <a:moveTo>
                  <a:pt x="14188" y="2332"/>
                </a:moveTo>
                <a:cubicBezTo>
                  <a:pt x="14229" y="2332"/>
                  <a:pt x="14271" y="2332"/>
                  <a:pt x="14312" y="2332"/>
                </a:cubicBezTo>
              </a:path>
              <a:path w="943" h="571">
                <a:moveTo>
                  <a:pt x="14064" y="2456"/>
                </a:moveTo>
                <a:cubicBezTo>
                  <a:pt x="14083" y="2589"/>
                  <a:pt x="14090" y="2580"/>
                  <a:pt x="14188" y="2654"/>
                </a:cubicBezTo>
                <a:cubicBezTo>
                  <a:pt x="14270" y="2716"/>
                  <a:pt x="14253" y="2730"/>
                  <a:pt x="14238" y="2803"/>
                </a:cubicBezTo>
                <a:cubicBezTo>
                  <a:pt x="14220" y="2891"/>
                  <a:pt x="14207" y="2877"/>
                  <a:pt x="14114" y="2877"/>
                </a:cubicBezTo>
                <a:cubicBezTo>
                  <a:pt x="14062" y="2877"/>
                  <a:pt x="14044" y="2876"/>
                  <a:pt x="14015" y="28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25"/>
          <p:cNvSpPr/>
          <p:nvPr/>
        </p:nvSpPr>
        <p:spPr>
          <a:xfrm>
            <a:off x="554040" y="1374840"/>
            <a:ext cx="1963800" cy="393480"/>
          </a:xfrm>
          <a:custGeom>
            <a:avLst/>
            <a:gdLst/>
            <a:ahLst/>
            <a:rect l="l" t="t" r="r" b="b"/>
            <a:pathLst>
              <a:path w="5458" h="1092">
                <a:moveTo>
                  <a:pt x="1687" y="4266"/>
                </a:moveTo>
                <a:cubicBezTo>
                  <a:pt x="1651" y="4311"/>
                  <a:pt x="1574" y="4406"/>
                  <a:pt x="1563" y="4465"/>
                </a:cubicBezTo>
                <a:cubicBezTo>
                  <a:pt x="1548" y="4548"/>
                  <a:pt x="1538" y="4626"/>
                  <a:pt x="1538" y="4713"/>
                </a:cubicBezTo>
                <a:cubicBezTo>
                  <a:pt x="1538" y="4746"/>
                  <a:pt x="1547" y="4871"/>
                  <a:pt x="1588" y="4887"/>
                </a:cubicBezTo>
                <a:cubicBezTo>
                  <a:pt x="1659" y="4915"/>
                  <a:pt x="1695" y="4899"/>
                  <a:pt x="1761" y="4862"/>
                </a:cubicBezTo>
                <a:cubicBezTo>
                  <a:pt x="1846" y="4814"/>
                  <a:pt x="1833" y="4769"/>
                  <a:pt x="1860" y="4688"/>
                </a:cubicBezTo>
                <a:cubicBezTo>
                  <a:pt x="1881" y="4625"/>
                  <a:pt x="1905" y="4535"/>
                  <a:pt x="1885" y="4465"/>
                </a:cubicBezTo>
                <a:cubicBezTo>
                  <a:pt x="1867" y="4401"/>
                  <a:pt x="1815" y="4370"/>
                  <a:pt x="1761" y="4341"/>
                </a:cubicBezTo>
                <a:cubicBezTo>
                  <a:pt x="1689" y="4302"/>
                  <a:pt x="1652" y="4329"/>
                  <a:pt x="1588" y="4366"/>
                </a:cubicBezTo>
              </a:path>
              <a:path w="5458" h="1092">
                <a:moveTo>
                  <a:pt x="2059" y="4440"/>
                </a:moveTo>
                <a:cubicBezTo>
                  <a:pt x="2125" y="4423"/>
                  <a:pt x="2163" y="4415"/>
                  <a:pt x="2232" y="4415"/>
                </a:cubicBezTo>
              </a:path>
              <a:path w="5458" h="1092">
                <a:moveTo>
                  <a:pt x="2059" y="4614"/>
                </a:moveTo>
                <a:cubicBezTo>
                  <a:pt x="2112" y="4645"/>
                  <a:pt x="2139" y="4638"/>
                  <a:pt x="2208" y="4638"/>
                </a:cubicBezTo>
              </a:path>
              <a:path w="5458" h="1092">
                <a:moveTo>
                  <a:pt x="2604" y="4242"/>
                </a:moveTo>
                <a:cubicBezTo>
                  <a:pt x="2589" y="4318"/>
                  <a:pt x="2536" y="4454"/>
                  <a:pt x="2555" y="4539"/>
                </a:cubicBezTo>
                <a:cubicBezTo>
                  <a:pt x="2573" y="4620"/>
                  <a:pt x="2604" y="4668"/>
                  <a:pt x="2654" y="4713"/>
                </a:cubicBezTo>
                <a:cubicBezTo>
                  <a:pt x="2703" y="4758"/>
                  <a:pt x="2729" y="4738"/>
                  <a:pt x="2778" y="4713"/>
                </a:cubicBezTo>
              </a:path>
              <a:path w="5458" h="1092">
                <a:moveTo>
                  <a:pt x="2431" y="4539"/>
                </a:moveTo>
                <a:cubicBezTo>
                  <a:pt x="2526" y="4487"/>
                  <a:pt x="2580" y="4493"/>
                  <a:pt x="2679" y="4465"/>
                </a:cubicBezTo>
                <a:cubicBezTo>
                  <a:pt x="2696" y="4457"/>
                  <a:pt x="2712" y="4448"/>
                  <a:pt x="2729" y="4440"/>
                </a:cubicBezTo>
              </a:path>
              <a:path w="5458" h="1092">
                <a:moveTo>
                  <a:pt x="3324" y="4043"/>
                </a:moveTo>
                <a:cubicBezTo>
                  <a:pt x="3266" y="4109"/>
                  <a:pt x="3190" y="4186"/>
                  <a:pt x="3150" y="4266"/>
                </a:cubicBezTo>
                <a:cubicBezTo>
                  <a:pt x="3110" y="4346"/>
                  <a:pt x="3101" y="4427"/>
                  <a:pt x="3101" y="4514"/>
                </a:cubicBezTo>
                <a:cubicBezTo>
                  <a:pt x="3101" y="4588"/>
                  <a:pt x="3153" y="4681"/>
                  <a:pt x="3225" y="4713"/>
                </a:cubicBezTo>
                <a:cubicBezTo>
                  <a:pt x="3241" y="4713"/>
                  <a:pt x="3258" y="4713"/>
                  <a:pt x="3274" y="4713"/>
                </a:cubicBezTo>
              </a:path>
              <a:path w="5458" h="1092">
                <a:moveTo>
                  <a:pt x="4738" y="3944"/>
                </a:moveTo>
                <a:cubicBezTo>
                  <a:pt x="4800" y="3912"/>
                  <a:pt x="4812" y="3975"/>
                  <a:pt x="4837" y="4043"/>
                </a:cubicBezTo>
                <a:cubicBezTo>
                  <a:pt x="4876" y="4151"/>
                  <a:pt x="4908" y="4274"/>
                  <a:pt x="4887" y="4390"/>
                </a:cubicBezTo>
                <a:cubicBezTo>
                  <a:pt x="4869" y="4489"/>
                  <a:pt x="4804" y="4567"/>
                  <a:pt x="4738" y="4638"/>
                </a:cubicBezTo>
                <a:cubicBezTo>
                  <a:pt x="4694" y="4685"/>
                  <a:pt x="4644" y="4709"/>
                  <a:pt x="4614" y="4663"/>
                </a:cubicBezTo>
              </a:path>
              <a:path w="5458" h="1092">
                <a:moveTo>
                  <a:pt x="5135" y="4018"/>
                </a:moveTo>
                <a:cubicBezTo>
                  <a:pt x="5056" y="4160"/>
                  <a:pt x="5025" y="4223"/>
                  <a:pt x="4986" y="4366"/>
                </a:cubicBezTo>
                <a:cubicBezTo>
                  <a:pt x="4959" y="4464"/>
                  <a:pt x="4989" y="4535"/>
                  <a:pt x="5060" y="4614"/>
                </a:cubicBezTo>
                <a:cubicBezTo>
                  <a:pt x="5124" y="4685"/>
                  <a:pt x="5194" y="4689"/>
                  <a:pt x="5283" y="4713"/>
                </a:cubicBezTo>
              </a:path>
              <a:path w="5458" h="1092">
                <a:moveTo>
                  <a:pt x="6945" y="3820"/>
                </a:moveTo>
                <a:cubicBezTo>
                  <a:pt x="6980" y="3926"/>
                  <a:pt x="6992" y="4027"/>
                  <a:pt x="6995" y="4142"/>
                </a:cubicBezTo>
                <a:cubicBezTo>
                  <a:pt x="6998" y="4263"/>
                  <a:pt x="7005" y="4322"/>
                  <a:pt x="6921" y="4415"/>
                </a:cubicBezTo>
                <a:cubicBezTo>
                  <a:pt x="6875" y="4466"/>
                  <a:pt x="6841" y="4487"/>
                  <a:pt x="6772" y="4490"/>
                </a:cubicBezTo>
                <a:cubicBezTo>
                  <a:pt x="6704" y="4490"/>
                  <a:pt x="6685" y="4493"/>
                  <a:pt x="6648" y="4465"/>
                </a:cubicBezTo>
              </a:path>
              <a:path w="5458" h="1092">
                <a:moveTo>
                  <a:pt x="3398" y="4118"/>
                </a:moveTo>
                <a:cubicBezTo>
                  <a:pt x="3369" y="4195"/>
                  <a:pt x="3367" y="4262"/>
                  <a:pt x="3349" y="4341"/>
                </a:cubicBezTo>
                <a:cubicBezTo>
                  <a:pt x="3334" y="4404"/>
                  <a:pt x="3325" y="4508"/>
                  <a:pt x="3299" y="4564"/>
                </a:cubicBezTo>
                <a:cubicBezTo>
                  <a:pt x="3269" y="4629"/>
                  <a:pt x="3270" y="4652"/>
                  <a:pt x="3324" y="4713"/>
                </a:cubicBezTo>
                <a:cubicBezTo>
                  <a:pt x="3360" y="4753"/>
                  <a:pt x="3398" y="4738"/>
                  <a:pt x="3448" y="4738"/>
                </a:cubicBezTo>
              </a:path>
              <a:path w="5458" h="1092">
                <a:moveTo>
                  <a:pt x="3175" y="4440"/>
                </a:moveTo>
                <a:cubicBezTo>
                  <a:pt x="3296" y="4440"/>
                  <a:pt x="3401" y="4425"/>
                  <a:pt x="3522" y="4415"/>
                </a:cubicBezTo>
                <a:cubicBezTo>
                  <a:pt x="3547" y="4415"/>
                  <a:pt x="3572" y="4415"/>
                  <a:pt x="3597" y="4415"/>
                </a:cubicBezTo>
              </a:path>
              <a:path w="5458" h="1092">
                <a:moveTo>
                  <a:pt x="5333" y="4093"/>
                </a:moveTo>
                <a:cubicBezTo>
                  <a:pt x="5307" y="4163"/>
                  <a:pt x="5281" y="4228"/>
                  <a:pt x="5259" y="4291"/>
                </a:cubicBezTo>
                <a:cubicBezTo>
                  <a:pt x="5238" y="4350"/>
                  <a:pt x="5245" y="4407"/>
                  <a:pt x="5283" y="4465"/>
                </a:cubicBezTo>
                <a:cubicBezTo>
                  <a:pt x="5311" y="4507"/>
                  <a:pt x="5381" y="4567"/>
                  <a:pt x="5432" y="4564"/>
                </a:cubicBezTo>
                <a:cubicBezTo>
                  <a:pt x="5449" y="4556"/>
                  <a:pt x="5465" y="4547"/>
                  <a:pt x="5482" y="4539"/>
                </a:cubicBezTo>
              </a:path>
              <a:path w="5458" h="1092">
                <a:moveTo>
                  <a:pt x="5184" y="4316"/>
                </a:moveTo>
                <a:cubicBezTo>
                  <a:pt x="5348" y="4316"/>
                  <a:pt x="5476" y="4321"/>
                  <a:pt x="5631" y="4266"/>
                </a:cubicBezTo>
              </a:path>
              <a:path w="5458" h="1092">
                <a:moveTo>
                  <a:pt x="3944" y="4366"/>
                </a:moveTo>
                <a:cubicBezTo>
                  <a:pt x="4026" y="4366"/>
                  <a:pt x="4091" y="4367"/>
                  <a:pt x="4167" y="4341"/>
                </a:cubicBezTo>
              </a:path>
              <a:path w="5458" h="1092">
                <a:moveTo>
                  <a:pt x="4242" y="4142"/>
                </a:moveTo>
                <a:cubicBezTo>
                  <a:pt x="4307" y="4116"/>
                  <a:pt x="4426" y="4060"/>
                  <a:pt x="4490" y="4118"/>
                </a:cubicBezTo>
                <a:cubicBezTo>
                  <a:pt x="4554" y="4177"/>
                  <a:pt x="4548" y="4267"/>
                  <a:pt x="4514" y="4341"/>
                </a:cubicBezTo>
                <a:cubicBezTo>
                  <a:pt x="4498" y="4376"/>
                  <a:pt x="4442" y="4413"/>
                  <a:pt x="4415" y="4440"/>
                </a:cubicBezTo>
                <a:cubicBezTo>
                  <a:pt x="4369" y="4486"/>
                  <a:pt x="4343" y="4523"/>
                  <a:pt x="4291" y="4564"/>
                </a:cubicBezTo>
                <a:cubicBezTo>
                  <a:pt x="4367" y="4609"/>
                  <a:pt x="4404" y="4576"/>
                  <a:pt x="4490" y="4564"/>
                </a:cubicBezTo>
                <a:cubicBezTo>
                  <a:pt x="4537" y="4557"/>
                  <a:pt x="4591" y="4564"/>
                  <a:pt x="4638" y="4564"/>
                </a:cubicBezTo>
              </a:path>
              <a:path w="5458" h="1092">
                <a:moveTo>
                  <a:pt x="5854" y="4291"/>
                </a:moveTo>
                <a:cubicBezTo>
                  <a:pt x="5918" y="4291"/>
                  <a:pt x="5944" y="4288"/>
                  <a:pt x="6003" y="4266"/>
                </a:cubicBezTo>
              </a:path>
              <a:path w="5458" h="1092">
                <a:moveTo>
                  <a:pt x="6176" y="4018"/>
                </a:moveTo>
                <a:cubicBezTo>
                  <a:pt x="6232" y="3996"/>
                  <a:pt x="6310" y="3944"/>
                  <a:pt x="6375" y="3969"/>
                </a:cubicBezTo>
                <a:cubicBezTo>
                  <a:pt x="6403" y="3997"/>
                  <a:pt x="6416" y="4006"/>
                  <a:pt x="6449" y="3994"/>
                </a:cubicBezTo>
                <a:cubicBezTo>
                  <a:pt x="6438" y="4070"/>
                  <a:pt x="6405" y="4107"/>
                  <a:pt x="6350" y="4167"/>
                </a:cubicBezTo>
                <a:cubicBezTo>
                  <a:pt x="6310" y="4210"/>
                  <a:pt x="6272" y="4232"/>
                  <a:pt x="6226" y="4266"/>
                </a:cubicBezTo>
                <a:cubicBezTo>
                  <a:pt x="6181" y="4300"/>
                  <a:pt x="6163" y="4350"/>
                  <a:pt x="6127" y="4390"/>
                </a:cubicBezTo>
                <a:cubicBezTo>
                  <a:pt x="6104" y="4413"/>
                  <a:pt x="6096" y="4417"/>
                  <a:pt x="6102" y="4440"/>
                </a:cubicBezTo>
                <a:cubicBezTo>
                  <a:pt x="6187" y="4429"/>
                  <a:pt x="6259" y="4415"/>
                  <a:pt x="6350" y="4415"/>
                </a:cubicBezTo>
                <a:cubicBezTo>
                  <a:pt x="6416" y="4415"/>
                  <a:pt x="6482" y="4415"/>
                  <a:pt x="6548" y="44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26"/>
          <p:cNvSpPr/>
          <p:nvPr/>
        </p:nvSpPr>
        <p:spPr>
          <a:xfrm>
            <a:off x="4340160" y="1081080"/>
            <a:ext cx="830160" cy="392040"/>
          </a:xfrm>
          <a:custGeom>
            <a:avLst/>
            <a:gdLst/>
            <a:ahLst/>
            <a:rect l="l" t="t" r="r" b="b"/>
            <a:pathLst>
              <a:path w="2308" h="1093">
                <a:moveTo>
                  <a:pt x="12303" y="3448"/>
                </a:moveTo>
                <a:cubicBezTo>
                  <a:pt x="12353" y="3575"/>
                  <a:pt x="12384" y="3671"/>
                  <a:pt x="12477" y="3770"/>
                </a:cubicBezTo>
                <a:cubicBezTo>
                  <a:pt x="12514" y="3809"/>
                  <a:pt x="12562" y="3831"/>
                  <a:pt x="12601" y="3870"/>
                </a:cubicBezTo>
                <a:cubicBezTo>
                  <a:pt x="12623" y="3892"/>
                  <a:pt x="12628" y="3900"/>
                  <a:pt x="12650" y="3894"/>
                </a:cubicBezTo>
              </a:path>
              <a:path w="2308" h="1093">
                <a:moveTo>
                  <a:pt x="12601" y="3398"/>
                </a:moveTo>
                <a:cubicBezTo>
                  <a:pt x="12549" y="3463"/>
                  <a:pt x="12516" y="3547"/>
                  <a:pt x="12477" y="3621"/>
                </a:cubicBezTo>
                <a:cubicBezTo>
                  <a:pt x="12418" y="3732"/>
                  <a:pt x="12391" y="3864"/>
                  <a:pt x="12328" y="3969"/>
                </a:cubicBezTo>
                <a:cubicBezTo>
                  <a:pt x="12298" y="3999"/>
                  <a:pt x="12296" y="4004"/>
                  <a:pt x="12353" y="3969"/>
                </a:cubicBezTo>
              </a:path>
              <a:path w="2308" h="1093">
                <a:moveTo>
                  <a:pt x="12750" y="3249"/>
                </a:moveTo>
                <a:cubicBezTo>
                  <a:pt x="12791" y="3241"/>
                  <a:pt x="12833" y="3233"/>
                  <a:pt x="12874" y="3225"/>
                </a:cubicBezTo>
                <a:cubicBezTo>
                  <a:pt x="12922" y="3341"/>
                  <a:pt x="12886" y="3356"/>
                  <a:pt x="12824" y="3448"/>
                </a:cubicBezTo>
                <a:cubicBezTo>
                  <a:pt x="12802" y="3491"/>
                  <a:pt x="12798" y="3503"/>
                  <a:pt x="12774" y="3522"/>
                </a:cubicBezTo>
                <a:cubicBezTo>
                  <a:pt x="12857" y="3541"/>
                  <a:pt x="12915" y="3528"/>
                  <a:pt x="12998" y="3497"/>
                </a:cubicBezTo>
              </a:path>
              <a:path w="2308" h="1093">
                <a:moveTo>
                  <a:pt x="13047" y="3547"/>
                </a:moveTo>
                <a:cubicBezTo>
                  <a:pt x="13196" y="3528"/>
                  <a:pt x="13212" y="3520"/>
                  <a:pt x="13295" y="3522"/>
                </a:cubicBezTo>
              </a:path>
              <a:path w="2308" h="1093">
                <a:moveTo>
                  <a:pt x="13097" y="3795"/>
                </a:moveTo>
                <a:cubicBezTo>
                  <a:pt x="13205" y="3764"/>
                  <a:pt x="13262" y="3744"/>
                  <a:pt x="13345" y="3671"/>
                </a:cubicBezTo>
              </a:path>
              <a:path w="2308" h="1093">
                <a:moveTo>
                  <a:pt x="13568" y="3299"/>
                </a:moveTo>
                <a:cubicBezTo>
                  <a:pt x="13611" y="3286"/>
                  <a:pt x="13772" y="3210"/>
                  <a:pt x="13767" y="3349"/>
                </a:cubicBezTo>
                <a:cubicBezTo>
                  <a:pt x="13763" y="3446"/>
                  <a:pt x="13704" y="3571"/>
                  <a:pt x="13643" y="3646"/>
                </a:cubicBezTo>
                <a:cubicBezTo>
                  <a:pt x="13595" y="3705"/>
                  <a:pt x="13534" y="3721"/>
                  <a:pt x="13593" y="3795"/>
                </a:cubicBezTo>
                <a:cubicBezTo>
                  <a:pt x="13635" y="3848"/>
                  <a:pt x="13734" y="3850"/>
                  <a:pt x="13791" y="3820"/>
                </a:cubicBezTo>
                <a:cubicBezTo>
                  <a:pt x="13837" y="3774"/>
                  <a:pt x="13852" y="3762"/>
                  <a:pt x="13866" y="3721"/>
                </a:cubicBezTo>
              </a:path>
              <a:path w="2308" h="1093">
                <a:moveTo>
                  <a:pt x="14064" y="3249"/>
                </a:moveTo>
                <a:cubicBezTo>
                  <a:pt x="14156" y="3216"/>
                  <a:pt x="14214" y="3200"/>
                  <a:pt x="14312" y="3200"/>
                </a:cubicBezTo>
              </a:path>
              <a:path w="2308" h="1093">
                <a:moveTo>
                  <a:pt x="14015" y="3299"/>
                </a:moveTo>
                <a:cubicBezTo>
                  <a:pt x="13998" y="3307"/>
                  <a:pt x="13982" y="3316"/>
                  <a:pt x="13965" y="3324"/>
                </a:cubicBezTo>
                <a:cubicBezTo>
                  <a:pt x="14042" y="3400"/>
                  <a:pt x="14114" y="3453"/>
                  <a:pt x="14213" y="3497"/>
                </a:cubicBezTo>
                <a:cubicBezTo>
                  <a:pt x="14274" y="3524"/>
                  <a:pt x="14311" y="3531"/>
                  <a:pt x="14362" y="3572"/>
                </a:cubicBezTo>
                <a:cubicBezTo>
                  <a:pt x="14314" y="3666"/>
                  <a:pt x="14294" y="3690"/>
                  <a:pt x="14188" y="3721"/>
                </a:cubicBezTo>
                <a:cubicBezTo>
                  <a:pt x="14089" y="3746"/>
                  <a:pt x="14056" y="3754"/>
                  <a:pt x="13990" y="3770"/>
                </a:cubicBezTo>
              </a:path>
              <a:path w="2308" h="1093">
                <a:moveTo>
                  <a:pt x="12154" y="3671"/>
                </a:moveTo>
                <a:cubicBezTo>
                  <a:pt x="12174" y="3790"/>
                  <a:pt x="12223" y="3923"/>
                  <a:pt x="12229" y="4043"/>
                </a:cubicBezTo>
                <a:cubicBezTo>
                  <a:pt x="12229" y="4060"/>
                  <a:pt x="12229" y="4076"/>
                  <a:pt x="12229" y="4093"/>
                </a:cubicBezTo>
                <a:cubicBezTo>
                  <a:pt x="12192" y="4019"/>
                  <a:pt x="12156" y="3949"/>
                  <a:pt x="12129" y="3870"/>
                </a:cubicBezTo>
                <a:cubicBezTo>
                  <a:pt x="12095" y="3769"/>
                  <a:pt x="12059" y="3678"/>
                  <a:pt x="12055" y="3572"/>
                </a:cubicBezTo>
                <a:cubicBezTo>
                  <a:pt x="12051" y="3456"/>
                  <a:pt x="12106" y="3384"/>
                  <a:pt x="12204" y="3324"/>
                </a:cubicBezTo>
                <a:cubicBezTo>
                  <a:pt x="12319" y="3253"/>
                  <a:pt x="12449" y="3223"/>
                  <a:pt x="12576" y="3200"/>
                </a:cubicBezTo>
                <a:cubicBezTo>
                  <a:pt x="12691" y="3177"/>
                  <a:pt x="12723" y="3168"/>
                  <a:pt x="12799" y="3175"/>
                </a:cubicBezTo>
              </a:path>
              <a:path w="2308" h="1093">
                <a:moveTo>
                  <a:pt x="13395" y="3373"/>
                </a:moveTo>
                <a:cubicBezTo>
                  <a:pt x="13400" y="3525"/>
                  <a:pt x="13394" y="3680"/>
                  <a:pt x="13469" y="3820"/>
                </a:cubicBezTo>
                <a:cubicBezTo>
                  <a:pt x="13494" y="3845"/>
                  <a:pt x="13502" y="3853"/>
                  <a:pt x="13519" y="3870"/>
                </a:cubicBezTo>
                <a:cubicBezTo>
                  <a:pt x="13519" y="3767"/>
                  <a:pt x="13484" y="3719"/>
                  <a:pt x="13469" y="3621"/>
                </a:cubicBezTo>
                <a:cubicBezTo>
                  <a:pt x="13456" y="3535"/>
                  <a:pt x="13472" y="3451"/>
                  <a:pt x="13494" y="3373"/>
                </a:cubicBezTo>
                <a:cubicBezTo>
                  <a:pt x="13530" y="3244"/>
                  <a:pt x="13563" y="3212"/>
                  <a:pt x="13667" y="3150"/>
                </a:cubicBezTo>
                <a:cubicBezTo>
                  <a:pt x="13786" y="3079"/>
                  <a:pt x="13926" y="3023"/>
                  <a:pt x="14064" y="3001"/>
                </a:cubicBezTo>
                <a:cubicBezTo>
                  <a:pt x="14138" y="2989"/>
                  <a:pt x="14176" y="3020"/>
                  <a:pt x="14238" y="30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27"/>
          <p:cNvSpPr/>
          <p:nvPr/>
        </p:nvSpPr>
        <p:spPr>
          <a:xfrm>
            <a:off x="4537080" y="1517760"/>
            <a:ext cx="312840" cy="206280"/>
          </a:xfrm>
          <a:custGeom>
            <a:avLst/>
            <a:gdLst/>
            <a:ahLst/>
            <a:rect l="l" t="t" r="r" b="b"/>
            <a:pathLst>
              <a:path w="869" h="571">
                <a:moveTo>
                  <a:pt x="12626" y="4316"/>
                </a:moveTo>
                <a:cubicBezTo>
                  <a:pt x="12666" y="4397"/>
                  <a:pt x="12714" y="4471"/>
                  <a:pt x="12774" y="4539"/>
                </a:cubicBezTo>
                <a:cubicBezTo>
                  <a:pt x="12843" y="4617"/>
                  <a:pt x="12918" y="4677"/>
                  <a:pt x="12998" y="4738"/>
                </a:cubicBezTo>
                <a:cubicBezTo>
                  <a:pt x="13032" y="4764"/>
                  <a:pt x="13054" y="4778"/>
                  <a:pt x="13097" y="4787"/>
                </a:cubicBezTo>
              </a:path>
              <a:path w="869" h="571">
                <a:moveTo>
                  <a:pt x="12948" y="4217"/>
                </a:moveTo>
                <a:cubicBezTo>
                  <a:pt x="12870" y="4272"/>
                  <a:pt x="12830" y="4357"/>
                  <a:pt x="12774" y="4440"/>
                </a:cubicBezTo>
                <a:cubicBezTo>
                  <a:pt x="12705" y="4544"/>
                  <a:pt x="12682" y="4655"/>
                  <a:pt x="12626" y="4762"/>
                </a:cubicBezTo>
                <a:cubicBezTo>
                  <a:pt x="12601" y="4787"/>
                  <a:pt x="12593" y="4795"/>
                  <a:pt x="12626" y="4762"/>
                </a:cubicBezTo>
              </a:path>
              <a:path w="869" h="571">
                <a:moveTo>
                  <a:pt x="13097" y="4291"/>
                </a:moveTo>
                <a:cubicBezTo>
                  <a:pt x="13209" y="4283"/>
                  <a:pt x="13262" y="4286"/>
                  <a:pt x="13370" y="4291"/>
                </a:cubicBezTo>
                <a:cubicBezTo>
                  <a:pt x="13421" y="4291"/>
                  <a:pt x="13440" y="4292"/>
                  <a:pt x="13469" y="4316"/>
                </a:cubicBezTo>
              </a:path>
              <a:path w="869" h="571">
                <a:moveTo>
                  <a:pt x="13196" y="4539"/>
                </a:moveTo>
                <a:cubicBezTo>
                  <a:pt x="13285" y="4505"/>
                  <a:pt x="13372" y="4488"/>
                  <a:pt x="13469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28"/>
          <p:cNvSpPr/>
          <p:nvPr/>
        </p:nvSpPr>
        <p:spPr>
          <a:xfrm>
            <a:off x="4983120" y="1401840"/>
            <a:ext cx="392040" cy="260280"/>
          </a:xfrm>
          <a:custGeom>
            <a:avLst/>
            <a:gdLst/>
            <a:ahLst/>
            <a:rect l="l" t="t" r="r" b="b"/>
            <a:pathLst>
              <a:path w="1092" h="721">
                <a:moveTo>
                  <a:pt x="14089" y="3894"/>
                </a:moveTo>
                <a:cubicBezTo>
                  <a:pt x="14053" y="3954"/>
                  <a:pt x="14064" y="4019"/>
                  <a:pt x="14064" y="4093"/>
                </a:cubicBezTo>
                <a:cubicBezTo>
                  <a:pt x="14064" y="4161"/>
                  <a:pt x="14056" y="4212"/>
                  <a:pt x="14089" y="4266"/>
                </a:cubicBezTo>
              </a:path>
              <a:path w="1092" h="721">
                <a:moveTo>
                  <a:pt x="13841" y="4142"/>
                </a:moveTo>
                <a:cubicBezTo>
                  <a:pt x="13950" y="4158"/>
                  <a:pt x="14058" y="4184"/>
                  <a:pt x="14163" y="4192"/>
                </a:cubicBezTo>
                <a:cubicBezTo>
                  <a:pt x="14171" y="4192"/>
                  <a:pt x="14180" y="4192"/>
                  <a:pt x="14188" y="4192"/>
                </a:cubicBezTo>
              </a:path>
              <a:path w="1092" h="721">
                <a:moveTo>
                  <a:pt x="13965" y="4465"/>
                </a:moveTo>
                <a:cubicBezTo>
                  <a:pt x="14056" y="4465"/>
                  <a:pt x="14147" y="4465"/>
                  <a:pt x="14238" y="4465"/>
                </a:cubicBezTo>
              </a:path>
              <a:path w="1092" h="721">
                <a:moveTo>
                  <a:pt x="14610" y="3944"/>
                </a:moveTo>
                <a:cubicBezTo>
                  <a:pt x="14700" y="3925"/>
                  <a:pt x="14767" y="3919"/>
                  <a:pt x="14858" y="3919"/>
                </a:cubicBezTo>
                <a:cubicBezTo>
                  <a:pt x="14916" y="3919"/>
                  <a:pt x="14940" y="3935"/>
                  <a:pt x="14932" y="3894"/>
                </a:cubicBezTo>
              </a:path>
              <a:path w="1092" h="721">
                <a:moveTo>
                  <a:pt x="14511" y="3969"/>
                </a:moveTo>
                <a:cubicBezTo>
                  <a:pt x="14483" y="4097"/>
                  <a:pt x="14483" y="4090"/>
                  <a:pt x="14536" y="4192"/>
                </a:cubicBezTo>
                <a:cubicBezTo>
                  <a:pt x="14557" y="4236"/>
                  <a:pt x="14560" y="4248"/>
                  <a:pt x="14585" y="4266"/>
                </a:cubicBezTo>
                <a:cubicBezTo>
                  <a:pt x="14632" y="4221"/>
                  <a:pt x="14624" y="4188"/>
                  <a:pt x="14660" y="4142"/>
                </a:cubicBezTo>
                <a:cubicBezTo>
                  <a:pt x="14710" y="4079"/>
                  <a:pt x="14748" y="4090"/>
                  <a:pt x="14808" y="4142"/>
                </a:cubicBezTo>
                <a:cubicBezTo>
                  <a:pt x="14887" y="4211"/>
                  <a:pt x="14927" y="4260"/>
                  <a:pt x="14932" y="4366"/>
                </a:cubicBezTo>
                <a:cubicBezTo>
                  <a:pt x="14936" y="4451"/>
                  <a:pt x="14889" y="4484"/>
                  <a:pt x="14833" y="4539"/>
                </a:cubicBezTo>
                <a:cubicBezTo>
                  <a:pt x="14775" y="4596"/>
                  <a:pt x="14687" y="4611"/>
                  <a:pt x="14610" y="4614"/>
                </a:cubicBezTo>
                <a:cubicBezTo>
                  <a:pt x="14585" y="4614"/>
                  <a:pt x="14561" y="4614"/>
                  <a:pt x="14536" y="4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29"/>
          <p:cNvSpPr/>
          <p:nvPr/>
        </p:nvSpPr>
        <p:spPr>
          <a:xfrm>
            <a:off x="392040" y="1839960"/>
            <a:ext cx="1243080" cy="615960"/>
          </a:xfrm>
          <a:custGeom>
            <a:avLst/>
            <a:gdLst/>
            <a:ahLst/>
            <a:rect l="l" t="t" r="r" b="b"/>
            <a:pathLst>
              <a:path w="3449" h="1712">
                <a:moveTo>
                  <a:pt x="3200" y="6052"/>
                </a:moveTo>
                <a:cubicBezTo>
                  <a:pt x="3192" y="6135"/>
                  <a:pt x="3179" y="6215"/>
                  <a:pt x="3150" y="6300"/>
                </a:cubicBezTo>
                <a:cubicBezTo>
                  <a:pt x="3122" y="6383"/>
                  <a:pt x="3135" y="6402"/>
                  <a:pt x="3150" y="6474"/>
                </a:cubicBezTo>
                <a:cubicBezTo>
                  <a:pt x="3158" y="6513"/>
                  <a:pt x="3171" y="6582"/>
                  <a:pt x="3225" y="6598"/>
                </a:cubicBezTo>
                <a:cubicBezTo>
                  <a:pt x="3275" y="6613"/>
                  <a:pt x="3312" y="6595"/>
                  <a:pt x="3349" y="6573"/>
                </a:cubicBezTo>
              </a:path>
              <a:path w="3449" h="1712">
                <a:moveTo>
                  <a:pt x="2977" y="6300"/>
                </a:moveTo>
                <a:cubicBezTo>
                  <a:pt x="3087" y="6300"/>
                  <a:pt x="3190" y="6284"/>
                  <a:pt x="3299" y="6276"/>
                </a:cubicBezTo>
              </a:path>
              <a:path w="3449" h="1712">
                <a:moveTo>
                  <a:pt x="3497" y="6201"/>
                </a:moveTo>
                <a:cubicBezTo>
                  <a:pt x="3586" y="6214"/>
                  <a:pt x="3639" y="6226"/>
                  <a:pt x="3721" y="6226"/>
                </a:cubicBezTo>
              </a:path>
              <a:path w="3449" h="1712">
                <a:moveTo>
                  <a:pt x="3522" y="6424"/>
                </a:moveTo>
                <a:cubicBezTo>
                  <a:pt x="3640" y="6405"/>
                  <a:pt x="3661" y="6411"/>
                  <a:pt x="3721" y="6375"/>
                </a:cubicBezTo>
              </a:path>
              <a:path w="3449" h="1712">
                <a:moveTo>
                  <a:pt x="3919" y="5978"/>
                </a:moveTo>
                <a:cubicBezTo>
                  <a:pt x="4032" y="5987"/>
                  <a:pt x="4041" y="5980"/>
                  <a:pt x="4093" y="6077"/>
                </a:cubicBezTo>
                <a:cubicBezTo>
                  <a:pt x="4134" y="6155"/>
                  <a:pt x="4107" y="6184"/>
                  <a:pt x="4093" y="6251"/>
                </a:cubicBezTo>
                <a:cubicBezTo>
                  <a:pt x="4077" y="6331"/>
                  <a:pt x="4055" y="6319"/>
                  <a:pt x="3994" y="6375"/>
                </a:cubicBezTo>
                <a:cubicBezTo>
                  <a:pt x="3940" y="6424"/>
                  <a:pt x="3912" y="6460"/>
                  <a:pt x="3994" y="6499"/>
                </a:cubicBezTo>
                <a:cubicBezTo>
                  <a:pt x="4057" y="6529"/>
                  <a:pt x="4174" y="6542"/>
                  <a:pt x="4242" y="6524"/>
                </a:cubicBezTo>
                <a:cubicBezTo>
                  <a:pt x="4258" y="6516"/>
                  <a:pt x="4275" y="6507"/>
                  <a:pt x="4291" y="6499"/>
                </a:cubicBezTo>
              </a:path>
              <a:path w="3449" h="1712">
                <a:moveTo>
                  <a:pt x="4242" y="5854"/>
                </a:moveTo>
                <a:cubicBezTo>
                  <a:pt x="4172" y="5869"/>
                  <a:pt x="4120" y="5868"/>
                  <a:pt x="4043" y="5879"/>
                </a:cubicBezTo>
                <a:cubicBezTo>
                  <a:pt x="3949" y="5892"/>
                  <a:pt x="3868" y="5902"/>
                  <a:pt x="3770" y="5904"/>
                </a:cubicBezTo>
                <a:cubicBezTo>
                  <a:pt x="3487" y="5909"/>
                  <a:pt x="3205" y="5904"/>
                  <a:pt x="2927" y="5928"/>
                </a:cubicBezTo>
                <a:cubicBezTo>
                  <a:pt x="2824" y="5937"/>
                  <a:pt x="2374" y="5980"/>
                  <a:pt x="2332" y="5879"/>
                </a:cubicBezTo>
                <a:cubicBezTo>
                  <a:pt x="2308" y="5823"/>
                  <a:pt x="2311" y="5694"/>
                  <a:pt x="2307" y="5631"/>
                </a:cubicBezTo>
                <a:cubicBezTo>
                  <a:pt x="2301" y="5548"/>
                  <a:pt x="2299" y="5484"/>
                  <a:pt x="2282" y="5407"/>
                </a:cubicBezTo>
                <a:cubicBezTo>
                  <a:pt x="2266" y="5335"/>
                  <a:pt x="2253" y="5272"/>
                  <a:pt x="2208" y="5209"/>
                </a:cubicBezTo>
                <a:cubicBezTo>
                  <a:pt x="2167" y="5151"/>
                  <a:pt x="2122" y="5122"/>
                  <a:pt x="2059" y="5110"/>
                </a:cubicBezTo>
                <a:cubicBezTo>
                  <a:pt x="1978" y="5095"/>
                  <a:pt x="1911" y="5129"/>
                  <a:pt x="1836" y="5135"/>
                </a:cubicBezTo>
                <a:cubicBezTo>
                  <a:pt x="1745" y="5142"/>
                  <a:pt x="1677" y="5140"/>
                  <a:pt x="1588" y="5159"/>
                </a:cubicBezTo>
                <a:cubicBezTo>
                  <a:pt x="1511" y="5175"/>
                  <a:pt x="1438" y="5186"/>
                  <a:pt x="1364" y="5209"/>
                </a:cubicBezTo>
                <a:cubicBezTo>
                  <a:pt x="1297" y="5229"/>
                  <a:pt x="1200" y="5250"/>
                  <a:pt x="1141" y="5259"/>
                </a:cubicBezTo>
                <a:cubicBezTo>
                  <a:pt x="1124" y="5259"/>
                  <a:pt x="1108" y="5259"/>
                  <a:pt x="1091" y="5259"/>
                </a:cubicBezTo>
                <a:cubicBezTo>
                  <a:pt x="1108" y="5318"/>
                  <a:pt x="1135" y="5395"/>
                  <a:pt x="1141" y="5457"/>
                </a:cubicBezTo>
                <a:cubicBezTo>
                  <a:pt x="1149" y="5543"/>
                  <a:pt x="1161" y="5620"/>
                  <a:pt x="1166" y="5705"/>
                </a:cubicBezTo>
                <a:cubicBezTo>
                  <a:pt x="1186" y="6037"/>
                  <a:pt x="1114" y="6402"/>
                  <a:pt x="1191" y="6722"/>
                </a:cubicBezTo>
                <a:cubicBezTo>
                  <a:pt x="1212" y="6808"/>
                  <a:pt x="1222" y="6806"/>
                  <a:pt x="1315" y="6821"/>
                </a:cubicBezTo>
                <a:cubicBezTo>
                  <a:pt x="1472" y="6846"/>
                  <a:pt x="1634" y="6805"/>
                  <a:pt x="1786" y="6796"/>
                </a:cubicBezTo>
                <a:cubicBezTo>
                  <a:pt x="1919" y="6788"/>
                  <a:pt x="2051" y="6782"/>
                  <a:pt x="2183" y="6772"/>
                </a:cubicBezTo>
                <a:cubicBezTo>
                  <a:pt x="2735" y="6731"/>
                  <a:pt x="3322" y="6757"/>
                  <a:pt x="3870" y="6796"/>
                </a:cubicBezTo>
                <a:cubicBezTo>
                  <a:pt x="4075" y="6811"/>
                  <a:pt x="4284" y="6796"/>
                  <a:pt x="4490" y="6796"/>
                </a:cubicBezTo>
                <a:cubicBezTo>
                  <a:pt x="4502" y="6742"/>
                  <a:pt x="4513" y="6689"/>
                  <a:pt x="4514" y="6623"/>
                </a:cubicBezTo>
                <a:cubicBezTo>
                  <a:pt x="4516" y="6533"/>
                  <a:pt x="4533" y="6460"/>
                  <a:pt x="4539" y="6375"/>
                </a:cubicBezTo>
                <a:cubicBezTo>
                  <a:pt x="4545" y="6283"/>
                  <a:pt x="4522" y="6214"/>
                  <a:pt x="4514" y="6127"/>
                </a:cubicBezTo>
                <a:cubicBezTo>
                  <a:pt x="4508" y="6062"/>
                  <a:pt x="4495" y="5988"/>
                  <a:pt x="4490" y="5928"/>
                </a:cubicBezTo>
                <a:cubicBezTo>
                  <a:pt x="4486" y="5873"/>
                  <a:pt x="4478" y="5848"/>
                  <a:pt x="4465" y="5804"/>
                </a:cubicBezTo>
                <a:cubicBezTo>
                  <a:pt x="4395" y="5823"/>
                  <a:pt x="4311" y="5832"/>
                  <a:pt x="4242" y="5854"/>
                </a:cubicBezTo>
                <a:cubicBezTo>
                  <a:pt x="4225" y="5862"/>
                  <a:pt x="4209" y="5871"/>
                  <a:pt x="4192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30"/>
          <p:cNvSpPr/>
          <p:nvPr/>
        </p:nvSpPr>
        <p:spPr>
          <a:xfrm>
            <a:off x="428760" y="1963800"/>
            <a:ext cx="366480" cy="216000"/>
          </a:xfrm>
          <a:custGeom>
            <a:avLst/>
            <a:gdLst/>
            <a:ahLst/>
            <a:rect l="l" t="t" r="r" b="b"/>
            <a:pathLst>
              <a:path w="1018" h="596">
                <a:moveTo>
                  <a:pt x="1364" y="5457"/>
                </a:moveTo>
                <a:cubicBezTo>
                  <a:pt x="1364" y="5544"/>
                  <a:pt x="1341" y="5618"/>
                  <a:pt x="1339" y="5705"/>
                </a:cubicBezTo>
                <a:cubicBezTo>
                  <a:pt x="1336" y="5863"/>
                  <a:pt x="1308" y="5922"/>
                  <a:pt x="1389" y="6028"/>
                </a:cubicBezTo>
                <a:cubicBezTo>
                  <a:pt x="1419" y="6057"/>
                  <a:pt x="1433" y="6062"/>
                  <a:pt x="1463" y="6028"/>
                </a:cubicBezTo>
              </a:path>
              <a:path w="1018" h="596">
                <a:moveTo>
                  <a:pt x="1191" y="5779"/>
                </a:moveTo>
                <a:cubicBezTo>
                  <a:pt x="1285" y="5732"/>
                  <a:pt x="1307" y="5730"/>
                  <a:pt x="1414" y="5730"/>
                </a:cubicBezTo>
              </a:path>
              <a:path w="1018" h="596">
                <a:moveTo>
                  <a:pt x="1612" y="5680"/>
                </a:moveTo>
                <a:cubicBezTo>
                  <a:pt x="1653" y="5680"/>
                  <a:pt x="1695" y="5680"/>
                  <a:pt x="1736" y="5680"/>
                </a:cubicBezTo>
              </a:path>
              <a:path w="1018" h="596">
                <a:moveTo>
                  <a:pt x="1588" y="5829"/>
                </a:moveTo>
                <a:cubicBezTo>
                  <a:pt x="1659" y="5873"/>
                  <a:pt x="1706" y="5833"/>
                  <a:pt x="1786" y="5804"/>
                </a:cubicBezTo>
              </a:path>
              <a:path w="1018" h="596">
                <a:moveTo>
                  <a:pt x="1984" y="5482"/>
                </a:moveTo>
                <a:cubicBezTo>
                  <a:pt x="1945" y="5542"/>
                  <a:pt x="1931" y="5595"/>
                  <a:pt x="1910" y="5655"/>
                </a:cubicBezTo>
                <a:cubicBezTo>
                  <a:pt x="1888" y="5717"/>
                  <a:pt x="1864" y="5811"/>
                  <a:pt x="1885" y="5879"/>
                </a:cubicBezTo>
                <a:cubicBezTo>
                  <a:pt x="1900" y="5928"/>
                  <a:pt x="1969" y="5951"/>
                  <a:pt x="2009" y="5953"/>
                </a:cubicBezTo>
                <a:cubicBezTo>
                  <a:pt x="2101" y="5958"/>
                  <a:pt x="2112" y="5916"/>
                  <a:pt x="2158" y="5854"/>
                </a:cubicBezTo>
                <a:cubicBezTo>
                  <a:pt x="2200" y="5798"/>
                  <a:pt x="2202" y="5743"/>
                  <a:pt x="2183" y="5680"/>
                </a:cubicBezTo>
                <a:cubicBezTo>
                  <a:pt x="2161" y="5610"/>
                  <a:pt x="2121" y="5551"/>
                  <a:pt x="2059" y="5507"/>
                </a:cubicBezTo>
                <a:cubicBezTo>
                  <a:pt x="2015" y="5485"/>
                  <a:pt x="2003" y="5472"/>
                  <a:pt x="1984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31"/>
          <p:cNvSpPr/>
          <p:nvPr/>
        </p:nvSpPr>
        <p:spPr>
          <a:xfrm>
            <a:off x="990720" y="1893960"/>
            <a:ext cx="652320" cy="204840"/>
          </a:xfrm>
          <a:custGeom>
            <a:avLst/>
            <a:gdLst/>
            <a:ahLst/>
            <a:rect l="l" t="t" r="r" b="b"/>
            <a:pathLst>
              <a:path w="1812" h="571">
                <a:moveTo>
                  <a:pt x="2902" y="5358"/>
                </a:moveTo>
                <a:cubicBezTo>
                  <a:pt x="2894" y="5440"/>
                  <a:pt x="2865" y="5503"/>
                  <a:pt x="2853" y="5581"/>
                </a:cubicBezTo>
                <a:cubicBezTo>
                  <a:pt x="2842" y="5650"/>
                  <a:pt x="2867" y="5721"/>
                  <a:pt x="2902" y="5779"/>
                </a:cubicBezTo>
                <a:cubicBezTo>
                  <a:pt x="2939" y="5840"/>
                  <a:pt x="2976" y="5834"/>
                  <a:pt x="3026" y="5804"/>
                </a:cubicBezTo>
              </a:path>
              <a:path w="1812" h="571">
                <a:moveTo>
                  <a:pt x="2753" y="5606"/>
                </a:moveTo>
                <a:cubicBezTo>
                  <a:pt x="2822" y="5583"/>
                  <a:pt x="2877" y="5581"/>
                  <a:pt x="2952" y="5581"/>
                </a:cubicBezTo>
              </a:path>
              <a:path w="1812" h="571">
                <a:moveTo>
                  <a:pt x="3150" y="5581"/>
                </a:moveTo>
                <a:cubicBezTo>
                  <a:pt x="3191" y="5581"/>
                  <a:pt x="3233" y="5581"/>
                  <a:pt x="3274" y="5581"/>
                </a:cubicBezTo>
              </a:path>
              <a:path w="1812" h="571">
                <a:moveTo>
                  <a:pt x="3299" y="5383"/>
                </a:moveTo>
                <a:cubicBezTo>
                  <a:pt x="3351" y="5357"/>
                  <a:pt x="3436" y="5289"/>
                  <a:pt x="3497" y="5308"/>
                </a:cubicBezTo>
                <a:cubicBezTo>
                  <a:pt x="3577" y="5333"/>
                  <a:pt x="3599" y="5388"/>
                  <a:pt x="3572" y="5457"/>
                </a:cubicBezTo>
                <a:cubicBezTo>
                  <a:pt x="3546" y="5523"/>
                  <a:pt x="3518" y="5600"/>
                  <a:pt x="3473" y="5655"/>
                </a:cubicBezTo>
                <a:cubicBezTo>
                  <a:pt x="3440" y="5695"/>
                  <a:pt x="3351" y="5740"/>
                  <a:pt x="3373" y="5804"/>
                </a:cubicBezTo>
                <a:cubicBezTo>
                  <a:pt x="3391" y="5856"/>
                  <a:pt x="3514" y="5807"/>
                  <a:pt x="3547" y="5804"/>
                </a:cubicBezTo>
              </a:path>
              <a:path w="1812" h="571">
                <a:moveTo>
                  <a:pt x="3721" y="5531"/>
                </a:moveTo>
                <a:cubicBezTo>
                  <a:pt x="3784" y="5522"/>
                  <a:pt x="3824" y="5507"/>
                  <a:pt x="3894" y="5507"/>
                </a:cubicBezTo>
              </a:path>
              <a:path w="1812" h="571">
                <a:moveTo>
                  <a:pt x="3770" y="5655"/>
                </a:moveTo>
                <a:cubicBezTo>
                  <a:pt x="3870" y="5655"/>
                  <a:pt x="3923" y="5630"/>
                  <a:pt x="4018" y="5606"/>
                </a:cubicBezTo>
                <a:cubicBezTo>
                  <a:pt x="4026" y="5606"/>
                  <a:pt x="4035" y="5606"/>
                  <a:pt x="4043" y="5606"/>
                </a:cubicBezTo>
              </a:path>
              <a:path w="1812" h="571">
                <a:moveTo>
                  <a:pt x="4341" y="5259"/>
                </a:moveTo>
                <a:cubicBezTo>
                  <a:pt x="4299" y="5334"/>
                  <a:pt x="4256" y="5405"/>
                  <a:pt x="4217" y="5482"/>
                </a:cubicBezTo>
                <a:cubicBezTo>
                  <a:pt x="4189" y="5538"/>
                  <a:pt x="4170" y="5643"/>
                  <a:pt x="4192" y="5705"/>
                </a:cubicBezTo>
                <a:cubicBezTo>
                  <a:pt x="4224" y="5795"/>
                  <a:pt x="4329" y="5760"/>
                  <a:pt x="4390" y="5755"/>
                </a:cubicBezTo>
                <a:cubicBezTo>
                  <a:pt x="4433" y="5751"/>
                  <a:pt x="4518" y="5683"/>
                  <a:pt x="4539" y="5631"/>
                </a:cubicBezTo>
                <a:cubicBezTo>
                  <a:pt x="4568" y="5559"/>
                  <a:pt x="4570" y="5479"/>
                  <a:pt x="4539" y="5407"/>
                </a:cubicBezTo>
                <a:cubicBezTo>
                  <a:pt x="4513" y="5347"/>
                  <a:pt x="4469" y="5315"/>
                  <a:pt x="4415" y="5283"/>
                </a:cubicBezTo>
                <a:cubicBezTo>
                  <a:pt x="4354" y="5247"/>
                  <a:pt x="4358" y="5266"/>
                  <a:pt x="4316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sson 2.3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iding polynomials by long divi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5"/>
          <p:cNvSpPr/>
          <p:nvPr/>
        </p:nvSpPr>
        <p:spPr>
          <a:xfrm>
            <a:off x="1643040" y="3106800"/>
            <a:ext cx="2152800" cy="723960"/>
          </a:xfrm>
          <a:custGeom>
            <a:avLst/>
            <a:gdLst/>
            <a:ahLst/>
            <a:rect l="l" t="t" r="r" b="b"/>
            <a:pathLst>
              <a:path w="5979" h="2010">
                <a:moveTo>
                  <a:pt x="4564" y="9699"/>
                </a:moveTo>
                <a:cubicBezTo>
                  <a:pt x="4610" y="9653"/>
                  <a:pt x="4622" y="9628"/>
                  <a:pt x="4688" y="9624"/>
                </a:cubicBezTo>
                <a:cubicBezTo>
                  <a:pt x="4734" y="9621"/>
                  <a:pt x="4819" y="9612"/>
                  <a:pt x="4837" y="9674"/>
                </a:cubicBezTo>
                <a:cubicBezTo>
                  <a:pt x="4854" y="9731"/>
                  <a:pt x="4793" y="9805"/>
                  <a:pt x="4762" y="9847"/>
                </a:cubicBezTo>
                <a:cubicBezTo>
                  <a:pt x="4723" y="9899"/>
                  <a:pt x="4531" y="9892"/>
                  <a:pt x="4589" y="9922"/>
                </a:cubicBezTo>
                <a:cubicBezTo>
                  <a:pt x="4649" y="9953"/>
                  <a:pt x="4699" y="9914"/>
                  <a:pt x="4762" y="9971"/>
                </a:cubicBezTo>
                <a:cubicBezTo>
                  <a:pt x="4813" y="10017"/>
                  <a:pt x="4856" y="10060"/>
                  <a:pt x="4887" y="10120"/>
                </a:cubicBezTo>
                <a:cubicBezTo>
                  <a:pt x="4911" y="10166"/>
                  <a:pt x="4925" y="10263"/>
                  <a:pt x="4862" y="10294"/>
                </a:cubicBezTo>
                <a:cubicBezTo>
                  <a:pt x="4807" y="10321"/>
                  <a:pt x="4728" y="10319"/>
                  <a:pt x="4663" y="10319"/>
                </a:cubicBezTo>
                <a:cubicBezTo>
                  <a:pt x="4602" y="10319"/>
                  <a:pt x="4578" y="10300"/>
                  <a:pt x="4564" y="10244"/>
                </a:cubicBezTo>
              </a:path>
              <a:path w="5979" h="2010">
                <a:moveTo>
                  <a:pt x="5407" y="9847"/>
                </a:moveTo>
                <a:cubicBezTo>
                  <a:pt x="5385" y="10031"/>
                  <a:pt x="5383" y="10207"/>
                  <a:pt x="5383" y="10393"/>
                </a:cubicBezTo>
                <a:cubicBezTo>
                  <a:pt x="5383" y="10443"/>
                  <a:pt x="5401" y="10480"/>
                  <a:pt x="5407" y="10517"/>
                </a:cubicBezTo>
                <a:cubicBezTo>
                  <a:pt x="5412" y="10438"/>
                  <a:pt x="5420" y="10372"/>
                  <a:pt x="5432" y="10294"/>
                </a:cubicBezTo>
                <a:cubicBezTo>
                  <a:pt x="5448" y="10187"/>
                  <a:pt x="5444" y="10079"/>
                  <a:pt x="5457" y="9971"/>
                </a:cubicBezTo>
                <a:cubicBezTo>
                  <a:pt x="5468" y="9878"/>
                  <a:pt x="5480" y="9793"/>
                  <a:pt x="5482" y="9699"/>
                </a:cubicBezTo>
                <a:cubicBezTo>
                  <a:pt x="5484" y="9620"/>
                  <a:pt x="5501" y="9547"/>
                  <a:pt x="5507" y="9475"/>
                </a:cubicBezTo>
                <a:cubicBezTo>
                  <a:pt x="5514" y="9395"/>
                  <a:pt x="5520" y="9406"/>
                  <a:pt x="5531" y="9351"/>
                </a:cubicBezTo>
                <a:cubicBezTo>
                  <a:pt x="6203" y="9351"/>
                  <a:pt x="6871" y="9376"/>
                  <a:pt x="7541" y="9376"/>
                </a:cubicBezTo>
                <a:cubicBezTo>
                  <a:pt x="7915" y="9376"/>
                  <a:pt x="8287" y="9379"/>
                  <a:pt x="8657" y="9401"/>
                </a:cubicBezTo>
                <a:cubicBezTo>
                  <a:pt x="8994" y="9421"/>
                  <a:pt x="9322" y="9403"/>
                  <a:pt x="9649" y="9451"/>
                </a:cubicBezTo>
                <a:cubicBezTo>
                  <a:pt x="9903" y="9488"/>
                  <a:pt x="10259" y="9479"/>
                  <a:pt x="10492" y="9401"/>
                </a:cubicBezTo>
                <a:cubicBezTo>
                  <a:pt x="10534" y="9401"/>
                  <a:pt x="10550" y="9409"/>
                  <a:pt x="10542" y="9376"/>
                </a:cubicBezTo>
              </a:path>
              <a:path w="5979" h="2010">
                <a:moveTo>
                  <a:pt x="6400" y="9748"/>
                </a:moveTo>
                <a:cubicBezTo>
                  <a:pt x="6387" y="9646"/>
                  <a:pt x="6376" y="9649"/>
                  <a:pt x="6276" y="9649"/>
                </a:cubicBezTo>
                <a:cubicBezTo>
                  <a:pt x="6199" y="9649"/>
                  <a:pt x="6148" y="9649"/>
                  <a:pt x="6077" y="9674"/>
                </a:cubicBezTo>
                <a:cubicBezTo>
                  <a:pt x="6027" y="9692"/>
                  <a:pt x="5927" y="9719"/>
                  <a:pt x="5953" y="9798"/>
                </a:cubicBezTo>
                <a:cubicBezTo>
                  <a:pt x="5967" y="9839"/>
                  <a:pt x="6049" y="9917"/>
                  <a:pt x="6077" y="9947"/>
                </a:cubicBezTo>
                <a:cubicBezTo>
                  <a:pt x="6159" y="10033"/>
                  <a:pt x="6217" y="10068"/>
                  <a:pt x="6276" y="10170"/>
                </a:cubicBezTo>
                <a:cubicBezTo>
                  <a:pt x="6323" y="10252"/>
                  <a:pt x="6399" y="10339"/>
                  <a:pt x="6375" y="10443"/>
                </a:cubicBezTo>
                <a:cubicBezTo>
                  <a:pt x="6360" y="10507"/>
                  <a:pt x="6237" y="10504"/>
                  <a:pt x="6201" y="10468"/>
                </a:cubicBezTo>
                <a:cubicBezTo>
                  <a:pt x="6168" y="10436"/>
                  <a:pt x="6112" y="10314"/>
                  <a:pt x="6102" y="10269"/>
                </a:cubicBezTo>
                <a:cubicBezTo>
                  <a:pt x="6082" y="10180"/>
                  <a:pt x="6162" y="10074"/>
                  <a:pt x="6201" y="9996"/>
                </a:cubicBezTo>
                <a:cubicBezTo>
                  <a:pt x="6241" y="9916"/>
                  <a:pt x="6311" y="9851"/>
                  <a:pt x="6375" y="9798"/>
                </a:cubicBezTo>
                <a:cubicBezTo>
                  <a:pt x="6383" y="9790"/>
                  <a:pt x="6392" y="9781"/>
                  <a:pt x="6400" y="9773"/>
                </a:cubicBezTo>
              </a:path>
              <a:path w="5979" h="2010">
                <a:moveTo>
                  <a:pt x="7020" y="9847"/>
                </a:moveTo>
                <a:cubicBezTo>
                  <a:pt x="7028" y="9855"/>
                  <a:pt x="7037" y="9864"/>
                  <a:pt x="7045" y="9872"/>
                </a:cubicBezTo>
                <a:cubicBezTo>
                  <a:pt x="7038" y="9822"/>
                  <a:pt x="7016" y="9744"/>
                  <a:pt x="6995" y="9699"/>
                </a:cubicBezTo>
                <a:cubicBezTo>
                  <a:pt x="6963" y="9631"/>
                  <a:pt x="6899" y="9644"/>
                  <a:pt x="6846" y="9674"/>
                </a:cubicBezTo>
                <a:cubicBezTo>
                  <a:pt x="6773" y="9715"/>
                  <a:pt x="6717" y="9779"/>
                  <a:pt x="6672" y="9847"/>
                </a:cubicBezTo>
                <a:cubicBezTo>
                  <a:pt x="6627" y="9916"/>
                  <a:pt x="6639" y="10032"/>
                  <a:pt x="6722" y="10071"/>
                </a:cubicBezTo>
                <a:cubicBezTo>
                  <a:pt x="6767" y="10092"/>
                  <a:pt x="6890" y="10050"/>
                  <a:pt x="6921" y="10021"/>
                </a:cubicBezTo>
                <a:cubicBezTo>
                  <a:pt x="6972" y="9973"/>
                  <a:pt x="6970" y="9900"/>
                  <a:pt x="6995" y="9847"/>
                </a:cubicBezTo>
                <a:cubicBezTo>
                  <a:pt x="7020" y="9823"/>
                  <a:pt x="7028" y="9815"/>
                  <a:pt x="6995" y="9798"/>
                </a:cubicBezTo>
                <a:cubicBezTo>
                  <a:pt x="6985" y="9883"/>
                  <a:pt x="6989" y="9989"/>
                  <a:pt x="6970" y="10071"/>
                </a:cubicBezTo>
                <a:cubicBezTo>
                  <a:pt x="6951" y="10152"/>
                  <a:pt x="6970" y="10228"/>
                  <a:pt x="6970" y="10319"/>
                </a:cubicBezTo>
                <a:cubicBezTo>
                  <a:pt x="6970" y="10349"/>
                  <a:pt x="6973" y="10506"/>
                  <a:pt x="6995" y="10517"/>
                </a:cubicBezTo>
                <a:cubicBezTo>
                  <a:pt x="7003" y="10509"/>
                  <a:pt x="7012" y="10500"/>
                  <a:pt x="7020" y="10492"/>
                </a:cubicBezTo>
              </a:path>
              <a:path w="5979" h="2010">
                <a:moveTo>
                  <a:pt x="7243" y="10418"/>
                </a:moveTo>
                <a:cubicBezTo>
                  <a:pt x="7236" y="10494"/>
                  <a:pt x="7218" y="10717"/>
                  <a:pt x="7218" y="10641"/>
                </a:cubicBezTo>
                <a:cubicBezTo>
                  <a:pt x="7218" y="10625"/>
                  <a:pt x="7218" y="10608"/>
                  <a:pt x="7218" y="10592"/>
                </a:cubicBezTo>
              </a:path>
              <a:path w="5979" h="2010">
                <a:moveTo>
                  <a:pt x="7541" y="9699"/>
                </a:moveTo>
                <a:cubicBezTo>
                  <a:pt x="7613" y="9718"/>
                  <a:pt x="7693" y="9736"/>
                  <a:pt x="7764" y="9748"/>
                </a:cubicBezTo>
                <a:cubicBezTo>
                  <a:pt x="7818" y="9757"/>
                  <a:pt x="8014" y="9712"/>
                  <a:pt x="8037" y="9773"/>
                </a:cubicBezTo>
                <a:cubicBezTo>
                  <a:pt x="8060" y="9832"/>
                  <a:pt x="7995" y="9960"/>
                  <a:pt x="7987" y="10021"/>
                </a:cubicBezTo>
                <a:cubicBezTo>
                  <a:pt x="7972" y="10131"/>
                  <a:pt x="7962" y="10232"/>
                  <a:pt x="7962" y="10344"/>
                </a:cubicBezTo>
                <a:cubicBezTo>
                  <a:pt x="7962" y="10391"/>
                  <a:pt x="7953" y="10477"/>
                  <a:pt x="7987" y="10443"/>
                </a:cubicBezTo>
              </a:path>
              <a:path w="5979" h="2010">
                <a:moveTo>
                  <a:pt x="8409" y="9723"/>
                </a:moveTo>
                <a:cubicBezTo>
                  <a:pt x="8459" y="9723"/>
                  <a:pt x="8690" y="9754"/>
                  <a:pt x="8731" y="9699"/>
                </a:cubicBezTo>
                <a:cubicBezTo>
                  <a:pt x="8731" y="9691"/>
                  <a:pt x="8731" y="9682"/>
                  <a:pt x="8731" y="9674"/>
                </a:cubicBezTo>
              </a:path>
              <a:path w="5979" h="2010">
                <a:moveTo>
                  <a:pt x="8409" y="9699"/>
                </a:moveTo>
                <a:cubicBezTo>
                  <a:pt x="8347" y="9798"/>
                  <a:pt x="8322" y="9808"/>
                  <a:pt x="8310" y="9897"/>
                </a:cubicBezTo>
                <a:cubicBezTo>
                  <a:pt x="8377" y="9938"/>
                  <a:pt x="8427" y="9901"/>
                  <a:pt x="8508" y="9897"/>
                </a:cubicBezTo>
                <a:cubicBezTo>
                  <a:pt x="8571" y="9894"/>
                  <a:pt x="8621" y="9943"/>
                  <a:pt x="8657" y="9996"/>
                </a:cubicBezTo>
                <a:cubicBezTo>
                  <a:pt x="8693" y="10050"/>
                  <a:pt x="8721" y="10133"/>
                  <a:pt x="8731" y="10195"/>
                </a:cubicBezTo>
                <a:cubicBezTo>
                  <a:pt x="8742" y="10259"/>
                  <a:pt x="8697" y="10324"/>
                  <a:pt x="8657" y="10368"/>
                </a:cubicBezTo>
                <a:cubicBezTo>
                  <a:pt x="8604" y="10427"/>
                  <a:pt x="8499" y="10387"/>
                  <a:pt x="8434" y="10368"/>
                </a:cubicBezTo>
                <a:cubicBezTo>
                  <a:pt x="8373" y="10348"/>
                  <a:pt x="8358" y="10351"/>
                  <a:pt x="8334" y="10319"/>
                </a:cubicBezTo>
              </a:path>
              <a:path w="5979" h="2010">
                <a:moveTo>
                  <a:pt x="9128" y="9773"/>
                </a:moveTo>
                <a:cubicBezTo>
                  <a:pt x="9119" y="9867"/>
                  <a:pt x="9073" y="9889"/>
                  <a:pt x="9054" y="9971"/>
                </a:cubicBezTo>
                <a:cubicBezTo>
                  <a:pt x="9039" y="10034"/>
                  <a:pt x="9089" y="10109"/>
                  <a:pt x="9153" y="10120"/>
                </a:cubicBezTo>
                <a:cubicBezTo>
                  <a:pt x="9215" y="10131"/>
                  <a:pt x="9255" y="10123"/>
                  <a:pt x="9302" y="10096"/>
                </a:cubicBezTo>
              </a:path>
              <a:path w="5979" h="2010">
                <a:moveTo>
                  <a:pt x="9401" y="9674"/>
                </a:moveTo>
                <a:cubicBezTo>
                  <a:pt x="9364" y="9819"/>
                  <a:pt x="9294" y="9994"/>
                  <a:pt x="9277" y="10145"/>
                </a:cubicBezTo>
                <a:cubicBezTo>
                  <a:pt x="9264" y="10260"/>
                  <a:pt x="9310" y="10386"/>
                  <a:pt x="9302" y="10492"/>
                </a:cubicBezTo>
                <a:cubicBezTo>
                  <a:pt x="9294" y="10517"/>
                  <a:pt x="9285" y="10542"/>
                  <a:pt x="9277" y="10567"/>
                </a:cubicBezTo>
              </a:path>
              <a:path w="5979" h="2010">
                <a:moveTo>
                  <a:pt x="5904" y="8731"/>
                </a:moveTo>
                <a:cubicBezTo>
                  <a:pt x="5896" y="8739"/>
                  <a:pt x="5887" y="8748"/>
                  <a:pt x="5879" y="8756"/>
                </a:cubicBezTo>
                <a:cubicBezTo>
                  <a:pt x="5885" y="8718"/>
                  <a:pt x="5901" y="8647"/>
                  <a:pt x="5953" y="8632"/>
                </a:cubicBezTo>
                <a:cubicBezTo>
                  <a:pt x="6046" y="8605"/>
                  <a:pt x="6072" y="8649"/>
                  <a:pt x="6077" y="8731"/>
                </a:cubicBezTo>
                <a:cubicBezTo>
                  <a:pt x="6082" y="8812"/>
                  <a:pt x="6082" y="8849"/>
                  <a:pt x="6077" y="8930"/>
                </a:cubicBezTo>
                <a:cubicBezTo>
                  <a:pt x="6073" y="8999"/>
                  <a:pt x="6050" y="9051"/>
                  <a:pt x="6003" y="9103"/>
                </a:cubicBezTo>
                <a:cubicBezTo>
                  <a:pt x="5962" y="9149"/>
                  <a:pt x="5901" y="9147"/>
                  <a:pt x="5854" y="9128"/>
                </a:cubicBezTo>
                <a:cubicBezTo>
                  <a:pt x="5767" y="9092"/>
                  <a:pt x="5804" y="9034"/>
                  <a:pt x="5854" y="8979"/>
                </a:cubicBezTo>
                <a:cubicBezTo>
                  <a:pt x="5918" y="8907"/>
                  <a:pt x="5992" y="9010"/>
                  <a:pt x="6028" y="9054"/>
                </a:cubicBezTo>
                <a:cubicBezTo>
                  <a:pt x="6066" y="9101"/>
                  <a:pt x="6091" y="9155"/>
                  <a:pt x="6127" y="9203"/>
                </a:cubicBezTo>
                <a:cubicBezTo>
                  <a:pt x="6164" y="9251"/>
                  <a:pt x="6185" y="9264"/>
                  <a:pt x="6201" y="9203"/>
                </a:cubicBezTo>
              </a:path>
              <a:path w="5979" h="2010">
                <a:moveTo>
                  <a:pt x="7491" y="9004"/>
                </a:moveTo>
                <a:cubicBezTo>
                  <a:pt x="7517" y="8960"/>
                  <a:pt x="7549" y="8888"/>
                  <a:pt x="7541" y="8830"/>
                </a:cubicBezTo>
                <a:cubicBezTo>
                  <a:pt x="7524" y="8710"/>
                  <a:pt x="7493" y="8701"/>
                  <a:pt x="7417" y="8657"/>
                </a:cubicBezTo>
                <a:cubicBezTo>
                  <a:pt x="7379" y="8635"/>
                  <a:pt x="7227" y="8653"/>
                  <a:pt x="7193" y="8706"/>
                </a:cubicBezTo>
                <a:cubicBezTo>
                  <a:pt x="7157" y="8761"/>
                  <a:pt x="7217" y="8881"/>
                  <a:pt x="7268" y="8905"/>
                </a:cubicBezTo>
                <a:cubicBezTo>
                  <a:pt x="7327" y="8933"/>
                  <a:pt x="7401" y="8892"/>
                  <a:pt x="7441" y="8855"/>
                </a:cubicBezTo>
                <a:cubicBezTo>
                  <a:pt x="7466" y="8830"/>
                  <a:pt x="7474" y="8822"/>
                  <a:pt x="7491" y="8806"/>
                </a:cubicBezTo>
                <a:cubicBezTo>
                  <a:pt x="7483" y="8882"/>
                  <a:pt x="7466" y="8925"/>
                  <a:pt x="7466" y="9004"/>
                </a:cubicBezTo>
                <a:cubicBezTo>
                  <a:pt x="7466" y="9108"/>
                  <a:pt x="7498" y="9178"/>
                  <a:pt x="7516" y="9277"/>
                </a:cubicBezTo>
                <a:cubicBezTo>
                  <a:pt x="7524" y="9322"/>
                  <a:pt x="7559" y="9369"/>
                  <a:pt x="7516" y="9327"/>
                </a:cubicBezTo>
              </a:path>
              <a:path w="5979" h="2010">
                <a:moveTo>
                  <a:pt x="8310" y="8632"/>
                </a:moveTo>
                <a:cubicBezTo>
                  <a:pt x="8268" y="8715"/>
                  <a:pt x="8255" y="8769"/>
                  <a:pt x="8235" y="8855"/>
                </a:cubicBezTo>
                <a:cubicBezTo>
                  <a:pt x="8216" y="8936"/>
                  <a:pt x="8189" y="9042"/>
                  <a:pt x="8210" y="9128"/>
                </a:cubicBezTo>
                <a:cubicBezTo>
                  <a:pt x="8223" y="9184"/>
                  <a:pt x="8250" y="9253"/>
                  <a:pt x="8260" y="9302"/>
                </a:cubicBezTo>
                <a:cubicBezTo>
                  <a:pt x="8260" y="9343"/>
                  <a:pt x="8260" y="9351"/>
                  <a:pt x="8260" y="9376"/>
                </a:cubicBezTo>
              </a:path>
              <a:path w="5979" h="2010">
                <a:moveTo>
                  <a:pt x="9054" y="8756"/>
                </a:moveTo>
                <a:cubicBezTo>
                  <a:pt x="9037" y="8706"/>
                  <a:pt x="8987" y="8661"/>
                  <a:pt x="8905" y="8682"/>
                </a:cubicBezTo>
                <a:cubicBezTo>
                  <a:pt x="8848" y="8697"/>
                  <a:pt x="8803" y="8709"/>
                  <a:pt x="8756" y="8756"/>
                </a:cubicBezTo>
                <a:cubicBezTo>
                  <a:pt x="8767" y="8831"/>
                  <a:pt x="8792" y="8820"/>
                  <a:pt x="8830" y="8880"/>
                </a:cubicBezTo>
                <a:cubicBezTo>
                  <a:pt x="8870" y="8944"/>
                  <a:pt x="8924" y="8996"/>
                  <a:pt x="8979" y="9054"/>
                </a:cubicBezTo>
                <a:cubicBezTo>
                  <a:pt x="9057" y="9137"/>
                  <a:pt x="9065" y="9170"/>
                  <a:pt x="9029" y="9277"/>
                </a:cubicBezTo>
                <a:cubicBezTo>
                  <a:pt x="8959" y="9267"/>
                  <a:pt x="8923" y="9233"/>
                  <a:pt x="8905" y="9153"/>
                </a:cubicBezTo>
                <a:cubicBezTo>
                  <a:pt x="8887" y="9073"/>
                  <a:pt x="8954" y="8955"/>
                  <a:pt x="8979" y="8880"/>
                </a:cubicBezTo>
                <a:cubicBezTo>
                  <a:pt x="9008" y="8793"/>
                  <a:pt x="9009" y="8786"/>
                  <a:pt x="8979" y="8706"/>
                </a:cubicBezTo>
              </a:path>
              <a:path w="5979" h="2010">
                <a:moveTo>
                  <a:pt x="7193" y="9227"/>
                </a:moveTo>
                <a:cubicBezTo>
                  <a:pt x="7193" y="9320"/>
                  <a:pt x="7191" y="9412"/>
                  <a:pt x="7169" y="9500"/>
                </a:cubicBezTo>
                <a:cubicBezTo>
                  <a:pt x="7161" y="9525"/>
                  <a:pt x="7152" y="9550"/>
                  <a:pt x="7144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6"/>
          <p:cNvSpPr/>
          <p:nvPr/>
        </p:nvSpPr>
        <p:spPr>
          <a:xfrm>
            <a:off x="1990800" y="3098880"/>
            <a:ext cx="1519200" cy="3108240"/>
          </a:xfrm>
          <a:custGeom>
            <a:avLst/>
            <a:gdLst/>
            <a:ahLst/>
            <a:rect l="l" t="t" r="r" b="b"/>
            <a:pathLst>
              <a:path w="4218" h="8633">
                <a:moveTo>
                  <a:pt x="6226" y="10691"/>
                </a:moveTo>
                <a:cubicBezTo>
                  <a:pt x="6226" y="10752"/>
                  <a:pt x="6226" y="10835"/>
                  <a:pt x="6201" y="10889"/>
                </a:cubicBezTo>
                <a:cubicBezTo>
                  <a:pt x="6170" y="10956"/>
                  <a:pt x="6117" y="11008"/>
                  <a:pt x="6102" y="11088"/>
                </a:cubicBezTo>
                <a:cubicBezTo>
                  <a:pt x="6089" y="11156"/>
                  <a:pt x="6077" y="11214"/>
                  <a:pt x="6077" y="11286"/>
                </a:cubicBezTo>
                <a:cubicBezTo>
                  <a:pt x="6077" y="11342"/>
                  <a:pt x="6109" y="11444"/>
                  <a:pt x="6152" y="11485"/>
                </a:cubicBezTo>
                <a:cubicBezTo>
                  <a:pt x="6231" y="11560"/>
                  <a:pt x="6325" y="11581"/>
                  <a:pt x="6424" y="11534"/>
                </a:cubicBezTo>
                <a:cubicBezTo>
                  <a:pt x="6481" y="11507"/>
                  <a:pt x="6497" y="11439"/>
                  <a:pt x="6499" y="11385"/>
                </a:cubicBezTo>
                <a:cubicBezTo>
                  <a:pt x="6502" y="11321"/>
                  <a:pt x="6492" y="11216"/>
                  <a:pt x="6400" y="11237"/>
                </a:cubicBezTo>
                <a:cubicBezTo>
                  <a:pt x="6313" y="11257"/>
                  <a:pt x="6327" y="11305"/>
                  <a:pt x="6300" y="11361"/>
                </a:cubicBezTo>
                <a:cubicBezTo>
                  <a:pt x="6264" y="11434"/>
                  <a:pt x="6288" y="11457"/>
                  <a:pt x="6300" y="11534"/>
                </a:cubicBezTo>
                <a:cubicBezTo>
                  <a:pt x="6300" y="11551"/>
                  <a:pt x="6300" y="11567"/>
                  <a:pt x="6300" y="11584"/>
                </a:cubicBezTo>
              </a:path>
              <a:path w="4218" h="8633">
                <a:moveTo>
                  <a:pt x="5829" y="11658"/>
                </a:moveTo>
                <a:cubicBezTo>
                  <a:pt x="5930" y="11695"/>
                  <a:pt x="6026" y="11707"/>
                  <a:pt x="6127" y="11733"/>
                </a:cubicBezTo>
                <a:cubicBezTo>
                  <a:pt x="6212" y="11755"/>
                  <a:pt x="6284" y="11757"/>
                  <a:pt x="6375" y="11757"/>
                </a:cubicBezTo>
                <a:cubicBezTo>
                  <a:pt x="6472" y="11757"/>
                  <a:pt x="6559" y="11770"/>
                  <a:pt x="6648" y="11782"/>
                </a:cubicBezTo>
                <a:cubicBezTo>
                  <a:pt x="6717" y="11791"/>
                  <a:pt x="6787" y="11777"/>
                  <a:pt x="6846" y="11807"/>
                </a:cubicBezTo>
                <a:cubicBezTo>
                  <a:pt x="6888" y="11828"/>
                  <a:pt x="6945" y="11869"/>
                  <a:pt x="6995" y="11881"/>
                </a:cubicBezTo>
                <a:cubicBezTo>
                  <a:pt x="7047" y="11881"/>
                  <a:pt x="7063" y="11880"/>
                  <a:pt x="7020" y="11832"/>
                </a:cubicBezTo>
              </a:path>
              <a:path w="4218" h="8633">
                <a:moveTo>
                  <a:pt x="5531" y="11063"/>
                </a:moveTo>
                <a:cubicBezTo>
                  <a:pt x="5599" y="11063"/>
                  <a:pt x="5668" y="11068"/>
                  <a:pt x="5730" y="11088"/>
                </a:cubicBezTo>
                <a:cubicBezTo>
                  <a:pt x="5778" y="11111"/>
                  <a:pt x="5792" y="11119"/>
                  <a:pt x="5829" y="11112"/>
                </a:cubicBezTo>
              </a:path>
              <a:path w="4218" h="8633">
                <a:moveTo>
                  <a:pt x="6127" y="11881"/>
                </a:moveTo>
                <a:cubicBezTo>
                  <a:pt x="6196" y="11863"/>
                  <a:pt x="6357" y="11813"/>
                  <a:pt x="6424" y="11832"/>
                </a:cubicBezTo>
                <a:cubicBezTo>
                  <a:pt x="6501" y="11854"/>
                  <a:pt x="6518" y="11932"/>
                  <a:pt x="6499" y="12005"/>
                </a:cubicBezTo>
                <a:cubicBezTo>
                  <a:pt x="6475" y="12096"/>
                  <a:pt x="6442" y="12128"/>
                  <a:pt x="6375" y="12179"/>
                </a:cubicBezTo>
                <a:cubicBezTo>
                  <a:pt x="6355" y="12194"/>
                  <a:pt x="6283" y="12277"/>
                  <a:pt x="6276" y="12303"/>
                </a:cubicBezTo>
                <a:cubicBezTo>
                  <a:pt x="6255" y="12377"/>
                  <a:pt x="6321" y="12399"/>
                  <a:pt x="6375" y="12402"/>
                </a:cubicBezTo>
                <a:cubicBezTo>
                  <a:pt x="6445" y="12406"/>
                  <a:pt x="6499" y="12427"/>
                  <a:pt x="6573" y="12427"/>
                </a:cubicBezTo>
                <a:cubicBezTo>
                  <a:pt x="6623" y="12427"/>
                  <a:pt x="6639" y="12427"/>
                  <a:pt x="6672" y="12427"/>
                </a:cubicBezTo>
              </a:path>
              <a:path w="4218" h="8633">
                <a:moveTo>
                  <a:pt x="6945" y="10641"/>
                </a:moveTo>
                <a:cubicBezTo>
                  <a:pt x="6945" y="10795"/>
                  <a:pt x="6953" y="10939"/>
                  <a:pt x="6970" y="11088"/>
                </a:cubicBezTo>
                <a:cubicBezTo>
                  <a:pt x="6984" y="11206"/>
                  <a:pt x="7000" y="11318"/>
                  <a:pt x="7020" y="11435"/>
                </a:cubicBezTo>
                <a:cubicBezTo>
                  <a:pt x="7030" y="11494"/>
                  <a:pt x="7018" y="11538"/>
                  <a:pt x="6995" y="11584"/>
                </a:cubicBezTo>
              </a:path>
              <a:path w="4218" h="8633">
                <a:moveTo>
                  <a:pt x="6796" y="11336"/>
                </a:moveTo>
                <a:cubicBezTo>
                  <a:pt x="6834" y="11401"/>
                  <a:pt x="6859" y="11470"/>
                  <a:pt x="6896" y="11534"/>
                </a:cubicBezTo>
                <a:cubicBezTo>
                  <a:pt x="6930" y="11594"/>
                  <a:pt x="7001" y="11646"/>
                  <a:pt x="7069" y="11633"/>
                </a:cubicBezTo>
                <a:cubicBezTo>
                  <a:pt x="7124" y="11622"/>
                  <a:pt x="7173" y="11561"/>
                  <a:pt x="7218" y="11534"/>
                </a:cubicBezTo>
                <a:cubicBezTo>
                  <a:pt x="7260" y="11509"/>
                  <a:pt x="7299" y="11471"/>
                  <a:pt x="7342" y="11460"/>
                </a:cubicBezTo>
              </a:path>
              <a:path w="4218" h="8633">
                <a:moveTo>
                  <a:pt x="7119" y="12179"/>
                </a:moveTo>
                <a:cubicBezTo>
                  <a:pt x="7127" y="12187"/>
                  <a:pt x="7136" y="12196"/>
                  <a:pt x="7144" y="12204"/>
                </a:cubicBezTo>
                <a:cubicBezTo>
                  <a:pt x="7174" y="12154"/>
                  <a:pt x="7191" y="12062"/>
                  <a:pt x="7144" y="12005"/>
                </a:cubicBezTo>
                <a:cubicBezTo>
                  <a:pt x="7106" y="11959"/>
                  <a:pt x="7037" y="11952"/>
                  <a:pt x="6995" y="11931"/>
                </a:cubicBezTo>
                <a:cubicBezTo>
                  <a:pt x="6946" y="11906"/>
                  <a:pt x="6917" y="11922"/>
                  <a:pt x="6871" y="11956"/>
                </a:cubicBezTo>
                <a:cubicBezTo>
                  <a:pt x="6880" y="12021"/>
                  <a:pt x="6898" y="12032"/>
                  <a:pt x="6945" y="12080"/>
                </a:cubicBezTo>
                <a:cubicBezTo>
                  <a:pt x="6985" y="12120"/>
                  <a:pt x="7072" y="12102"/>
                  <a:pt x="7119" y="12080"/>
                </a:cubicBezTo>
                <a:cubicBezTo>
                  <a:pt x="7127" y="12072"/>
                  <a:pt x="7136" y="12063"/>
                  <a:pt x="7144" y="12055"/>
                </a:cubicBezTo>
                <a:cubicBezTo>
                  <a:pt x="7136" y="12138"/>
                  <a:pt x="7099" y="12197"/>
                  <a:pt x="7094" y="12278"/>
                </a:cubicBezTo>
                <a:cubicBezTo>
                  <a:pt x="7090" y="12353"/>
                  <a:pt x="7115" y="12406"/>
                  <a:pt x="7119" y="12477"/>
                </a:cubicBezTo>
                <a:cubicBezTo>
                  <a:pt x="7119" y="12535"/>
                  <a:pt x="7119" y="12560"/>
                  <a:pt x="7119" y="12601"/>
                </a:cubicBezTo>
              </a:path>
              <a:path w="4218" h="8633">
                <a:moveTo>
                  <a:pt x="6697" y="8830"/>
                </a:moveTo>
                <a:cubicBezTo>
                  <a:pt x="6750" y="8779"/>
                  <a:pt x="6756" y="8769"/>
                  <a:pt x="6722" y="8706"/>
                </a:cubicBezTo>
                <a:cubicBezTo>
                  <a:pt x="6679" y="8626"/>
                  <a:pt x="6659" y="8605"/>
                  <a:pt x="6573" y="8632"/>
                </a:cubicBezTo>
                <a:cubicBezTo>
                  <a:pt x="6504" y="8653"/>
                  <a:pt x="6419" y="8674"/>
                  <a:pt x="6400" y="8756"/>
                </a:cubicBezTo>
                <a:cubicBezTo>
                  <a:pt x="6385" y="8822"/>
                  <a:pt x="6435" y="8890"/>
                  <a:pt x="6499" y="8905"/>
                </a:cubicBezTo>
                <a:cubicBezTo>
                  <a:pt x="6553" y="8918"/>
                  <a:pt x="6632" y="8912"/>
                  <a:pt x="6672" y="8880"/>
                </a:cubicBezTo>
                <a:cubicBezTo>
                  <a:pt x="6697" y="8855"/>
                  <a:pt x="6705" y="8847"/>
                  <a:pt x="6722" y="8830"/>
                </a:cubicBezTo>
                <a:cubicBezTo>
                  <a:pt x="6679" y="8916"/>
                  <a:pt x="6672" y="8958"/>
                  <a:pt x="6672" y="9054"/>
                </a:cubicBezTo>
                <a:cubicBezTo>
                  <a:pt x="6672" y="9121"/>
                  <a:pt x="6654" y="9224"/>
                  <a:pt x="6697" y="9252"/>
                </a:cubicBezTo>
              </a:path>
              <a:path w="4218" h="8633">
                <a:moveTo>
                  <a:pt x="6499" y="12849"/>
                </a:moveTo>
                <a:cubicBezTo>
                  <a:pt x="6541" y="12807"/>
                  <a:pt x="6577" y="12784"/>
                  <a:pt x="6623" y="12750"/>
                </a:cubicBezTo>
                <a:cubicBezTo>
                  <a:pt x="6681" y="12707"/>
                  <a:pt x="6719" y="12726"/>
                  <a:pt x="6772" y="12774"/>
                </a:cubicBezTo>
                <a:cubicBezTo>
                  <a:pt x="6850" y="12845"/>
                  <a:pt x="6807" y="12871"/>
                  <a:pt x="6796" y="12973"/>
                </a:cubicBezTo>
                <a:cubicBezTo>
                  <a:pt x="6782" y="13103"/>
                  <a:pt x="6743" y="13131"/>
                  <a:pt x="6672" y="13246"/>
                </a:cubicBezTo>
                <a:cubicBezTo>
                  <a:pt x="6641" y="13296"/>
                  <a:pt x="6615" y="13328"/>
                  <a:pt x="6573" y="13370"/>
                </a:cubicBezTo>
                <a:cubicBezTo>
                  <a:pt x="6545" y="13398"/>
                  <a:pt x="6532" y="13407"/>
                  <a:pt x="6499" y="13395"/>
                </a:cubicBezTo>
                <a:cubicBezTo>
                  <a:pt x="6489" y="13374"/>
                  <a:pt x="6474" y="13290"/>
                  <a:pt x="6524" y="13271"/>
                </a:cubicBezTo>
                <a:cubicBezTo>
                  <a:pt x="6621" y="13234"/>
                  <a:pt x="6633" y="13345"/>
                  <a:pt x="6672" y="13395"/>
                </a:cubicBezTo>
                <a:cubicBezTo>
                  <a:pt x="6728" y="13466"/>
                  <a:pt x="6755" y="13479"/>
                  <a:pt x="6821" y="13519"/>
                </a:cubicBezTo>
              </a:path>
              <a:path w="4218" h="8633">
                <a:moveTo>
                  <a:pt x="6995" y="12874"/>
                </a:moveTo>
                <a:cubicBezTo>
                  <a:pt x="7050" y="12841"/>
                  <a:pt x="7101" y="12849"/>
                  <a:pt x="7169" y="12849"/>
                </a:cubicBezTo>
                <a:cubicBezTo>
                  <a:pt x="7218" y="12849"/>
                  <a:pt x="7235" y="12849"/>
                  <a:pt x="7268" y="12849"/>
                </a:cubicBezTo>
                <a:cubicBezTo>
                  <a:pt x="7223" y="12927"/>
                  <a:pt x="7240" y="12963"/>
                  <a:pt x="7218" y="13047"/>
                </a:cubicBezTo>
                <a:cubicBezTo>
                  <a:pt x="7201" y="13111"/>
                  <a:pt x="7177" y="13175"/>
                  <a:pt x="7193" y="13246"/>
                </a:cubicBezTo>
                <a:cubicBezTo>
                  <a:pt x="7212" y="13335"/>
                  <a:pt x="7237" y="13404"/>
                  <a:pt x="7243" y="13494"/>
                </a:cubicBezTo>
                <a:cubicBezTo>
                  <a:pt x="7243" y="13502"/>
                  <a:pt x="7243" y="13511"/>
                  <a:pt x="7243" y="13519"/>
                </a:cubicBezTo>
              </a:path>
              <a:path w="4218" h="8633">
                <a:moveTo>
                  <a:pt x="6251" y="12849"/>
                </a:moveTo>
                <a:cubicBezTo>
                  <a:pt x="6332" y="12849"/>
                  <a:pt x="6395" y="12867"/>
                  <a:pt x="6474" y="12874"/>
                </a:cubicBezTo>
              </a:path>
              <a:path w="4218" h="8633">
                <a:moveTo>
                  <a:pt x="6449" y="13543"/>
                </a:moveTo>
                <a:cubicBezTo>
                  <a:pt x="6519" y="13569"/>
                  <a:pt x="6572" y="13568"/>
                  <a:pt x="6648" y="13568"/>
                </a:cubicBezTo>
                <a:cubicBezTo>
                  <a:pt x="6756" y="13568"/>
                  <a:pt x="6843" y="13581"/>
                  <a:pt x="6945" y="13593"/>
                </a:cubicBezTo>
                <a:cubicBezTo>
                  <a:pt x="7160" y="13618"/>
                  <a:pt x="7381" y="13583"/>
                  <a:pt x="7590" y="13618"/>
                </a:cubicBezTo>
                <a:cubicBezTo>
                  <a:pt x="7644" y="13627"/>
                  <a:pt x="7673" y="13618"/>
                  <a:pt x="7714" y="13593"/>
                </a:cubicBezTo>
              </a:path>
              <a:path w="4218" h="8633">
                <a:moveTo>
                  <a:pt x="7342" y="13841"/>
                </a:moveTo>
                <a:cubicBezTo>
                  <a:pt x="7399" y="13784"/>
                  <a:pt x="7430" y="13773"/>
                  <a:pt x="7491" y="13742"/>
                </a:cubicBezTo>
                <a:cubicBezTo>
                  <a:pt x="7527" y="13724"/>
                  <a:pt x="7620" y="13692"/>
                  <a:pt x="7640" y="13767"/>
                </a:cubicBezTo>
                <a:cubicBezTo>
                  <a:pt x="7657" y="13829"/>
                  <a:pt x="7641" y="13959"/>
                  <a:pt x="7615" y="14015"/>
                </a:cubicBezTo>
                <a:cubicBezTo>
                  <a:pt x="7598" y="14052"/>
                  <a:pt x="7569" y="14140"/>
                  <a:pt x="7541" y="14163"/>
                </a:cubicBezTo>
                <a:cubicBezTo>
                  <a:pt x="7462" y="14229"/>
                  <a:pt x="7468" y="14235"/>
                  <a:pt x="7392" y="14213"/>
                </a:cubicBezTo>
                <a:cubicBezTo>
                  <a:pt x="7395" y="14191"/>
                  <a:pt x="7419" y="14086"/>
                  <a:pt x="7466" y="14089"/>
                </a:cubicBezTo>
                <a:cubicBezTo>
                  <a:pt x="7530" y="14094"/>
                  <a:pt x="7589" y="14130"/>
                  <a:pt x="7615" y="14188"/>
                </a:cubicBezTo>
                <a:cubicBezTo>
                  <a:pt x="7652" y="14270"/>
                  <a:pt x="7694" y="14356"/>
                  <a:pt x="7739" y="14436"/>
                </a:cubicBezTo>
                <a:cubicBezTo>
                  <a:pt x="7769" y="14466"/>
                  <a:pt x="7780" y="14468"/>
                  <a:pt x="7789" y="14412"/>
                </a:cubicBezTo>
              </a:path>
              <a:path w="4218" h="8633">
                <a:moveTo>
                  <a:pt x="8062" y="10517"/>
                </a:moveTo>
                <a:cubicBezTo>
                  <a:pt x="8062" y="10669"/>
                  <a:pt x="8050" y="10815"/>
                  <a:pt x="8037" y="10964"/>
                </a:cubicBezTo>
                <a:cubicBezTo>
                  <a:pt x="8025" y="11112"/>
                  <a:pt x="8015" y="11262"/>
                  <a:pt x="8012" y="11410"/>
                </a:cubicBezTo>
                <a:cubicBezTo>
                  <a:pt x="8006" y="11693"/>
                  <a:pt x="8021" y="11973"/>
                  <a:pt x="8037" y="12254"/>
                </a:cubicBezTo>
                <a:cubicBezTo>
                  <a:pt x="8051" y="12502"/>
                  <a:pt x="8047" y="12751"/>
                  <a:pt x="8062" y="12998"/>
                </a:cubicBezTo>
                <a:cubicBezTo>
                  <a:pt x="8074" y="13187"/>
                  <a:pt x="8081" y="13421"/>
                  <a:pt x="8037" y="13593"/>
                </a:cubicBezTo>
                <a:cubicBezTo>
                  <a:pt x="7971" y="13480"/>
                  <a:pt x="7925" y="13375"/>
                  <a:pt x="7838" y="13271"/>
                </a:cubicBezTo>
                <a:cubicBezTo>
                  <a:pt x="7813" y="13246"/>
                  <a:pt x="7805" y="13238"/>
                  <a:pt x="7789" y="13221"/>
                </a:cubicBezTo>
                <a:cubicBezTo>
                  <a:pt x="7792" y="13272"/>
                  <a:pt x="7777" y="13352"/>
                  <a:pt x="7813" y="13419"/>
                </a:cubicBezTo>
                <a:cubicBezTo>
                  <a:pt x="7841" y="13470"/>
                  <a:pt x="7884" y="13561"/>
                  <a:pt x="7938" y="13593"/>
                </a:cubicBezTo>
                <a:cubicBezTo>
                  <a:pt x="8006" y="13633"/>
                  <a:pt x="8023" y="13611"/>
                  <a:pt x="8086" y="13568"/>
                </a:cubicBezTo>
                <a:cubicBezTo>
                  <a:pt x="8138" y="13533"/>
                  <a:pt x="8160" y="13472"/>
                  <a:pt x="8186" y="13419"/>
                </a:cubicBezTo>
                <a:cubicBezTo>
                  <a:pt x="8210" y="13370"/>
                  <a:pt x="8267" y="13319"/>
                  <a:pt x="8285" y="13271"/>
                </a:cubicBezTo>
                <a:cubicBezTo>
                  <a:pt x="8285" y="13254"/>
                  <a:pt x="8285" y="13238"/>
                  <a:pt x="8285" y="13221"/>
                </a:cubicBezTo>
              </a:path>
              <a:path w="4218" h="8633">
                <a:moveTo>
                  <a:pt x="8012" y="13866"/>
                </a:moveTo>
                <a:cubicBezTo>
                  <a:pt x="8060" y="13787"/>
                  <a:pt x="8033" y="13806"/>
                  <a:pt x="8111" y="13767"/>
                </a:cubicBezTo>
                <a:cubicBezTo>
                  <a:pt x="8158" y="13744"/>
                  <a:pt x="8176" y="13742"/>
                  <a:pt x="8235" y="13742"/>
                </a:cubicBezTo>
                <a:cubicBezTo>
                  <a:pt x="8235" y="13824"/>
                  <a:pt x="8224" y="13897"/>
                  <a:pt x="8210" y="13965"/>
                </a:cubicBezTo>
                <a:cubicBezTo>
                  <a:pt x="8188" y="14075"/>
                  <a:pt x="8217" y="14218"/>
                  <a:pt x="8235" y="14312"/>
                </a:cubicBezTo>
                <a:cubicBezTo>
                  <a:pt x="8235" y="14357"/>
                  <a:pt x="8232" y="14370"/>
                  <a:pt x="8260" y="14387"/>
                </a:cubicBezTo>
              </a:path>
              <a:path w="4218" h="8633">
                <a:moveTo>
                  <a:pt x="7739" y="14511"/>
                </a:moveTo>
                <a:cubicBezTo>
                  <a:pt x="7702" y="14511"/>
                  <a:pt x="7755" y="14474"/>
                  <a:pt x="7789" y="14436"/>
                </a:cubicBezTo>
                <a:cubicBezTo>
                  <a:pt x="7845" y="14374"/>
                  <a:pt x="7910" y="14387"/>
                  <a:pt x="7987" y="14387"/>
                </a:cubicBezTo>
                <a:cubicBezTo>
                  <a:pt x="8017" y="14474"/>
                  <a:pt x="8007" y="14506"/>
                  <a:pt x="7987" y="14585"/>
                </a:cubicBezTo>
                <a:cubicBezTo>
                  <a:pt x="7965" y="14674"/>
                  <a:pt x="7896" y="14765"/>
                  <a:pt x="7838" y="14833"/>
                </a:cubicBezTo>
                <a:cubicBezTo>
                  <a:pt x="7812" y="14863"/>
                  <a:pt x="7783" y="14945"/>
                  <a:pt x="7739" y="14957"/>
                </a:cubicBezTo>
                <a:cubicBezTo>
                  <a:pt x="7691" y="14971"/>
                  <a:pt x="7672" y="14956"/>
                  <a:pt x="7640" y="14932"/>
                </a:cubicBezTo>
                <a:cubicBezTo>
                  <a:pt x="7657" y="14902"/>
                  <a:pt x="7699" y="14819"/>
                  <a:pt x="7739" y="14808"/>
                </a:cubicBezTo>
                <a:cubicBezTo>
                  <a:pt x="7756" y="14808"/>
                  <a:pt x="7772" y="14808"/>
                  <a:pt x="7789" y="14808"/>
                </a:cubicBezTo>
                <a:cubicBezTo>
                  <a:pt x="7808" y="14861"/>
                  <a:pt x="7840" y="14969"/>
                  <a:pt x="7888" y="15007"/>
                </a:cubicBezTo>
                <a:cubicBezTo>
                  <a:pt x="7896" y="15007"/>
                  <a:pt x="7905" y="15007"/>
                  <a:pt x="7913" y="15007"/>
                </a:cubicBezTo>
              </a:path>
              <a:path w="4218" h="8633">
                <a:moveTo>
                  <a:pt x="8161" y="14635"/>
                </a:moveTo>
                <a:cubicBezTo>
                  <a:pt x="8214" y="14588"/>
                  <a:pt x="8277" y="14528"/>
                  <a:pt x="8359" y="14560"/>
                </a:cubicBezTo>
                <a:cubicBezTo>
                  <a:pt x="8427" y="14586"/>
                  <a:pt x="8365" y="14721"/>
                  <a:pt x="8359" y="14759"/>
                </a:cubicBezTo>
                <a:cubicBezTo>
                  <a:pt x="8349" y="14828"/>
                  <a:pt x="8334" y="14884"/>
                  <a:pt x="8334" y="14957"/>
                </a:cubicBezTo>
                <a:cubicBezTo>
                  <a:pt x="8334" y="15021"/>
                  <a:pt x="8335" y="15022"/>
                  <a:pt x="8310" y="15081"/>
                </a:cubicBezTo>
              </a:path>
              <a:path w="4218" h="8633">
                <a:moveTo>
                  <a:pt x="7441" y="14511"/>
                </a:moveTo>
                <a:cubicBezTo>
                  <a:pt x="7522" y="14511"/>
                  <a:pt x="7547" y="14543"/>
                  <a:pt x="7615" y="14585"/>
                </a:cubicBezTo>
              </a:path>
              <a:path w="4218" h="8633">
                <a:moveTo>
                  <a:pt x="8533" y="15081"/>
                </a:moveTo>
                <a:cubicBezTo>
                  <a:pt x="8452" y="15057"/>
                  <a:pt x="8395" y="15056"/>
                  <a:pt x="8310" y="15056"/>
                </a:cubicBezTo>
                <a:cubicBezTo>
                  <a:pt x="8163" y="15056"/>
                  <a:pt x="7999" y="15033"/>
                  <a:pt x="7863" y="15081"/>
                </a:cubicBezTo>
                <a:cubicBezTo>
                  <a:pt x="7798" y="15104"/>
                  <a:pt x="7719" y="15104"/>
                  <a:pt x="7665" y="15131"/>
                </a:cubicBezTo>
                <a:cubicBezTo>
                  <a:pt x="7657" y="15139"/>
                  <a:pt x="7648" y="15148"/>
                  <a:pt x="7640" y="15156"/>
                </a:cubicBezTo>
              </a:path>
              <a:path w="4218" h="8633">
                <a:moveTo>
                  <a:pt x="8781" y="10740"/>
                </a:moveTo>
                <a:cubicBezTo>
                  <a:pt x="8765" y="10832"/>
                  <a:pt x="8756" y="10917"/>
                  <a:pt x="8756" y="11013"/>
                </a:cubicBezTo>
                <a:cubicBezTo>
                  <a:pt x="8756" y="11158"/>
                  <a:pt x="8778" y="11292"/>
                  <a:pt x="8781" y="11435"/>
                </a:cubicBezTo>
                <a:cubicBezTo>
                  <a:pt x="8787" y="11699"/>
                  <a:pt x="8838" y="11966"/>
                  <a:pt x="8855" y="12229"/>
                </a:cubicBezTo>
                <a:cubicBezTo>
                  <a:pt x="8868" y="12426"/>
                  <a:pt x="8862" y="12628"/>
                  <a:pt x="8880" y="12824"/>
                </a:cubicBezTo>
                <a:cubicBezTo>
                  <a:pt x="8897" y="13008"/>
                  <a:pt x="8905" y="13184"/>
                  <a:pt x="8905" y="13370"/>
                </a:cubicBezTo>
                <a:cubicBezTo>
                  <a:pt x="8905" y="13529"/>
                  <a:pt x="8880" y="13681"/>
                  <a:pt x="8880" y="13841"/>
                </a:cubicBezTo>
                <a:cubicBezTo>
                  <a:pt x="8880" y="14008"/>
                  <a:pt x="8868" y="14179"/>
                  <a:pt x="8855" y="14337"/>
                </a:cubicBezTo>
                <a:cubicBezTo>
                  <a:pt x="8848" y="14427"/>
                  <a:pt x="8855" y="14520"/>
                  <a:pt x="8855" y="14610"/>
                </a:cubicBezTo>
                <a:cubicBezTo>
                  <a:pt x="8815" y="14555"/>
                  <a:pt x="8793" y="14490"/>
                  <a:pt x="8756" y="14436"/>
                </a:cubicBezTo>
                <a:cubicBezTo>
                  <a:pt x="8716" y="14378"/>
                  <a:pt x="8683" y="14385"/>
                  <a:pt x="8632" y="14362"/>
                </a:cubicBezTo>
                <a:cubicBezTo>
                  <a:pt x="8651" y="14418"/>
                  <a:pt x="8668" y="14503"/>
                  <a:pt x="8706" y="14560"/>
                </a:cubicBezTo>
                <a:cubicBezTo>
                  <a:pt x="8751" y="14627"/>
                  <a:pt x="8797" y="14634"/>
                  <a:pt x="8855" y="14684"/>
                </a:cubicBezTo>
                <a:cubicBezTo>
                  <a:pt x="8925" y="14745"/>
                  <a:pt x="8962" y="14787"/>
                  <a:pt x="9054" y="14734"/>
                </a:cubicBezTo>
                <a:cubicBezTo>
                  <a:pt x="9076" y="14691"/>
                  <a:pt x="9079" y="14679"/>
                  <a:pt x="9103" y="14660"/>
                </a:cubicBezTo>
              </a:path>
              <a:path w="4218" h="8633">
                <a:moveTo>
                  <a:pt x="8756" y="15230"/>
                </a:moveTo>
                <a:cubicBezTo>
                  <a:pt x="8843" y="15214"/>
                  <a:pt x="8922" y="15197"/>
                  <a:pt x="9004" y="15180"/>
                </a:cubicBezTo>
              </a:path>
              <a:path w="4218" h="8633">
                <a:moveTo>
                  <a:pt x="8781" y="15205"/>
                </a:moveTo>
                <a:cubicBezTo>
                  <a:pt x="8725" y="15261"/>
                  <a:pt x="8732" y="15283"/>
                  <a:pt x="8781" y="15354"/>
                </a:cubicBezTo>
                <a:cubicBezTo>
                  <a:pt x="8816" y="15405"/>
                  <a:pt x="8885" y="15405"/>
                  <a:pt x="8930" y="15429"/>
                </a:cubicBezTo>
                <a:cubicBezTo>
                  <a:pt x="8991" y="15461"/>
                  <a:pt x="9005" y="15555"/>
                  <a:pt x="8979" y="15627"/>
                </a:cubicBezTo>
                <a:cubicBezTo>
                  <a:pt x="8970" y="15652"/>
                  <a:pt x="8912" y="15742"/>
                  <a:pt x="8880" y="15751"/>
                </a:cubicBezTo>
                <a:cubicBezTo>
                  <a:pt x="8786" y="15778"/>
                  <a:pt x="8757" y="15690"/>
                  <a:pt x="8731" y="15627"/>
                </a:cubicBezTo>
              </a:path>
              <a:path w="4218" h="8633">
                <a:moveTo>
                  <a:pt x="8905" y="15900"/>
                </a:moveTo>
                <a:cubicBezTo>
                  <a:pt x="8937" y="15920"/>
                  <a:pt x="9015" y="15925"/>
                  <a:pt x="9029" y="15974"/>
                </a:cubicBezTo>
                <a:cubicBezTo>
                  <a:pt x="9053" y="16057"/>
                  <a:pt x="8990" y="16112"/>
                  <a:pt x="8930" y="16148"/>
                </a:cubicBezTo>
                <a:cubicBezTo>
                  <a:pt x="8878" y="16180"/>
                  <a:pt x="8840" y="16173"/>
                  <a:pt x="8781" y="16173"/>
                </a:cubicBezTo>
                <a:cubicBezTo>
                  <a:pt x="8856" y="16216"/>
                  <a:pt x="8886" y="16205"/>
                  <a:pt x="8930" y="16272"/>
                </a:cubicBezTo>
                <a:cubicBezTo>
                  <a:pt x="8963" y="16322"/>
                  <a:pt x="8962" y="16359"/>
                  <a:pt x="8905" y="16396"/>
                </a:cubicBezTo>
                <a:cubicBezTo>
                  <a:pt x="8829" y="16445"/>
                  <a:pt x="8801" y="16374"/>
                  <a:pt x="8756" y="16321"/>
                </a:cubicBezTo>
                <a:cubicBezTo>
                  <a:pt x="8748" y="16313"/>
                  <a:pt x="8739" y="16305"/>
                  <a:pt x="8731" y="16297"/>
                </a:cubicBezTo>
              </a:path>
              <a:path w="4218" h="8633">
                <a:moveTo>
                  <a:pt x="8434" y="15875"/>
                </a:moveTo>
                <a:cubicBezTo>
                  <a:pt x="8484" y="15916"/>
                  <a:pt x="8519" y="15945"/>
                  <a:pt x="8582" y="15949"/>
                </a:cubicBezTo>
                <a:cubicBezTo>
                  <a:pt x="8599" y="15949"/>
                  <a:pt x="8615" y="15949"/>
                  <a:pt x="8632" y="15949"/>
                </a:cubicBezTo>
              </a:path>
              <a:path w="4218" h="8633">
                <a:moveTo>
                  <a:pt x="9103" y="16421"/>
                </a:moveTo>
                <a:cubicBezTo>
                  <a:pt x="9014" y="16421"/>
                  <a:pt x="8914" y="16424"/>
                  <a:pt x="8830" y="16446"/>
                </a:cubicBezTo>
                <a:cubicBezTo>
                  <a:pt x="8762" y="16464"/>
                  <a:pt x="8716" y="16484"/>
                  <a:pt x="8657" y="16520"/>
                </a:cubicBezTo>
                <a:cubicBezTo>
                  <a:pt x="8607" y="16545"/>
                  <a:pt x="8591" y="16553"/>
                  <a:pt x="8558" y="16570"/>
                </a:cubicBezTo>
              </a:path>
              <a:path w="4218" h="8633">
                <a:moveTo>
                  <a:pt x="9004" y="16619"/>
                </a:moveTo>
                <a:cubicBezTo>
                  <a:pt x="9069" y="16647"/>
                  <a:pt x="9126" y="16663"/>
                  <a:pt x="9178" y="16694"/>
                </a:cubicBezTo>
                <a:cubicBezTo>
                  <a:pt x="9075" y="16694"/>
                  <a:pt x="8999" y="16658"/>
                  <a:pt x="9004" y="16743"/>
                </a:cubicBezTo>
                <a:cubicBezTo>
                  <a:pt x="9008" y="16802"/>
                  <a:pt x="9068" y="16865"/>
                  <a:pt x="9128" y="16892"/>
                </a:cubicBezTo>
                <a:cubicBezTo>
                  <a:pt x="9201" y="16916"/>
                  <a:pt x="9225" y="16925"/>
                  <a:pt x="9277" y="16917"/>
                </a:cubicBezTo>
              </a:path>
              <a:path w="4218" h="8633">
                <a:moveTo>
                  <a:pt x="9327" y="10765"/>
                </a:moveTo>
                <a:cubicBezTo>
                  <a:pt x="9327" y="10925"/>
                  <a:pt x="9321" y="11080"/>
                  <a:pt x="9351" y="11237"/>
                </a:cubicBezTo>
                <a:cubicBezTo>
                  <a:pt x="9401" y="11493"/>
                  <a:pt x="9459" y="11748"/>
                  <a:pt x="9500" y="12005"/>
                </a:cubicBezTo>
                <a:cubicBezTo>
                  <a:pt x="9540" y="12254"/>
                  <a:pt x="9590" y="12501"/>
                  <a:pt x="9624" y="12750"/>
                </a:cubicBezTo>
                <a:cubicBezTo>
                  <a:pt x="9662" y="13031"/>
                  <a:pt x="9675" y="13312"/>
                  <a:pt x="9699" y="13593"/>
                </a:cubicBezTo>
                <a:cubicBezTo>
                  <a:pt x="9721" y="13841"/>
                  <a:pt x="9711" y="14065"/>
                  <a:pt x="9699" y="14312"/>
                </a:cubicBezTo>
                <a:cubicBezTo>
                  <a:pt x="9689" y="14519"/>
                  <a:pt x="9678" y="14726"/>
                  <a:pt x="9674" y="14932"/>
                </a:cubicBezTo>
                <a:cubicBezTo>
                  <a:pt x="9671" y="15085"/>
                  <a:pt x="9637" y="15229"/>
                  <a:pt x="9624" y="15379"/>
                </a:cubicBezTo>
                <a:cubicBezTo>
                  <a:pt x="9614" y="15498"/>
                  <a:pt x="9599" y="15607"/>
                  <a:pt x="9575" y="15726"/>
                </a:cubicBezTo>
                <a:cubicBezTo>
                  <a:pt x="9559" y="15808"/>
                  <a:pt x="9563" y="15889"/>
                  <a:pt x="9550" y="15974"/>
                </a:cubicBezTo>
                <a:cubicBezTo>
                  <a:pt x="9542" y="16026"/>
                  <a:pt x="9504" y="16104"/>
                  <a:pt x="9500" y="16148"/>
                </a:cubicBezTo>
                <a:cubicBezTo>
                  <a:pt x="9493" y="16216"/>
                  <a:pt x="9488" y="16259"/>
                  <a:pt x="9475" y="16321"/>
                </a:cubicBezTo>
                <a:cubicBezTo>
                  <a:pt x="9449" y="16270"/>
                  <a:pt x="9426" y="16193"/>
                  <a:pt x="9401" y="16148"/>
                </a:cubicBezTo>
                <a:cubicBezTo>
                  <a:pt x="9382" y="16115"/>
                  <a:pt x="9348" y="16083"/>
                  <a:pt x="9327" y="16049"/>
                </a:cubicBezTo>
                <a:cubicBezTo>
                  <a:pt x="9321" y="16116"/>
                  <a:pt x="9312" y="16167"/>
                  <a:pt x="9327" y="16247"/>
                </a:cubicBezTo>
                <a:cubicBezTo>
                  <a:pt x="9341" y="16323"/>
                  <a:pt x="9370" y="16388"/>
                  <a:pt x="9426" y="16446"/>
                </a:cubicBezTo>
                <a:cubicBezTo>
                  <a:pt x="9464" y="16485"/>
                  <a:pt x="9521" y="16526"/>
                  <a:pt x="9575" y="16520"/>
                </a:cubicBezTo>
                <a:cubicBezTo>
                  <a:pt x="9685" y="16507"/>
                  <a:pt x="9608" y="16490"/>
                  <a:pt x="9649" y="16421"/>
                </a:cubicBezTo>
              </a:path>
              <a:path w="4218" h="8633">
                <a:moveTo>
                  <a:pt x="9500" y="16768"/>
                </a:moveTo>
                <a:cubicBezTo>
                  <a:pt x="9469" y="16819"/>
                  <a:pt x="9459" y="16866"/>
                  <a:pt x="9500" y="16917"/>
                </a:cubicBezTo>
                <a:cubicBezTo>
                  <a:pt x="9536" y="16962"/>
                  <a:pt x="9545" y="16958"/>
                  <a:pt x="9599" y="16966"/>
                </a:cubicBezTo>
              </a:path>
              <a:path w="4218" h="8633">
                <a:moveTo>
                  <a:pt x="9748" y="16669"/>
                </a:moveTo>
                <a:cubicBezTo>
                  <a:pt x="9714" y="16763"/>
                  <a:pt x="9658" y="16851"/>
                  <a:pt x="9624" y="16942"/>
                </a:cubicBezTo>
                <a:cubicBezTo>
                  <a:pt x="9585" y="17045"/>
                  <a:pt x="9550" y="17139"/>
                  <a:pt x="9500" y="172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7"/>
          <p:cNvSpPr/>
          <p:nvPr/>
        </p:nvSpPr>
        <p:spPr>
          <a:xfrm>
            <a:off x="6715080" y="3143160"/>
            <a:ext cx="812880" cy="3214800"/>
          </a:xfrm>
          <a:custGeom>
            <a:avLst/>
            <a:gdLst/>
            <a:ahLst/>
            <a:rect l="l" t="t" r="r" b="b"/>
            <a:pathLst>
              <a:path w="2258" h="8931">
                <a:moveTo>
                  <a:pt x="19025" y="14412"/>
                </a:moveTo>
                <a:cubicBezTo>
                  <a:pt x="19025" y="14484"/>
                  <a:pt x="19011" y="14551"/>
                  <a:pt x="19000" y="14610"/>
                </a:cubicBezTo>
                <a:cubicBezTo>
                  <a:pt x="18988" y="14673"/>
                  <a:pt x="18986" y="14747"/>
                  <a:pt x="18976" y="14808"/>
                </a:cubicBezTo>
                <a:cubicBezTo>
                  <a:pt x="18967" y="14863"/>
                  <a:pt x="18976" y="14926"/>
                  <a:pt x="18976" y="14982"/>
                </a:cubicBezTo>
              </a:path>
              <a:path w="2258" h="8931">
                <a:moveTo>
                  <a:pt x="19596" y="14114"/>
                </a:moveTo>
                <a:cubicBezTo>
                  <a:pt x="19510" y="14125"/>
                  <a:pt x="19444" y="14158"/>
                  <a:pt x="19372" y="14213"/>
                </a:cubicBezTo>
                <a:cubicBezTo>
                  <a:pt x="19325" y="14249"/>
                  <a:pt x="19259" y="14291"/>
                  <a:pt x="19224" y="14337"/>
                </a:cubicBezTo>
                <a:cubicBezTo>
                  <a:pt x="19181" y="14394"/>
                  <a:pt x="19194" y="14481"/>
                  <a:pt x="19224" y="14511"/>
                </a:cubicBezTo>
                <a:cubicBezTo>
                  <a:pt x="19261" y="14548"/>
                  <a:pt x="19346" y="14621"/>
                  <a:pt x="19397" y="14635"/>
                </a:cubicBezTo>
                <a:cubicBezTo>
                  <a:pt x="19476" y="14656"/>
                  <a:pt x="19480" y="14674"/>
                  <a:pt x="19472" y="14734"/>
                </a:cubicBezTo>
                <a:cubicBezTo>
                  <a:pt x="19464" y="14793"/>
                  <a:pt x="19476" y="14809"/>
                  <a:pt x="19447" y="14858"/>
                </a:cubicBezTo>
                <a:cubicBezTo>
                  <a:pt x="19368" y="14848"/>
                  <a:pt x="19327" y="14845"/>
                  <a:pt x="19323" y="14759"/>
                </a:cubicBezTo>
                <a:cubicBezTo>
                  <a:pt x="19319" y="14677"/>
                  <a:pt x="19348" y="14590"/>
                  <a:pt x="19372" y="14511"/>
                </a:cubicBezTo>
                <a:cubicBezTo>
                  <a:pt x="19394" y="14444"/>
                  <a:pt x="19399" y="14426"/>
                  <a:pt x="19422" y="14387"/>
                </a:cubicBezTo>
              </a:path>
              <a:path w="2258" h="8931">
                <a:moveTo>
                  <a:pt x="18653" y="14560"/>
                </a:moveTo>
                <a:cubicBezTo>
                  <a:pt x="18722" y="14594"/>
                  <a:pt x="18793" y="14585"/>
                  <a:pt x="18876" y="14585"/>
                </a:cubicBezTo>
              </a:path>
              <a:path w="2258" h="8931">
                <a:moveTo>
                  <a:pt x="18802" y="15230"/>
                </a:moveTo>
                <a:cubicBezTo>
                  <a:pt x="18850" y="15201"/>
                  <a:pt x="18895" y="15185"/>
                  <a:pt x="18951" y="15156"/>
                </a:cubicBezTo>
                <a:cubicBezTo>
                  <a:pt x="19007" y="15127"/>
                  <a:pt x="19061" y="15070"/>
                  <a:pt x="19124" y="15056"/>
                </a:cubicBezTo>
                <a:cubicBezTo>
                  <a:pt x="19188" y="15042"/>
                  <a:pt x="19261" y="15028"/>
                  <a:pt x="19323" y="15007"/>
                </a:cubicBezTo>
                <a:cubicBezTo>
                  <a:pt x="19413" y="14977"/>
                  <a:pt x="19487" y="14973"/>
                  <a:pt x="19571" y="14982"/>
                </a:cubicBezTo>
                <a:cubicBezTo>
                  <a:pt x="19633" y="14989"/>
                  <a:pt x="19641" y="15019"/>
                  <a:pt x="19695" y="15032"/>
                </a:cubicBezTo>
              </a:path>
              <a:path w="2258" h="8931">
                <a:moveTo>
                  <a:pt x="19323" y="15354"/>
                </a:moveTo>
                <a:cubicBezTo>
                  <a:pt x="19388" y="15345"/>
                  <a:pt x="19399" y="15327"/>
                  <a:pt x="19447" y="15280"/>
                </a:cubicBezTo>
                <a:cubicBezTo>
                  <a:pt x="19490" y="15238"/>
                  <a:pt x="19557" y="15200"/>
                  <a:pt x="19596" y="15230"/>
                </a:cubicBezTo>
                <a:cubicBezTo>
                  <a:pt x="19634" y="15259"/>
                  <a:pt x="19634" y="15387"/>
                  <a:pt x="19621" y="15429"/>
                </a:cubicBezTo>
                <a:cubicBezTo>
                  <a:pt x="19605" y="15481"/>
                  <a:pt x="19580" y="15518"/>
                  <a:pt x="19571" y="15577"/>
                </a:cubicBezTo>
                <a:cubicBezTo>
                  <a:pt x="19604" y="15531"/>
                  <a:pt x="19662" y="15454"/>
                  <a:pt x="19720" y="15528"/>
                </a:cubicBezTo>
                <a:cubicBezTo>
                  <a:pt x="19753" y="15570"/>
                  <a:pt x="19759" y="15674"/>
                  <a:pt x="19745" y="15726"/>
                </a:cubicBezTo>
                <a:cubicBezTo>
                  <a:pt x="19723" y="15806"/>
                  <a:pt x="19708" y="15872"/>
                  <a:pt x="19670" y="15949"/>
                </a:cubicBezTo>
                <a:cubicBezTo>
                  <a:pt x="19636" y="16018"/>
                  <a:pt x="19607" y="16060"/>
                  <a:pt x="19571" y="16123"/>
                </a:cubicBezTo>
              </a:path>
              <a:path w="2258" h="8931">
                <a:moveTo>
                  <a:pt x="20489" y="10790"/>
                </a:moveTo>
                <a:cubicBezTo>
                  <a:pt x="20472" y="10856"/>
                  <a:pt x="20477" y="10916"/>
                  <a:pt x="20464" y="10988"/>
                </a:cubicBezTo>
                <a:cubicBezTo>
                  <a:pt x="20437" y="11136"/>
                  <a:pt x="20397" y="11288"/>
                  <a:pt x="20365" y="11435"/>
                </a:cubicBezTo>
                <a:cubicBezTo>
                  <a:pt x="20332" y="11582"/>
                  <a:pt x="20302" y="11731"/>
                  <a:pt x="20290" y="11881"/>
                </a:cubicBezTo>
                <a:cubicBezTo>
                  <a:pt x="20277" y="12047"/>
                  <a:pt x="20251" y="12212"/>
                  <a:pt x="20241" y="12378"/>
                </a:cubicBezTo>
                <a:cubicBezTo>
                  <a:pt x="20231" y="12550"/>
                  <a:pt x="20232" y="12726"/>
                  <a:pt x="20216" y="12898"/>
                </a:cubicBezTo>
                <a:cubicBezTo>
                  <a:pt x="20199" y="13079"/>
                  <a:pt x="20190" y="13265"/>
                  <a:pt x="20166" y="13444"/>
                </a:cubicBezTo>
                <a:cubicBezTo>
                  <a:pt x="20142" y="13625"/>
                  <a:pt x="20142" y="13811"/>
                  <a:pt x="20117" y="13990"/>
                </a:cubicBezTo>
                <a:cubicBezTo>
                  <a:pt x="20102" y="14100"/>
                  <a:pt x="20070" y="14202"/>
                  <a:pt x="20067" y="14312"/>
                </a:cubicBezTo>
                <a:cubicBezTo>
                  <a:pt x="20065" y="14397"/>
                  <a:pt x="20047" y="14483"/>
                  <a:pt x="20042" y="14560"/>
                </a:cubicBezTo>
                <a:cubicBezTo>
                  <a:pt x="20037" y="14633"/>
                  <a:pt x="20022" y="14726"/>
                  <a:pt x="20017" y="14784"/>
                </a:cubicBezTo>
                <a:cubicBezTo>
                  <a:pt x="20010" y="14867"/>
                  <a:pt x="20009" y="14885"/>
                  <a:pt x="19968" y="14957"/>
                </a:cubicBezTo>
                <a:cubicBezTo>
                  <a:pt x="19948" y="14991"/>
                  <a:pt x="19915" y="15023"/>
                  <a:pt x="19893" y="15056"/>
                </a:cubicBezTo>
              </a:path>
              <a:path w="2258" h="8931">
                <a:moveTo>
                  <a:pt x="19745" y="15007"/>
                </a:moveTo>
                <a:cubicBezTo>
                  <a:pt x="19737" y="14999"/>
                  <a:pt x="19728" y="14990"/>
                  <a:pt x="19720" y="14982"/>
                </a:cubicBezTo>
                <a:cubicBezTo>
                  <a:pt x="19779" y="14991"/>
                  <a:pt x="19818" y="15005"/>
                  <a:pt x="19869" y="15032"/>
                </a:cubicBezTo>
                <a:cubicBezTo>
                  <a:pt x="19914" y="15056"/>
                  <a:pt x="19933" y="15071"/>
                  <a:pt x="19968" y="15106"/>
                </a:cubicBezTo>
                <a:cubicBezTo>
                  <a:pt x="20018" y="15055"/>
                  <a:pt x="20013" y="15022"/>
                  <a:pt x="20042" y="14957"/>
                </a:cubicBezTo>
                <a:cubicBezTo>
                  <a:pt x="20071" y="14892"/>
                  <a:pt x="20073" y="14844"/>
                  <a:pt x="20117" y="14784"/>
                </a:cubicBezTo>
                <a:cubicBezTo>
                  <a:pt x="20146" y="14754"/>
                  <a:pt x="20157" y="14739"/>
                  <a:pt x="20166" y="14709"/>
                </a:cubicBezTo>
              </a:path>
              <a:path w="2258" h="8931">
                <a:moveTo>
                  <a:pt x="20241" y="14908"/>
                </a:moveTo>
                <a:cubicBezTo>
                  <a:pt x="20170" y="15010"/>
                  <a:pt x="20143" y="15030"/>
                  <a:pt x="20067" y="15106"/>
                </a:cubicBezTo>
                <a:cubicBezTo>
                  <a:pt x="19997" y="15176"/>
                  <a:pt x="20004" y="15227"/>
                  <a:pt x="19968" y="15304"/>
                </a:cubicBezTo>
                <a:cubicBezTo>
                  <a:pt x="19949" y="15344"/>
                  <a:pt x="19918" y="15427"/>
                  <a:pt x="19993" y="15453"/>
                </a:cubicBezTo>
                <a:cubicBezTo>
                  <a:pt x="20052" y="15474"/>
                  <a:pt x="20112" y="15474"/>
                  <a:pt x="20166" y="15503"/>
                </a:cubicBezTo>
                <a:cubicBezTo>
                  <a:pt x="20225" y="15535"/>
                  <a:pt x="20297" y="15552"/>
                  <a:pt x="20315" y="15627"/>
                </a:cubicBezTo>
                <a:cubicBezTo>
                  <a:pt x="20324" y="15665"/>
                  <a:pt x="20285" y="15789"/>
                  <a:pt x="20241" y="15801"/>
                </a:cubicBezTo>
                <a:cubicBezTo>
                  <a:pt x="20165" y="15821"/>
                  <a:pt x="20115" y="15768"/>
                  <a:pt x="20092" y="15701"/>
                </a:cubicBezTo>
                <a:cubicBezTo>
                  <a:pt x="20075" y="15650"/>
                  <a:pt x="20050" y="15591"/>
                  <a:pt x="20067" y="15528"/>
                </a:cubicBezTo>
                <a:cubicBezTo>
                  <a:pt x="20082" y="15470"/>
                  <a:pt x="20094" y="15381"/>
                  <a:pt x="20117" y="15329"/>
                </a:cubicBezTo>
                <a:cubicBezTo>
                  <a:pt x="20125" y="15321"/>
                  <a:pt x="20133" y="15312"/>
                  <a:pt x="20141" y="15304"/>
                </a:cubicBezTo>
              </a:path>
              <a:path w="2258" h="8931">
                <a:moveTo>
                  <a:pt x="20638" y="8731"/>
                </a:moveTo>
                <a:cubicBezTo>
                  <a:pt x="20621" y="8731"/>
                  <a:pt x="20605" y="8731"/>
                  <a:pt x="20588" y="8731"/>
                </a:cubicBezTo>
                <a:cubicBezTo>
                  <a:pt x="20579" y="8794"/>
                  <a:pt x="20549" y="8840"/>
                  <a:pt x="20538" y="8905"/>
                </a:cubicBezTo>
                <a:cubicBezTo>
                  <a:pt x="20529" y="8960"/>
                  <a:pt x="20515" y="9116"/>
                  <a:pt x="20563" y="9153"/>
                </a:cubicBezTo>
                <a:cubicBezTo>
                  <a:pt x="20621" y="9197"/>
                  <a:pt x="20718" y="9178"/>
                  <a:pt x="20786" y="9178"/>
                </a:cubicBezTo>
              </a:path>
              <a:path w="2258" h="8931">
                <a:moveTo>
                  <a:pt x="20886" y="8731"/>
                </a:moveTo>
                <a:cubicBezTo>
                  <a:pt x="20894" y="8827"/>
                  <a:pt x="20891" y="8888"/>
                  <a:pt x="20886" y="8979"/>
                </a:cubicBezTo>
                <a:cubicBezTo>
                  <a:pt x="20882" y="9055"/>
                  <a:pt x="20867" y="9134"/>
                  <a:pt x="20836" y="9203"/>
                </a:cubicBezTo>
                <a:cubicBezTo>
                  <a:pt x="20811" y="9260"/>
                  <a:pt x="20784" y="9320"/>
                  <a:pt x="20762" y="9376"/>
                </a:cubicBezTo>
                <a:cubicBezTo>
                  <a:pt x="20743" y="9424"/>
                  <a:pt x="20746" y="9436"/>
                  <a:pt x="20762" y="9475"/>
                </a:cubicBezTo>
              </a:path>
              <a:path w="2258" h="8931">
                <a:moveTo>
                  <a:pt x="19571" y="16272"/>
                </a:moveTo>
                <a:cubicBezTo>
                  <a:pt x="19571" y="16288"/>
                  <a:pt x="19571" y="16305"/>
                  <a:pt x="19571" y="16321"/>
                </a:cubicBezTo>
                <a:cubicBezTo>
                  <a:pt x="19614" y="16287"/>
                  <a:pt x="19656" y="16261"/>
                  <a:pt x="19695" y="16222"/>
                </a:cubicBezTo>
                <a:cubicBezTo>
                  <a:pt x="19721" y="16196"/>
                  <a:pt x="19791" y="16125"/>
                  <a:pt x="19819" y="16197"/>
                </a:cubicBezTo>
                <a:cubicBezTo>
                  <a:pt x="19836" y="16242"/>
                  <a:pt x="19812" y="16358"/>
                  <a:pt x="19794" y="16396"/>
                </a:cubicBezTo>
                <a:cubicBezTo>
                  <a:pt x="19769" y="16421"/>
                  <a:pt x="19761" y="16429"/>
                  <a:pt x="19745" y="16446"/>
                </a:cubicBezTo>
                <a:cubicBezTo>
                  <a:pt x="19797" y="16498"/>
                  <a:pt x="19794" y="16519"/>
                  <a:pt x="19794" y="16594"/>
                </a:cubicBezTo>
                <a:cubicBezTo>
                  <a:pt x="19794" y="16693"/>
                  <a:pt x="19794" y="16793"/>
                  <a:pt x="19794" y="16892"/>
                </a:cubicBezTo>
              </a:path>
              <a:path w="2258" h="8931">
                <a:moveTo>
                  <a:pt x="20017" y="15999"/>
                </a:moveTo>
                <a:cubicBezTo>
                  <a:pt x="20017" y="16082"/>
                  <a:pt x="20029" y="16146"/>
                  <a:pt x="20042" y="16222"/>
                </a:cubicBezTo>
                <a:cubicBezTo>
                  <a:pt x="20052" y="16282"/>
                  <a:pt x="20041" y="16344"/>
                  <a:pt x="20067" y="16396"/>
                </a:cubicBezTo>
                <a:cubicBezTo>
                  <a:pt x="20089" y="16440"/>
                  <a:pt x="20130" y="16515"/>
                  <a:pt x="20191" y="16495"/>
                </a:cubicBezTo>
                <a:cubicBezTo>
                  <a:pt x="20255" y="16473"/>
                  <a:pt x="20241" y="16369"/>
                  <a:pt x="20241" y="16321"/>
                </a:cubicBezTo>
                <a:cubicBezTo>
                  <a:pt x="20241" y="16260"/>
                  <a:pt x="20250" y="16244"/>
                  <a:pt x="20216" y="16222"/>
                </a:cubicBezTo>
                <a:cubicBezTo>
                  <a:pt x="20168" y="16318"/>
                  <a:pt x="20107" y="16411"/>
                  <a:pt x="20092" y="16520"/>
                </a:cubicBezTo>
                <a:cubicBezTo>
                  <a:pt x="20080" y="16606"/>
                  <a:pt x="20074" y="16673"/>
                  <a:pt x="20092" y="16743"/>
                </a:cubicBezTo>
              </a:path>
              <a:path w="2258" h="8931">
                <a:moveTo>
                  <a:pt x="19496" y="16520"/>
                </a:moveTo>
                <a:cubicBezTo>
                  <a:pt x="19558" y="16511"/>
                  <a:pt x="19564" y="16503"/>
                  <a:pt x="19621" y="16470"/>
                </a:cubicBezTo>
              </a:path>
              <a:path w="2258" h="8931">
                <a:moveTo>
                  <a:pt x="19695" y="17041"/>
                </a:moveTo>
                <a:cubicBezTo>
                  <a:pt x="19765" y="16997"/>
                  <a:pt x="19822" y="16935"/>
                  <a:pt x="19893" y="16892"/>
                </a:cubicBezTo>
                <a:cubicBezTo>
                  <a:pt x="19991" y="16833"/>
                  <a:pt x="20104" y="16773"/>
                  <a:pt x="20216" y="16768"/>
                </a:cubicBezTo>
                <a:cubicBezTo>
                  <a:pt x="20273" y="16765"/>
                  <a:pt x="20332" y="16768"/>
                  <a:pt x="20389" y="16768"/>
                </a:cubicBezTo>
              </a:path>
              <a:path w="2258" h="8931">
                <a:moveTo>
                  <a:pt x="20191" y="16966"/>
                </a:moveTo>
                <a:cubicBezTo>
                  <a:pt x="20174" y="16983"/>
                  <a:pt x="20158" y="16999"/>
                  <a:pt x="20141" y="17016"/>
                </a:cubicBezTo>
                <a:cubicBezTo>
                  <a:pt x="20197" y="16949"/>
                  <a:pt x="20260" y="16928"/>
                  <a:pt x="20290" y="17041"/>
                </a:cubicBezTo>
                <a:cubicBezTo>
                  <a:pt x="20337" y="17219"/>
                  <a:pt x="20290" y="17476"/>
                  <a:pt x="20290" y="17661"/>
                </a:cubicBezTo>
                <a:cubicBezTo>
                  <a:pt x="20363" y="17619"/>
                  <a:pt x="20400" y="17567"/>
                  <a:pt x="20489" y="17562"/>
                </a:cubicBezTo>
                <a:cubicBezTo>
                  <a:pt x="20536" y="17559"/>
                  <a:pt x="20568" y="17546"/>
                  <a:pt x="20613" y="175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8"/>
          <p:cNvSpPr/>
          <p:nvPr/>
        </p:nvSpPr>
        <p:spPr>
          <a:xfrm>
            <a:off x="5983200" y="3071880"/>
            <a:ext cx="1901880" cy="2063520"/>
          </a:xfrm>
          <a:custGeom>
            <a:avLst/>
            <a:gdLst/>
            <a:ahLst/>
            <a:rect l="l" t="t" r="r" b="b"/>
            <a:pathLst>
              <a:path w="5285" h="5731">
                <a:moveTo>
                  <a:pt x="16917" y="9996"/>
                </a:moveTo>
                <a:cubicBezTo>
                  <a:pt x="16943" y="9952"/>
                  <a:pt x="16958" y="9880"/>
                  <a:pt x="16942" y="9823"/>
                </a:cubicBezTo>
                <a:cubicBezTo>
                  <a:pt x="16923" y="9756"/>
                  <a:pt x="16860" y="9722"/>
                  <a:pt x="16793" y="9748"/>
                </a:cubicBezTo>
                <a:cubicBezTo>
                  <a:pt x="16742" y="9768"/>
                  <a:pt x="16693" y="9851"/>
                  <a:pt x="16669" y="9897"/>
                </a:cubicBezTo>
                <a:cubicBezTo>
                  <a:pt x="16626" y="9978"/>
                  <a:pt x="16579" y="10073"/>
                  <a:pt x="16694" y="10120"/>
                </a:cubicBezTo>
                <a:cubicBezTo>
                  <a:pt x="16748" y="10142"/>
                  <a:pt x="16787" y="10078"/>
                  <a:pt x="16818" y="10046"/>
                </a:cubicBezTo>
                <a:cubicBezTo>
                  <a:pt x="16856" y="10007"/>
                  <a:pt x="16877" y="9961"/>
                  <a:pt x="16917" y="9922"/>
                </a:cubicBezTo>
                <a:cubicBezTo>
                  <a:pt x="16917" y="10126"/>
                  <a:pt x="16867" y="10411"/>
                  <a:pt x="16892" y="10592"/>
                </a:cubicBezTo>
                <a:cubicBezTo>
                  <a:pt x="16900" y="10608"/>
                  <a:pt x="16909" y="10625"/>
                  <a:pt x="16917" y="10641"/>
                </a:cubicBezTo>
              </a:path>
              <a:path w="5285" h="5731">
                <a:moveTo>
                  <a:pt x="17413" y="10120"/>
                </a:moveTo>
                <a:cubicBezTo>
                  <a:pt x="17413" y="10249"/>
                  <a:pt x="17397" y="10369"/>
                  <a:pt x="17388" y="10492"/>
                </a:cubicBezTo>
                <a:cubicBezTo>
                  <a:pt x="17383" y="10559"/>
                  <a:pt x="17370" y="10636"/>
                  <a:pt x="17363" y="10691"/>
                </a:cubicBezTo>
                <a:cubicBezTo>
                  <a:pt x="17363" y="10707"/>
                  <a:pt x="17363" y="10724"/>
                  <a:pt x="17363" y="10740"/>
                </a:cubicBezTo>
                <a:cubicBezTo>
                  <a:pt x="17343" y="10655"/>
                  <a:pt x="17329" y="10582"/>
                  <a:pt x="17338" y="10492"/>
                </a:cubicBezTo>
                <a:cubicBezTo>
                  <a:pt x="17349" y="10380"/>
                  <a:pt x="17347" y="10256"/>
                  <a:pt x="17363" y="10145"/>
                </a:cubicBezTo>
                <a:cubicBezTo>
                  <a:pt x="17376" y="10052"/>
                  <a:pt x="17386" y="9969"/>
                  <a:pt x="17388" y="9872"/>
                </a:cubicBezTo>
                <a:cubicBezTo>
                  <a:pt x="17390" y="9785"/>
                  <a:pt x="17393" y="9729"/>
                  <a:pt x="17413" y="9649"/>
                </a:cubicBezTo>
                <a:cubicBezTo>
                  <a:pt x="17436" y="9557"/>
                  <a:pt x="17440" y="9582"/>
                  <a:pt x="17537" y="9575"/>
                </a:cubicBezTo>
                <a:cubicBezTo>
                  <a:pt x="17827" y="9555"/>
                  <a:pt x="18116" y="9599"/>
                  <a:pt x="18405" y="9599"/>
                </a:cubicBezTo>
                <a:cubicBezTo>
                  <a:pt x="19155" y="9599"/>
                  <a:pt x="19916" y="9568"/>
                  <a:pt x="20662" y="9624"/>
                </a:cubicBezTo>
                <a:cubicBezTo>
                  <a:pt x="20779" y="9633"/>
                  <a:pt x="20895" y="9627"/>
                  <a:pt x="21010" y="9649"/>
                </a:cubicBezTo>
                <a:cubicBezTo>
                  <a:pt x="21107" y="9667"/>
                  <a:pt x="21150" y="9741"/>
                  <a:pt x="21158" y="9748"/>
                </a:cubicBezTo>
                <a:cubicBezTo>
                  <a:pt x="21055" y="9748"/>
                  <a:pt x="20987" y="9729"/>
                  <a:pt x="20910" y="9674"/>
                </a:cubicBezTo>
              </a:path>
              <a:path w="5285" h="5731">
                <a:moveTo>
                  <a:pt x="17760" y="10021"/>
                </a:moveTo>
                <a:cubicBezTo>
                  <a:pt x="17770" y="9949"/>
                  <a:pt x="17781" y="9927"/>
                  <a:pt x="17859" y="9922"/>
                </a:cubicBezTo>
                <a:cubicBezTo>
                  <a:pt x="17921" y="9918"/>
                  <a:pt x="17992" y="9914"/>
                  <a:pt x="18033" y="9971"/>
                </a:cubicBezTo>
                <a:cubicBezTo>
                  <a:pt x="18077" y="10032"/>
                  <a:pt x="18036" y="10132"/>
                  <a:pt x="18008" y="10195"/>
                </a:cubicBezTo>
                <a:cubicBezTo>
                  <a:pt x="17980" y="10257"/>
                  <a:pt x="17943" y="10312"/>
                  <a:pt x="17909" y="10368"/>
                </a:cubicBezTo>
                <a:cubicBezTo>
                  <a:pt x="17888" y="10403"/>
                  <a:pt x="17806" y="10525"/>
                  <a:pt x="17835" y="10567"/>
                </a:cubicBezTo>
                <a:cubicBezTo>
                  <a:pt x="17855" y="10596"/>
                  <a:pt x="17958" y="10636"/>
                  <a:pt x="17983" y="10641"/>
                </a:cubicBezTo>
                <a:cubicBezTo>
                  <a:pt x="18028" y="10650"/>
                  <a:pt x="18086" y="10641"/>
                  <a:pt x="18132" y="10641"/>
                </a:cubicBezTo>
              </a:path>
              <a:path w="5285" h="5731">
                <a:moveTo>
                  <a:pt x="18604" y="9947"/>
                </a:moveTo>
                <a:cubicBezTo>
                  <a:pt x="18483" y="9859"/>
                  <a:pt x="18521" y="9879"/>
                  <a:pt x="18405" y="9947"/>
                </a:cubicBezTo>
                <a:cubicBezTo>
                  <a:pt x="18339" y="9986"/>
                  <a:pt x="18301" y="10030"/>
                  <a:pt x="18331" y="10096"/>
                </a:cubicBezTo>
                <a:cubicBezTo>
                  <a:pt x="18369" y="10179"/>
                  <a:pt x="18390" y="10191"/>
                  <a:pt x="18479" y="10195"/>
                </a:cubicBezTo>
                <a:cubicBezTo>
                  <a:pt x="18519" y="10197"/>
                  <a:pt x="18590" y="10167"/>
                  <a:pt x="18604" y="10120"/>
                </a:cubicBezTo>
                <a:cubicBezTo>
                  <a:pt x="18604" y="10076"/>
                  <a:pt x="18601" y="10063"/>
                  <a:pt x="18628" y="10046"/>
                </a:cubicBezTo>
                <a:cubicBezTo>
                  <a:pt x="18628" y="10281"/>
                  <a:pt x="18601" y="10541"/>
                  <a:pt x="18653" y="10765"/>
                </a:cubicBezTo>
                <a:cubicBezTo>
                  <a:pt x="18653" y="10773"/>
                  <a:pt x="18653" y="10782"/>
                  <a:pt x="18653" y="10790"/>
                </a:cubicBezTo>
              </a:path>
              <a:path w="5285" h="5731">
                <a:moveTo>
                  <a:pt x="18876" y="10691"/>
                </a:moveTo>
                <a:cubicBezTo>
                  <a:pt x="18889" y="10812"/>
                  <a:pt x="18909" y="10848"/>
                  <a:pt x="18876" y="10914"/>
                </a:cubicBezTo>
              </a:path>
              <a:path w="5285" h="5731">
                <a:moveTo>
                  <a:pt x="19372" y="9971"/>
                </a:moveTo>
                <a:cubicBezTo>
                  <a:pt x="19308" y="9907"/>
                  <a:pt x="19260" y="9912"/>
                  <a:pt x="19174" y="9971"/>
                </a:cubicBezTo>
                <a:cubicBezTo>
                  <a:pt x="19123" y="10006"/>
                  <a:pt x="19087" y="10039"/>
                  <a:pt x="19075" y="10096"/>
                </a:cubicBezTo>
                <a:cubicBezTo>
                  <a:pt x="19066" y="10141"/>
                  <a:pt x="19126" y="10231"/>
                  <a:pt x="19174" y="10244"/>
                </a:cubicBezTo>
                <a:cubicBezTo>
                  <a:pt x="19238" y="10262"/>
                  <a:pt x="19299" y="10232"/>
                  <a:pt x="19348" y="10195"/>
                </a:cubicBezTo>
                <a:cubicBezTo>
                  <a:pt x="19397" y="10158"/>
                  <a:pt x="19397" y="10015"/>
                  <a:pt x="19397" y="10120"/>
                </a:cubicBezTo>
                <a:cubicBezTo>
                  <a:pt x="19397" y="10195"/>
                  <a:pt x="19410" y="10250"/>
                  <a:pt x="19422" y="10319"/>
                </a:cubicBezTo>
                <a:cubicBezTo>
                  <a:pt x="19434" y="10392"/>
                  <a:pt x="19435" y="10471"/>
                  <a:pt x="19447" y="10542"/>
                </a:cubicBezTo>
                <a:cubicBezTo>
                  <a:pt x="19453" y="10581"/>
                  <a:pt x="19447" y="10626"/>
                  <a:pt x="19447" y="10666"/>
                </a:cubicBezTo>
              </a:path>
              <a:path w="5285" h="5731">
                <a:moveTo>
                  <a:pt x="19993" y="9971"/>
                </a:moveTo>
                <a:cubicBezTo>
                  <a:pt x="19993" y="10141"/>
                  <a:pt x="19994" y="10303"/>
                  <a:pt x="20017" y="10468"/>
                </a:cubicBezTo>
                <a:cubicBezTo>
                  <a:pt x="20025" y="10526"/>
                  <a:pt x="20013" y="10544"/>
                  <a:pt x="20042" y="10592"/>
                </a:cubicBezTo>
              </a:path>
              <a:path w="5285" h="5731">
                <a:moveTo>
                  <a:pt x="20538" y="9996"/>
                </a:moveTo>
                <a:cubicBezTo>
                  <a:pt x="20493" y="9962"/>
                  <a:pt x="20383" y="9905"/>
                  <a:pt x="20315" y="9947"/>
                </a:cubicBezTo>
                <a:cubicBezTo>
                  <a:pt x="20223" y="10004"/>
                  <a:pt x="20339" y="10105"/>
                  <a:pt x="20365" y="10145"/>
                </a:cubicBezTo>
                <a:cubicBezTo>
                  <a:pt x="20421" y="10230"/>
                  <a:pt x="20494" y="10326"/>
                  <a:pt x="20538" y="10418"/>
                </a:cubicBezTo>
                <a:cubicBezTo>
                  <a:pt x="20568" y="10479"/>
                  <a:pt x="20579" y="10554"/>
                  <a:pt x="20588" y="10616"/>
                </a:cubicBezTo>
                <a:cubicBezTo>
                  <a:pt x="20524" y="10654"/>
                  <a:pt x="20477" y="10643"/>
                  <a:pt x="20414" y="10592"/>
                </a:cubicBezTo>
                <a:cubicBezTo>
                  <a:pt x="20376" y="10561"/>
                  <a:pt x="20356" y="10441"/>
                  <a:pt x="20365" y="10393"/>
                </a:cubicBezTo>
                <a:cubicBezTo>
                  <a:pt x="20380" y="10314"/>
                  <a:pt x="20439" y="10207"/>
                  <a:pt x="20489" y="10145"/>
                </a:cubicBezTo>
                <a:cubicBezTo>
                  <a:pt x="20533" y="10091"/>
                  <a:pt x="20576" y="10055"/>
                  <a:pt x="20613" y="9996"/>
                </a:cubicBezTo>
              </a:path>
              <a:path w="5285" h="5731">
                <a:moveTo>
                  <a:pt x="18331" y="8905"/>
                </a:moveTo>
                <a:cubicBezTo>
                  <a:pt x="18375" y="8848"/>
                  <a:pt x="18389" y="8816"/>
                  <a:pt x="18455" y="8781"/>
                </a:cubicBezTo>
                <a:cubicBezTo>
                  <a:pt x="18516" y="8748"/>
                  <a:pt x="18563" y="8742"/>
                  <a:pt x="18604" y="8806"/>
                </a:cubicBezTo>
                <a:cubicBezTo>
                  <a:pt x="18639" y="8861"/>
                  <a:pt x="18606" y="8904"/>
                  <a:pt x="18579" y="8954"/>
                </a:cubicBezTo>
                <a:cubicBezTo>
                  <a:pt x="18551" y="9006"/>
                  <a:pt x="18521" y="9037"/>
                  <a:pt x="18479" y="9079"/>
                </a:cubicBezTo>
                <a:cubicBezTo>
                  <a:pt x="18449" y="9109"/>
                  <a:pt x="18431" y="9145"/>
                  <a:pt x="18405" y="9178"/>
                </a:cubicBezTo>
                <a:cubicBezTo>
                  <a:pt x="18465" y="9214"/>
                  <a:pt x="18516" y="9180"/>
                  <a:pt x="18579" y="9203"/>
                </a:cubicBezTo>
                <a:cubicBezTo>
                  <a:pt x="18631" y="9222"/>
                  <a:pt x="18645" y="9306"/>
                  <a:pt x="18628" y="9351"/>
                </a:cubicBezTo>
                <a:cubicBezTo>
                  <a:pt x="18621" y="9369"/>
                  <a:pt x="18520" y="9435"/>
                  <a:pt x="18504" y="9451"/>
                </a:cubicBezTo>
                <a:cubicBezTo>
                  <a:pt x="18453" y="9501"/>
                  <a:pt x="18392" y="9476"/>
                  <a:pt x="18331" y="9500"/>
                </a:cubicBezTo>
                <a:cubicBezTo>
                  <a:pt x="18270" y="9525"/>
                  <a:pt x="18268" y="9516"/>
                  <a:pt x="18207" y="9500"/>
                </a:cubicBezTo>
              </a:path>
              <a:path w="5285" h="5731">
                <a:moveTo>
                  <a:pt x="17785" y="10889"/>
                </a:moveTo>
                <a:cubicBezTo>
                  <a:pt x="17855" y="10849"/>
                  <a:pt x="17877" y="10840"/>
                  <a:pt x="17959" y="10840"/>
                </a:cubicBezTo>
                <a:cubicBezTo>
                  <a:pt x="18010" y="10840"/>
                  <a:pt x="18081" y="10869"/>
                  <a:pt x="18058" y="10939"/>
                </a:cubicBezTo>
                <a:cubicBezTo>
                  <a:pt x="18049" y="10967"/>
                  <a:pt x="17960" y="11035"/>
                  <a:pt x="17934" y="11063"/>
                </a:cubicBezTo>
                <a:cubicBezTo>
                  <a:pt x="17863" y="11138"/>
                  <a:pt x="17791" y="11201"/>
                  <a:pt x="17711" y="11261"/>
                </a:cubicBezTo>
                <a:cubicBezTo>
                  <a:pt x="17665" y="11296"/>
                  <a:pt x="17644" y="11341"/>
                  <a:pt x="17611" y="11385"/>
                </a:cubicBezTo>
                <a:cubicBezTo>
                  <a:pt x="17603" y="11393"/>
                  <a:pt x="17595" y="11402"/>
                  <a:pt x="17587" y="11410"/>
                </a:cubicBezTo>
                <a:cubicBezTo>
                  <a:pt x="17641" y="11443"/>
                  <a:pt x="17692" y="11435"/>
                  <a:pt x="17760" y="11435"/>
                </a:cubicBezTo>
                <a:cubicBezTo>
                  <a:pt x="17821" y="11435"/>
                  <a:pt x="17874" y="11417"/>
                  <a:pt x="17934" y="11410"/>
                </a:cubicBezTo>
              </a:path>
              <a:path w="5285" h="5731">
                <a:moveTo>
                  <a:pt x="18331" y="10840"/>
                </a:moveTo>
                <a:cubicBezTo>
                  <a:pt x="18397" y="10840"/>
                  <a:pt x="18463" y="10840"/>
                  <a:pt x="18529" y="10840"/>
                </a:cubicBezTo>
                <a:cubicBezTo>
                  <a:pt x="18521" y="10896"/>
                  <a:pt x="18489" y="10940"/>
                  <a:pt x="18479" y="10988"/>
                </a:cubicBezTo>
                <a:cubicBezTo>
                  <a:pt x="18466" y="11052"/>
                  <a:pt x="18438" y="11124"/>
                  <a:pt x="18430" y="11187"/>
                </a:cubicBezTo>
                <a:cubicBezTo>
                  <a:pt x="18419" y="11273"/>
                  <a:pt x="18393" y="11352"/>
                  <a:pt x="18380" y="11435"/>
                </a:cubicBezTo>
                <a:cubicBezTo>
                  <a:pt x="18380" y="11477"/>
                  <a:pt x="18372" y="11493"/>
                  <a:pt x="18405" y="11485"/>
                </a:cubicBezTo>
              </a:path>
              <a:path w="5285" h="5731">
                <a:moveTo>
                  <a:pt x="17413" y="11013"/>
                </a:moveTo>
                <a:cubicBezTo>
                  <a:pt x="17471" y="11042"/>
                  <a:pt x="17516" y="11038"/>
                  <a:pt x="17587" y="11038"/>
                </a:cubicBezTo>
              </a:path>
              <a:path w="5285" h="5731">
                <a:moveTo>
                  <a:pt x="17512" y="11584"/>
                </a:moveTo>
                <a:cubicBezTo>
                  <a:pt x="17582" y="11610"/>
                  <a:pt x="17635" y="11609"/>
                  <a:pt x="17711" y="11609"/>
                </a:cubicBezTo>
                <a:cubicBezTo>
                  <a:pt x="17841" y="11609"/>
                  <a:pt x="17961" y="11605"/>
                  <a:pt x="18083" y="11584"/>
                </a:cubicBezTo>
                <a:cubicBezTo>
                  <a:pt x="18270" y="11552"/>
                  <a:pt x="18531" y="11576"/>
                  <a:pt x="18703" y="11609"/>
                </a:cubicBezTo>
                <a:cubicBezTo>
                  <a:pt x="18744" y="11609"/>
                  <a:pt x="18752" y="11609"/>
                  <a:pt x="18777" y="11609"/>
                </a:cubicBezTo>
              </a:path>
              <a:path w="5285" h="5731">
                <a:moveTo>
                  <a:pt x="18157" y="11782"/>
                </a:moveTo>
                <a:cubicBezTo>
                  <a:pt x="18176" y="11689"/>
                  <a:pt x="18192" y="11715"/>
                  <a:pt x="18256" y="11683"/>
                </a:cubicBezTo>
                <a:cubicBezTo>
                  <a:pt x="18309" y="11656"/>
                  <a:pt x="18351" y="11640"/>
                  <a:pt x="18405" y="11683"/>
                </a:cubicBezTo>
                <a:cubicBezTo>
                  <a:pt x="18457" y="11725"/>
                  <a:pt x="18429" y="11788"/>
                  <a:pt x="18405" y="11832"/>
                </a:cubicBezTo>
                <a:cubicBezTo>
                  <a:pt x="18361" y="11914"/>
                  <a:pt x="18322" y="11989"/>
                  <a:pt x="18256" y="12055"/>
                </a:cubicBezTo>
                <a:cubicBezTo>
                  <a:pt x="18223" y="12088"/>
                  <a:pt x="18190" y="12121"/>
                  <a:pt x="18157" y="12154"/>
                </a:cubicBezTo>
                <a:cubicBezTo>
                  <a:pt x="18116" y="12195"/>
                  <a:pt x="18092" y="12233"/>
                  <a:pt x="18058" y="12278"/>
                </a:cubicBezTo>
                <a:cubicBezTo>
                  <a:pt x="18025" y="12321"/>
                  <a:pt x="17998" y="12363"/>
                  <a:pt x="17959" y="12402"/>
                </a:cubicBezTo>
                <a:cubicBezTo>
                  <a:pt x="18096" y="12402"/>
                  <a:pt x="18225" y="12405"/>
                  <a:pt x="18355" y="12427"/>
                </a:cubicBezTo>
                <a:cubicBezTo>
                  <a:pt x="18417" y="12437"/>
                  <a:pt x="18412" y="12449"/>
                  <a:pt x="18455" y="12427"/>
                </a:cubicBezTo>
              </a:path>
              <a:path w="5285" h="5731">
                <a:moveTo>
                  <a:pt x="19224" y="10790"/>
                </a:moveTo>
                <a:cubicBezTo>
                  <a:pt x="19224" y="10857"/>
                  <a:pt x="19210" y="10910"/>
                  <a:pt x="19199" y="10964"/>
                </a:cubicBezTo>
                <a:cubicBezTo>
                  <a:pt x="19185" y="11034"/>
                  <a:pt x="19185" y="11126"/>
                  <a:pt x="19174" y="11187"/>
                </a:cubicBezTo>
                <a:cubicBezTo>
                  <a:pt x="19163" y="11248"/>
                  <a:pt x="19154" y="11304"/>
                  <a:pt x="19149" y="11361"/>
                </a:cubicBezTo>
                <a:cubicBezTo>
                  <a:pt x="19149" y="11369"/>
                  <a:pt x="19149" y="11377"/>
                  <a:pt x="19149" y="11385"/>
                </a:cubicBezTo>
              </a:path>
              <a:path w="5285" h="5731">
                <a:moveTo>
                  <a:pt x="18876" y="11286"/>
                </a:moveTo>
                <a:cubicBezTo>
                  <a:pt x="18884" y="11346"/>
                  <a:pt x="18889" y="11414"/>
                  <a:pt x="18926" y="11460"/>
                </a:cubicBezTo>
                <a:cubicBezTo>
                  <a:pt x="18982" y="11530"/>
                  <a:pt x="19000" y="11515"/>
                  <a:pt x="19050" y="11460"/>
                </a:cubicBezTo>
                <a:cubicBezTo>
                  <a:pt x="19075" y="11435"/>
                  <a:pt x="19083" y="11427"/>
                  <a:pt x="19100" y="11410"/>
                </a:cubicBezTo>
              </a:path>
              <a:path w="5285" h="5731">
                <a:moveTo>
                  <a:pt x="19149" y="11757"/>
                </a:moveTo>
                <a:cubicBezTo>
                  <a:pt x="19126" y="11735"/>
                  <a:pt x="19079" y="11666"/>
                  <a:pt x="19050" y="11658"/>
                </a:cubicBezTo>
                <a:cubicBezTo>
                  <a:pt x="18994" y="11642"/>
                  <a:pt x="18930" y="11688"/>
                  <a:pt x="18901" y="11733"/>
                </a:cubicBezTo>
                <a:cubicBezTo>
                  <a:pt x="18893" y="11749"/>
                  <a:pt x="18884" y="11766"/>
                  <a:pt x="18876" y="11782"/>
                </a:cubicBezTo>
              </a:path>
              <a:path w="5285" h="5731">
                <a:moveTo>
                  <a:pt x="18852" y="11981"/>
                </a:moveTo>
                <a:cubicBezTo>
                  <a:pt x="18950" y="11981"/>
                  <a:pt x="18939" y="11974"/>
                  <a:pt x="19000" y="11906"/>
                </a:cubicBezTo>
                <a:cubicBezTo>
                  <a:pt x="19025" y="11881"/>
                  <a:pt x="19033" y="11873"/>
                  <a:pt x="19050" y="11857"/>
                </a:cubicBezTo>
                <a:cubicBezTo>
                  <a:pt x="19050" y="11945"/>
                  <a:pt x="19029" y="12020"/>
                  <a:pt x="19025" y="12105"/>
                </a:cubicBezTo>
                <a:cubicBezTo>
                  <a:pt x="19022" y="12172"/>
                  <a:pt x="19022" y="12290"/>
                  <a:pt x="19000" y="12353"/>
                </a:cubicBezTo>
                <a:cubicBezTo>
                  <a:pt x="18966" y="12451"/>
                  <a:pt x="18969" y="12414"/>
                  <a:pt x="19000" y="12328"/>
                </a:cubicBezTo>
              </a:path>
              <a:path w="5285" h="5731">
                <a:moveTo>
                  <a:pt x="19224" y="8781"/>
                </a:moveTo>
                <a:cubicBezTo>
                  <a:pt x="19284" y="8719"/>
                  <a:pt x="19316" y="8722"/>
                  <a:pt x="19397" y="8756"/>
                </a:cubicBezTo>
                <a:cubicBezTo>
                  <a:pt x="19493" y="8797"/>
                  <a:pt x="19435" y="8863"/>
                  <a:pt x="19397" y="8930"/>
                </a:cubicBezTo>
                <a:cubicBezTo>
                  <a:pt x="19389" y="8946"/>
                  <a:pt x="19380" y="8963"/>
                  <a:pt x="19372" y="8979"/>
                </a:cubicBezTo>
              </a:path>
              <a:path w="5285" h="5731">
                <a:moveTo>
                  <a:pt x="19174" y="9153"/>
                </a:moveTo>
                <a:cubicBezTo>
                  <a:pt x="19227" y="9179"/>
                  <a:pt x="19253" y="9140"/>
                  <a:pt x="19323" y="9128"/>
                </a:cubicBezTo>
                <a:cubicBezTo>
                  <a:pt x="19378" y="9119"/>
                  <a:pt x="19488" y="9075"/>
                  <a:pt x="19521" y="9153"/>
                </a:cubicBezTo>
                <a:cubicBezTo>
                  <a:pt x="19538" y="9194"/>
                  <a:pt x="19479" y="9279"/>
                  <a:pt x="19447" y="9302"/>
                </a:cubicBezTo>
                <a:cubicBezTo>
                  <a:pt x="19396" y="9339"/>
                  <a:pt x="19327" y="9354"/>
                  <a:pt x="19273" y="9376"/>
                </a:cubicBezTo>
                <a:cubicBezTo>
                  <a:pt x="19208" y="9402"/>
                  <a:pt x="19188" y="9464"/>
                  <a:pt x="19124" y="9500"/>
                </a:cubicBezTo>
              </a:path>
              <a:path w="5285" h="5731">
                <a:moveTo>
                  <a:pt x="18083" y="12675"/>
                </a:moveTo>
                <a:cubicBezTo>
                  <a:pt x="18051" y="12612"/>
                  <a:pt x="18115" y="12605"/>
                  <a:pt x="18182" y="12601"/>
                </a:cubicBezTo>
                <a:cubicBezTo>
                  <a:pt x="18237" y="12598"/>
                  <a:pt x="18337" y="12583"/>
                  <a:pt x="18380" y="12626"/>
                </a:cubicBezTo>
                <a:cubicBezTo>
                  <a:pt x="18422" y="12668"/>
                  <a:pt x="18376" y="12750"/>
                  <a:pt x="18355" y="12799"/>
                </a:cubicBezTo>
                <a:cubicBezTo>
                  <a:pt x="18321" y="12878"/>
                  <a:pt x="18270" y="12946"/>
                  <a:pt x="18231" y="13022"/>
                </a:cubicBezTo>
                <a:cubicBezTo>
                  <a:pt x="18204" y="13074"/>
                  <a:pt x="18125" y="13133"/>
                  <a:pt x="18107" y="13171"/>
                </a:cubicBezTo>
                <a:cubicBezTo>
                  <a:pt x="18082" y="13224"/>
                  <a:pt x="18104" y="13225"/>
                  <a:pt x="18058" y="13271"/>
                </a:cubicBezTo>
                <a:cubicBezTo>
                  <a:pt x="18119" y="13253"/>
                  <a:pt x="18156" y="13250"/>
                  <a:pt x="18231" y="13246"/>
                </a:cubicBezTo>
                <a:cubicBezTo>
                  <a:pt x="18297" y="13242"/>
                  <a:pt x="18364" y="13246"/>
                  <a:pt x="18430" y="13246"/>
                </a:cubicBezTo>
              </a:path>
              <a:path w="5285" h="5731">
                <a:moveTo>
                  <a:pt x="18703" y="12576"/>
                </a:moveTo>
                <a:cubicBezTo>
                  <a:pt x="18751" y="12547"/>
                  <a:pt x="18817" y="12525"/>
                  <a:pt x="18876" y="12502"/>
                </a:cubicBezTo>
                <a:cubicBezTo>
                  <a:pt x="19015" y="12448"/>
                  <a:pt x="18991" y="12507"/>
                  <a:pt x="18976" y="12601"/>
                </a:cubicBezTo>
                <a:cubicBezTo>
                  <a:pt x="18964" y="12676"/>
                  <a:pt x="18938" y="12752"/>
                  <a:pt x="18926" y="12824"/>
                </a:cubicBezTo>
                <a:cubicBezTo>
                  <a:pt x="18915" y="12891"/>
                  <a:pt x="18887" y="12952"/>
                  <a:pt x="18876" y="13022"/>
                </a:cubicBezTo>
                <a:cubicBezTo>
                  <a:pt x="18862" y="13111"/>
                  <a:pt x="18870" y="13214"/>
                  <a:pt x="18901" y="13295"/>
                </a:cubicBezTo>
              </a:path>
              <a:path w="5285" h="5731">
                <a:moveTo>
                  <a:pt x="17884" y="12849"/>
                </a:moveTo>
                <a:cubicBezTo>
                  <a:pt x="17953" y="12904"/>
                  <a:pt x="17995" y="12898"/>
                  <a:pt x="18083" y="12898"/>
                </a:cubicBezTo>
              </a:path>
              <a:path w="5285" h="5731">
                <a:moveTo>
                  <a:pt x="18157" y="13519"/>
                </a:moveTo>
                <a:cubicBezTo>
                  <a:pt x="18287" y="13476"/>
                  <a:pt x="18424" y="13451"/>
                  <a:pt x="18554" y="13419"/>
                </a:cubicBezTo>
                <a:cubicBezTo>
                  <a:pt x="18641" y="13398"/>
                  <a:pt x="18713" y="13374"/>
                  <a:pt x="18802" y="13370"/>
                </a:cubicBezTo>
                <a:cubicBezTo>
                  <a:pt x="18875" y="13366"/>
                  <a:pt x="18932" y="13356"/>
                  <a:pt x="19000" y="13345"/>
                </a:cubicBezTo>
                <a:cubicBezTo>
                  <a:pt x="19083" y="13331"/>
                  <a:pt x="19165" y="13367"/>
                  <a:pt x="19248" y="13370"/>
                </a:cubicBezTo>
                <a:cubicBezTo>
                  <a:pt x="19298" y="13370"/>
                  <a:pt x="19315" y="13370"/>
                  <a:pt x="19348" y="13370"/>
                </a:cubicBezTo>
              </a:path>
              <a:path w="5285" h="5731">
                <a:moveTo>
                  <a:pt x="18852" y="13593"/>
                </a:moveTo>
                <a:cubicBezTo>
                  <a:pt x="18904" y="13561"/>
                  <a:pt x="18975" y="13537"/>
                  <a:pt x="19000" y="13618"/>
                </a:cubicBezTo>
                <a:cubicBezTo>
                  <a:pt x="19016" y="13669"/>
                  <a:pt x="18971" y="13770"/>
                  <a:pt x="18951" y="13816"/>
                </a:cubicBezTo>
                <a:cubicBezTo>
                  <a:pt x="18916" y="13895"/>
                  <a:pt x="18870" y="13968"/>
                  <a:pt x="18827" y="14039"/>
                </a:cubicBezTo>
                <a:cubicBezTo>
                  <a:pt x="18800" y="14083"/>
                  <a:pt x="18720" y="14145"/>
                  <a:pt x="18703" y="14188"/>
                </a:cubicBezTo>
                <a:cubicBezTo>
                  <a:pt x="18703" y="14233"/>
                  <a:pt x="18706" y="14246"/>
                  <a:pt x="18678" y="14263"/>
                </a:cubicBezTo>
                <a:cubicBezTo>
                  <a:pt x="18746" y="14253"/>
                  <a:pt x="18782" y="14204"/>
                  <a:pt x="18852" y="14188"/>
                </a:cubicBezTo>
                <a:cubicBezTo>
                  <a:pt x="18918" y="14173"/>
                  <a:pt x="19033" y="14221"/>
                  <a:pt x="19075" y="14213"/>
                </a:cubicBezTo>
                <a:cubicBezTo>
                  <a:pt x="19100" y="14188"/>
                  <a:pt x="19108" y="14180"/>
                  <a:pt x="19124" y="14163"/>
                </a:cubicBezTo>
              </a:path>
              <a:path w="5285" h="5731">
                <a:moveTo>
                  <a:pt x="19968" y="10542"/>
                </a:moveTo>
                <a:cubicBezTo>
                  <a:pt x="19961" y="10606"/>
                  <a:pt x="19929" y="10650"/>
                  <a:pt x="19918" y="10716"/>
                </a:cubicBezTo>
                <a:cubicBezTo>
                  <a:pt x="19905" y="10790"/>
                  <a:pt x="19899" y="10890"/>
                  <a:pt x="19893" y="10964"/>
                </a:cubicBezTo>
                <a:cubicBezTo>
                  <a:pt x="19878" y="11137"/>
                  <a:pt x="19884" y="11315"/>
                  <a:pt x="19869" y="11485"/>
                </a:cubicBezTo>
                <a:cubicBezTo>
                  <a:pt x="19855" y="11641"/>
                  <a:pt x="19857" y="11801"/>
                  <a:pt x="19844" y="11956"/>
                </a:cubicBezTo>
                <a:cubicBezTo>
                  <a:pt x="19832" y="12098"/>
                  <a:pt x="19823" y="12238"/>
                  <a:pt x="19794" y="12378"/>
                </a:cubicBezTo>
                <a:cubicBezTo>
                  <a:pt x="19762" y="12535"/>
                  <a:pt x="19691" y="12691"/>
                  <a:pt x="19670" y="12849"/>
                </a:cubicBezTo>
                <a:cubicBezTo>
                  <a:pt x="19656" y="12954"/>
                  <a:pt x="19617" y="13046"/>
                  <a:pt x="19596" y="13146"/>
                </a:cubicBezTo>
                <a:cubicBezTo>
                  <a:pt x="19584" y="13203"/>
                  <a:pt x="19555" y="13271"/>
                  <a:pt x="19546" y="13320"/>
                </a:cubicBezTo>
                <a:cubicBezTo>
                  <a:pt x="19523" y="13442"/>
                  <a:pt x="19566" y="13327"/>
                  <a:pt x="19571" y="13320"/>
                </a:cubicBezTo>
              </a:path>
              <a:path w="5285" h="5731">
                <a:moveTo>
                  <a:pt x="19348" y="12898"/>
                </a:moveTo>
                <a:cubicBezTo>
                  <a:pt x="19355" y="12982"/>
                  <a:pt x="19366" y="13055"/>
                  <a:pt x="19422" y="13122"/>
                </a:cubicBezTo>
                <a:cubicBezTo>
                  <a:pt x="19459" y="13166"/>
                  <a:pt x="19505" y="13205"/>
                  <a:pt x="19546" y="13246"/>
                </a:cubicBezTo>
                <a:cubicBezTo>
                  <a:pt x="19584" y="13199"/>
                  <a:pt x="19609" y="13145"/>
                  <a:pt x="19645" y="13097"/>
                </a:cubicBezTo>
                <a:cubicBezTo>
                  <a:pt x="19689" y="13038"/>
                  <a:pt x="19708" y="12985"/>
                  <a:pt x="19745" y="12923"/>
                </a:cubicBezTo>
                <a:cubicBezTo>
                  <a:pt x="19764" y="12890"/>
                  <a:pt x="19788" y="12881"/>
                  <a:pt x="19819" y="12874"/>
                </a:cubicBezTo>
              </a:path>
              <a:path w="5285" h="5731">
                <a:moveTo>
                  <a:pt x="19645" y="13519"/>
                </a:moveTo>
                <a:cubicBezTo>
                  <a:pt x="19620" y="13571"/>
                  <a:pt x="19600" y="13632"/>
                  <a:pt x="19596" y="13692"/>
                </a:cubicBezTo>
                <a:cubicBezTo>
                  <a:pt x="19592" y="13764"/>
                  <a:pt x="19574" y="13822"/>
                  <a:pt x="19571" y="13891"/>
                </a:cubicBezTo>
                <a:cubicBezTo>
                  <a:pt x="19568" y="13948"/>
                  <a:pt x="19571" y="14007"/>
                  <a:pt x="19571" y="14064"/>
                </a:cubicBezTo>
              </a:path>
              <a:path w="5285" h="5731">
                <a:moveTo>
                  <a:pt x="19025" y="11559"/>
                </a:moveTo>
                <a:cubicBezTo>
                  <a:pt x="18994" y="11598"/>
                  <a:pt x="18953" y="11641"/>
                  <a:pt x="18926" y="11683"/>
                </a:cubicBezTo>
                <a:cubicBezTo>
                  <a:pt x="18898" y="11726"/>
                  <a:pt x="18839" y="11808"/>
                  <a:pt x="18827" y="11857"/>
                </a:cubicBezTo>
                <a:cubicBezTo>
                  <a:pt x="18813" y="11916"/>
                  <a:pt x="18856" y="11945"/>
                  <a:pt x="18901" y="11956"/>
                </a:cubicBezTo>
              </a:path>
              <a:path w="5285" h="5731">
                <a:moveTo>
                  <a:pt x="19819" y="8855"/>
                </a:moveTo>
                <a:cubicBezTo>
                  <a:pt x="19860" y="8814"/>
                  <a:pt x="19898" y="8790"/>
                  <a:pt x="19943" y="8756"/>
                </a:cubicBezTo>
                <a:cubicBezTo>
                  <a:pt x="19985" y="8724"/>
                  <a:pt x="20038" y="8709"/>
                  <a:pt x="20092" y="8706"/>
                </a:cubicBezTo>
                <a:cubicBezTo>
                  <a:pt x="20165" y="8702"/>
                  <a:pt x="20193" y="8760"/>
                  <a:pt x="20166" y="8830"/>
                </a:cubicBezTo>
                <a:cubicBezTo>
                  <a:pt x="20146" y="8881"/>
                  <a:pt x="20124" y="8952"/>
                  <a:pt x="20092" y="9004"/>
                </a:cubicBezTo>
                <a:cubicBezTo>
                  <a:pt x="20060" y="9057"/>
                  <a:pt x="20041" y="9104"/>
                  <a:pt x="20017" y="9153"/>
                </a:cubicBezTo>
                <a:cubicBezTo>
                  <a:pt x="19990" y="9210"/>
                  <a:pt x="19948" y="9269"/>
                  <a:pt x="19918" y="9327"/>
                </a:cubicBezTo>
                <a:cubicBezTo>
                  <a:pt x="19867" y="9428"/>
                  <a:pt x="19883" y="9318"/>
                  <a:pt x="19869" y="9451"/>
                </a:cubicBezTo>
                <a:cubicBezTo>
                  <a:pt x="19950" y="9451"/>
                  <a:pt x="20023" y="9462"/>
                  <a:pt x="20092" y="9475"/>
                </a:cubicBezTo>
                <a:cubicBezTo>
                  <a:pt x="20133" y="9475"/>
                  <a:pt x="20141" y="9475"/>
                  <a:pt x="20166" y="9475"/>
                </a:cubicBezTo>
              </a:path>
              <a:path w="5285" h="5731">
                <a:moveTo>
                  <a:pt x="19397" y="8905"/>
                </a:moveTo>
                <a:cubicBezTo>
                  <a:pt x="19345" y="8947"/>
                  <a:pt x="19317" y="8980"/>
                  <a:pt x="19273" y="9029"/>
                </a:cubicBezTo>
                <a:cubicBezTo>
                  <a:pt x="19250" y="9055"/>
                  <a:pt x="19224" y="9079"/>
                  <a:pt x="19199" y="9103"/>
                </a:cubicBezTo>
              </a:path>
              <a:path w="5285" h="5731">
                <a:moveTo>
                  <a:pt x="21258" y="8607"/>
                </a:moveTo>
                <a:cubicBezTo>
                  <a:pt x="21299" y="8565"/>
                  <a:pt x="21340" y="8518"/>
                  <a:pt x="21406" y="8533"/>
                </a:cubicBezTo>
                <a:cubicBezTo>
                  <a:pt x="21505" y="8555"/>
                  <a:pt x="21445" y="8617"/>
                  <a:pt x="21406" y="8657"/>
                </a:cubicBezTo>
                <a:cubicBezTo>
                  <a:pt x="21365" y="8698"/>
                  <a:pt x="21341" y="8736"/>
                  <a:pt x="21307" y="8781"/>
                </a:cubicBezTo>
                <a:cubicBezTo>
                  <a:pt x="21280" y="8817"/>
                  <a:pt x="21240" y="8848"/>
                  <a:pt x="21208" y="8880"/>
                </a:cubicBezTo>
                <a:cubicBezTo>
                  <a:pt x="21261" y="8933"/>
                  <a:pt x="21281" y="8930"/>
                  <a:pt x="21357" y="8930"/>
                </a:cubicBezTo>
                <a:cubicBezTo>
                  <a:pt x="21416" y="8930"/>
                  <a:pt x="21442" y="8927"/>
                  <a:pt x="21481" y="8905"/>
                </a:cubicBezTo>
              </a:path>
              <a:path w="5285" h="5731">
                <a:moveTo>
                  <a:pt x="21779" y="8533"/>
                </a:moveTo>
                <a:cubicBezTo>
                  <a:pt x="21738" y="8601"/>
                  <a:pt x="21701" y="8682"/>
                  <a:pt x="21654" y="8756"/>
                </a:cubicBezTo>
                <a:cubicBezTo>
                  <a:pt x="21610" y="8825"/>
                  <a:pt x="21570" y="8908"/>
                  <a:pt x="21530" y="8979"/>
                </a:cubicBezTo>
                <a:cubicBezTo>
                  <a:pt x="21490" y="9049"/>
                  <a:pt x="21450" y="9137"/>
                  <a:pt x="21406" y="9203"/>
                </a:cubicBezTo>
                <a:cubicBezTo>
                  <a:pt x="21370" y="9258"/>
                  <a:pt x="21326" y="9326"/>
                  <a:pt x="21282" y="9376"/>
                </a:cubicBezTo>
                <a:cubicBezTo>
                  <a:pt x="21254" y="9405"/>
                  <a:pt x="21246" y="9418"/>
                  <a:pt x="21258" y="9451"/>
                </a:cubicBezTo>
              </a:path>
              <a:path w="5285" h="5731">
                <a:moveTo>
                  <a:pt x="21903" y="9103"/>
                </a:moveTo>
                <a:cubicBezTo>
                  <a:pt x="21897" y="9064"/>
                  <a:pt x="21880" y="8994"/>
                  <a:pt x="21828" y="8979"/>
                </a:cubicBezTo>
                <a:cubicBezTo>
                  <a:pt x="21757" y="8958"/>
                  <a:pt x="21699" y="9008"/>
                  <a:pt x="21654" y="9054"/>
                </a:cubicBezTo>
                <a:cubicBezTo>
                  <a:pt x="21620" y="9089"/>
                  <a:pt x="21579" y="9156"/>
                  <a:pt x="21654" y="9178"/>
                </a:cubicBezTo>
                <a:cubicBezTo>
                  <a:pt x="21720" y="9197"/>
                  <a:pt x="21763" y="9143"/>
                  <a:pt x="21803" y="9103"/>
                </a:cubicBezTo>
                <a:cubicBezTo>
                  <a:pt x="21833" y="9074"/>
                  <a:pt x="21845" y="9060"/>
                  <a:pt x="21853" y="9029"/>
                </a:cubicBezTo>
                <a:cubicBezTo>
                  <a:pt x="21853" y="9174"/>
                  <a:pt x="21845" y="9308"/>
                  <a:pt x="21828" y="9451"/>
                </a:cubicBezTo>
                <a:cubicBezTo>
                  <a:pt x="21822" y="9502"/>
                  <a:pt x="21741" y="9525"/>
                  <a:pt x="21754" y="9575"/>
                </a:cubicBezTo>
                <a:cubicBezTo>
                  <a:pt x="21762" y="9575"/>
                  <a:pt x="21771" y="9575"/>
                  <a:pt x="21779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2895480" y="1143000"/>
          <a:ext cx="3505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143000"/>
                    <a:ext cx="350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Ink 15"/>
          <p:cNvSpPr/>
          <p:nvPr/>
        </p:nvSpPr>
        <p:spPr>
          <a:xfrm>
            <a:off x="3983040" y="741240"/>
            <a:ext cx="1035000" cy="374760"/>
          </a:xfrm>
          <a:custGeom>
            <a:avLst/>
            <a:gdLst/>
            <a:ahLst/>
            <a:rect l="l" t="t" r="r" b="b"/>
            <a:pathLst>
              <a:path w="2878" h="1043">
                <a:moveTo>
                  <a:pt x="11187" y="2108"/>
                </a:moveTo>
                <a:cubicBezTo>
                  <a:pt x="11241" y="2108"/>
                  <a:pt x="11708" y="2128"/>
                  <a:pt x="11708" y="2084"/>
                </a:cubicBezTo>
                <a:cubicBezTo>
                  <a:pt x="11700" y="2084"/>
                  <a:pt x="11691" y="2084"/>
                  <a:pt x="11683" y="2084"/>
                </a:cubicBezTo>
              </a:path>
              <a:path w="2878" h="1043">
                <a:moveTo>
                  <a:pt x="11187" y="2133"/>
                </a:moveTo>
                <a:cubicBezTo>
                  <a:pt x="11125" y="2230"/>
                  <a:pt x="11112" y="2266"/>
                  <a:pt x="11112" y="2381"/>
                </a:cubicBezTo>
                <a:cubicBezTo>
                  <a:pt x="11112" y="2447"/>
                  <a:pt x="11099" y="2501"/>
                  <a:pt x="11088" y="2555"/>
                </a:cubicBezTo>
                <a:cubicBezTo>
                  <a:pt x="11088" y="2571"/>
                  <a:pt x="11088" y="2588"/>
                  <a:pt x="11088" y="2604"/>
                </a:cubicBezTo>
                <a:cubicBezTo>
                  <a:pt x="11122" y="2570"/>
                  <a:pt x="11155" y="2507"/>
                  <a:pt x="11187" y="2480"/>
                </a:cubicBezTo>
                <a:cubicBezTo>
                  <a:pt x="11211" y="2459"/>
                  <a:pt x="11313" y="2404"/>
                  <a:pt x="11336" y="2406"/>
                </a:cubicBezTo>
                <a:cubicBezTo>
                  <a:pt x="11422" y="2415"/>
                  <a:pt x="11472" y="2460"/>
                  <a:pt x="11509" y="2530"/>
                </a:cubicBezTo>
                <a:cubicBezTo>
                  <a:pt x="11558" y="2623"/>
                  <a:pt x="11580" y="2671"/>
                  <a:pt x="11584" y="2778"/>
                </a:cubicBezTo>
                <a:cubicBezTo>
                  <a:pt x="11587" y="2860"/>
                  <a:pt x="11574" y="2886"/>
                  <a:pt x="11534" y="2952"/>
                </a:cubicBezTo>
                <a:cubicBezTo>
                  <a:pt x="11489" y="3025"/>
                  <a:pt x="11453" y="3058"/>
                  <a:pt x="11361" y="3076"/>
                </a:cubicBezTo>
                <a:cubicBezTo>
                  <a:pt x="11293" y="3089"/>
                  <a:pt x="11234" y="3101"/>
                  <a:pt x="11162" y="3101"/>
                </a:cubicBezTo>
                <a:cubicBezTo>
                  <a:pt x="11107" y="3101"/>
                  <a:pt x="11048" y="3079"/>
                  <a:pt x="11088" y="3026"/>
                </a:cubicBezTo>
                <a:cubicBezTo>
                  <a:pt x="11096" y="3018"/>
                  <a:pt x="11104" y="3009"/>
                  <a:pt x="11112" y="3001"/>
                </a:cubicBezTo>
              </a:path>
              <a:path w="2878" h="1043">
                <a:moveTo>
                  <a:pt x="11807" y="2480"/>
                </a:moveTo>
                <a:cubicBezTo>
                  <a:pt x="11895" y="2568"/>
                  <a:pt x="11913" y="2616"/>
                  <a:pt x="11981" y="2704"/>
                </a:cubicBezTo>
                <a:cubicBezTo>
                  <a:pt x="12019" y="2753"/>
                  <a:pt x="12078" y="2797"/>
                  <a:pt x="12129" y="2828"/>
                </a:cubicBezTo>
                <a:cubicBezTo>
                  <a:pt x="12159" y="2846"/>
                  <a:pt x="12252" y="2905"/>
                  <a:pt x="12278" y="2902"/>
                </a:cubicBezTo>
                <a:cubicBezTo>
                  <a:pt x="12322" y="2880"/>
                  <a:pt x="12333" y="2877"/>
                  <a:pt x="12353" y="2853"/>
                </a:cubicBezTo>
              </a:path>
              <a:path w="2878" h="1043">
                <a:moveTo>
                  <a:pt x="12229" y="2505"/>
                </a:moveTo>
                <a:cubicBezTo>
                  <a:pt x="12161" y="2607"/>
                  <a:pt x="12071" y="2703"/>
                  <a:pt x="12005" y="2803"/>
                </a:cubicBezTo>
                <a:cubicBezTo>
                  <a:pt x="11983" y="2836"/>
                  <a:pt x="11925" y="2914"/>
                  <a:pt x="11881" y="2927"/>
                </a:cubicBezTo>
                <a:cubicBezTo>
                  <a:pt x="11827" y="2943"/>
                  <a:pt x="11819" y="2946"/>
                  <a:pt x="11782" y="2927"/>
                </a:cubicBezTo>
              </a:path>
              <a:path w="2878" h="1043">
                <a:moveTo>
                  <a:pt x="13047" y="2282"/>
                </a:moveTo>
                <a:cubicBezTo>
                  <a:pt x="13012" y="2351"/>
                  <a:pt x="13001" y="2445"/>
                  <a:pt x="12998" y="2530"/>
                </a:cubicBezTo>
                <a:cubicBezTo>
                  <a:pt x="12995" y="2614"/>
                  <a:pt x="13018" y="2674"/>
                  <a:pt x="13022" y="2753"/>
                </a:cubicBezTo>
                <a:cubicBezTo>
                  <a:pt x="13025" y="2811"/>
                  <a:pt x="13022" y="2869"/>
                  <a:pt x="13022" y="2927"/>
                </a:cubicBezTo>
              </a:path>
              <a:path w="2878" h="1043">
                <a:moveTo>
                  <a:pt x="12774" y="2704"/>
                </a:moveTo>
                <a:cubicBezTo>
                  <a:pt x="12857" y="2698"/>
                  <a:pt x="12966" y="2700"/>
                  <a:pt x="13047" y="2679"/>
                </a:cubicBezTo>
                <a:cubicBezTo>
                  <a:pt x="13114" y="2661"/>
                  <a:pt x="13176" y="2646"/>
                  <a:pt x="13246" y="2629"/>
                </a:cubicBezTo>
              </a:path>
              <a:path w="2878" h="1043">
                <a:moveTo>
                  <a:pt x="13543" y="2332"/>
                </a:moveTo>
                <a:cubicBezTo>
                  <a:pt x="13572" y="2273"/>
                  <a:pt x="13610" y="2235"/>
                  <a:pt x="13643" y="2183"/>
                </a:cubicBezTo>
                <a:cubicBezTo>
                  <a:pt x="13675" y="2132"/>
                  <a:pt x="13699" y="2075"/>
                  <a:pt x="13767" y="2059"/>
                </a:cubicBezTo>
                <a:cubicBezTo>
                  <a:pt x="13840" y="2042"/>
                  <a:pt x="13864" y="2130"/>
                  <a:pt x="13866" y="2183"/>
                </a:cubicBezTo>
                <a:cubicBezTo>
                  <a:pt x="13870" y="2278"/>
                  <a:pt x="13858" y="2323"/>
                  <a:pt x="13816" y="2406"/>
                </a:cubicBezTo>
                <a:cubicBezTo>
                  <a:pt x="13786" y="2466"/>
                  <a:pt x="13747" y="2564"/>
                  <a:pt x="13692" y="2604"/>
                </a:cubicBezTo>
                <a:cubicBezTo>
                  <a:pt x="13649" y="2626"/>
                  <a:pt x="13637" y="2630"/>
                  <a:pt x="13618" y="2654"/>
                </a:cubicBezTo>
                <a:cubicBezTo>
                  <a:pt x="13637" y="2585"/>
                  <a:pt x="13662" y="2560"/>
                  <a:pt x="13742" y="2555"/>
                </a:cubicBezTo>
                <a:cubicBezTo>
                  <a:pt x="13848" y="2549"/>
                  <a:pt x="13914" y="2633"/>
                  <a:pt x="13940" y="2729"/>
                </a:cubicBezTo>
                <a:cubicBezTo>
                  <a:pt x="13959" y="2799"/>
                  <a:pt x="13928" y="2894"/>
                  <a:pt x="13891" y="2952"/>
                </a:cubicBezTo>
                <a:cubicBezTo>
                  <a:pt x="13868" y="2988"/>
                  <a:pt x="13781" y="2999"/>
                  <a:pt x="13742" y="3001"/>
                </a:cubicBezTo>
                <a:cubicBezTo>
                  <a:pt x="13700" y="3003"/>
                  <a:pt x="13583" y="2993"/>
                  <a:pt x="13543" y="2977"/>
                </a:cubicBezTo>
                <a:cubicBezTo>
                  <a:pt x="13521" y="2954"/>
                  <a:pt x="13516" y="2946"/>
                  <a:pt x="13494" y="29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6"/>
          <p:cNvSpPr/>
          <p:nvPr/>
        </p:nvSpPr>
        <p:spPr>
          <a:xfrm>
            <a:off x="3724200" y="1830240"/>
            <a:ext cx="2384640" cy="947880"/>
          </a:xfrm>
          <a:custGeom>
            <a:avLst/>
            <a:gdLst/>
            <a:ahLst/>
            <a:rect l="l" t="t" r="r" b="b"/>
            <a:pathLst>
              <a:path w="6623" h="2630">
                <a:moveTo>
                  <a:pt x="11013" y="5730"/>
                </a:moveTo>
                <a:cubicBezTo>
                  <a:pt x="11083" y="5756"/>
                  <a:pt x="11136" y="5755"/>
                  <a:pt x="11212" y="5755"/>
                </a:cubicBezTo>
                <a:cubicBezTo>
                  <a:pt x="11290" y="5755"/>
                  <a:pt x="11452" y="5780"/>
                  <a:pt x="11485" y="5730"/>
                </a:cubicBezTo>
              </a:path>
              <a:path w="6623" h="2630">
                <a:moveTo>
                  <a:pt x="11038" y="5779"/>
                </a:moveTo>
                <a:cubicBezTo>
                  <a:pt x="11007" y="5852"/>
                  <a:pt x="10977" y="5926"/>
                  <a:pt x="10964" y="6003"/>
                </a:cubicBezTo>
                <a:cubicBezTo>
                  <a:pt x="10964" y="6019"/>
                  <a:pt x="10964" y="6036"/>
                  <a:pt x="10964" y="6052"/>
                </a:cubicBezTo>
                <a:cubicBezTo>
                  <a:pt x="11014" y="6002"/>
                  <a:pt x="11040" y="5957"/>
                  <a:pt x="11112" y="5953"/>
                </a:cubicBezTo>
                <a:cubicBezTo>
                  <a:pt x="11173" y="5949"/>
                  <a:pt x="11227" y="5976"/>
                  <a:pt x="11261" y="6028"/>
                </a:cubicBezTo>
                <a:cubicBezTo>
                  <a:pt x="11301" y="6091"/>
                  <a:pt x="11314" y="6135"/>
                  <a:pt x="11336" y="6201"/>
                </a:cubicBezTo>
                <a:cubicBezTo>
                  <a:pt x="11362" y="6278"/>
                  <a:pt x="11371" y="6377"/>
                  <a:pt x="11311" y="6449"/>
                </a:cubicBezTo>
                <a:cubicBezTo>
                  <a:pt x="11274" y="6494"/>
                  <a:pt x="11191" y="6521"/>
                  <a:pt x="11137" y="6524"/>
                </a:cubicBezTo>
                <a:cubicBezTo>
                  <a:pt x="11048" y="6529"/>
                  <a:pt x="10937" y="6538"/>
                  <a:pt x="10864" y="6499"/>
                </a:cubicBezTo>
                <a:cubicBezTo>
                  <a:pt x="10787" y="6457"/>
                  <a:pt x="10798" y="6467"/>
                  <a:pt x="10815" y="6400"/>
                </a:cubicBezTo>
              </a:path>
              <a:path w="6623" h="2630">
                <a:moveTo>
                  <a:pt x="11584" y="6152"/>
                </a:moveTo>
                <a:cubicBezTo>
                  <a:pt x="11626" y="6219"/>
                  <a:pt x="11672" y="6281"/>
                  <a:pt x="11708" y="6350"/>
                </a:cubicBezTo>
                <a:cubicBezTo>
                  <a:pt x="11750" y="6429"/>
                  <a:pt x="11763" y="6448"/>
                  <a:pt x="11832" y="6499"/>
                </a:cubicBezTo>
                <a:cubicBezTo>
                  <a:pt x="11878" y="6533"/>
                  <a:pt x="11911" y="6595"/>
                  <a:pt x="11981" y="6573"/>
                </a:cubicBezTo>
                <a:cubicBezTo>
                  <a:pt x="11989" y="6565"/>
                  <a:pt x="11997" y="6556"/>
                  <a:pt x="12005" y="6548"/>
                </a:cubicBezTo>
              </a:path>
              <a:path w="6623" h="2630">
                <a:moveTo>
                  <a:pt x="11881" y="6077"/>
                </a:moveTo>
                <a:cubicBezTo>
                  <a:pt x="11817" y="6176"/>
                  <a:pt x="11748" y="6243"/>
                  <a:pt x="11683" y="6325"/>
                </a:cubicBezTo>
                <a:cubicBezTo>
                  <a:pt x="11636" y="6384"/>
                  <a:pt x="11606" y="6442"/>
                  <a:pt x="11559" y="6499"/>
                </a:cubicBezTo>
                <a:cubicBezTo>
                  <a:pt x="11532" y="6532"/>
                  <a:pt x="11467" y="6630"/>
                  <a:pt x="11509" y="6524"/>
                </a:cubicBezTo>
              </a:path>
              <a:path w="6623" h="2630">
                <a:moveTo>
                  <a:pt x="12030" y="5730"/>
                </a:moveTo>
                <a:cubicBezTo>
                  <a:pt x="12095" y="5708"/>
                  <a:pt x="12110" y="5700"/>
                  <a:pt x="12154" y="5705"/>
                </a:cubicBezTo>
                <a:cubicBezTo>
                  <a:pt x="12172" y="5760"/>
                  <a:pt x="12167" y="5814"/>
                  <a:pt x="12105" y="5854"/>
                </a:cubicBezTo>
                <a:cubicBezTo>
                  <a:pt x="12070" y="5877"/>
                  <a:pt x="12018" y="5937"/>
                  <a:pt x="11981" y="5953"/>
                </a:cubicBezTo>
                <a:cubicBezTo>
                  <a:pt x="11973" y="5953"/>
                  <a:pt x="11964" y="5953"/>
                  <a:pt x="11956" y="5953"/>
                </a:cubicBezTo>
                <a:cubicBezTo>
                  <a:pt x="12026" y="5980"/>
                  <a:pt x="12078" y="5978"/>
                  <a:pt x="12154" y="5978"/>
                </a:cubicBezTo>
                <a:cubicBezTo>
                  <a:pt x="12219" y="5978"/>
                  <a:pt x="12266" y="5963"/>
                  <a:pt x="12328" y="5953"/>
                </a:cubicBezTo>
              </a:path>
              <a:path w="6623" h="2630">
                <a:moveTo>
                  <a:pt x="12650" y="6102"/>
                </a:moveTo>
                <a:cubicBezTo>
                  <a:pt x="12694" y="6128"/>
                  <a:pt x="12770" y="6143"/>
                  <a:pt x="12824" y="6152"/>
                </a:cubicBezTo>
                <a:cubicBezTo>
                  <a:pt x="12914" y="6167"/>
                  <a:pt x="13016" y="6160"/>
                  <a:pt x="13097" y="6176"/>
                </a:cubicBezTo>
                <a:cubicBezTo>
                  <a:pt x="13138" y="6176"/>
                  <a:pt x="13154" y="6184"/>
                  <a:pt x="13146" y="6152"/>
                </a:cubicBezTo>
              </a:path>
              <a:path w="6623" h="2630">
                <a:moveTo>
                  <a:pt x="13395" y="5829"/>
                </a:moveTo>
                <a:cubicBezTo>
                  <a:pt x="13453" y="5771"/>
                  <a:pt x="13495" y="5742"/>
                  <a:pt x="13568" y="5705"/>
                </a:cubicBezTo>
                <a:cubicBezTo>
                  <a:pt x="13622" y="5678"/>
                  <a:pt x="13730" y="5640"/>
                  <a:pt x="13791" y="5655"/>
                </a:cubicBezTo>
                <a:cubicBezTo>
                  <a:pt x="13844" y="5668"/>
                  <a:pt x="13857" y="5764"/>
                  <a:pt x="13841" y="5804"/>
                </a:cubicBezTo>
                <a:cubicBezTo>
                  <a:pt x="13823" y="5849"/>
                  <a:pt x="13749" y="5919"/>
                  <a:pt x="13717" y="5953"/>
                </a:cubicBezTo>
                <a:cubicBezTo>
                  <a:pt x="13665" y="6009"/>
                  <a:pt x="13610" y="6065"/>
                  <a:pt x="13568" y="6127"/>
                </a:cubicBezTo>
                <a:cubicBezTo>
                  <a:pt x="13523" y="6194"/>
                  <a:pt x="13463" y="6244"/>
                  <a:pt x="13419" y="6300"/>
                </a:cubicBezTo>
                <a:cubicBezTo>
                  <a:pt x="13392" y="6334"/>
                  <a:pt x="13367" y="6386"/>
                  <a:pt x="13345" y="6424"/>
                </a:cubicBezTo>
                <a:cubicBezTo>
                  <a:pt x="13430" y="6493"/>
                  <a:pt x="13442" y="6461"/>
                  <a:pt x="13543" y="6449"/>
                </a:cubicBezTo>
                <a:cubicBezTo>
                  <a:pt x="13644" y="6437"/>
                  <a:pt x="13671" y="6425"/>
                  <a:pt x="13767" y="6400"/>
                </a:cubicBezTo>
                <a:cubicBezTo>
                  <a:pt x="13775" y="6400"/>
                  <a:pt x="13783" y="6400"/>
                  <a:pt x="13791" y="6400"/>
                </a:cubicBezTo>
              </a:path>
              <a:path w="6623" h="2630">
                <a:moveTo>
                  <a:pt x="14213" y="5779"/>
                </a:moveTo>
                <a:cubicBezTo>
                  <a:pt x="14206" y="5827"/>
                  <a:pt x="14180" y="5917"/>
                  <a:pt x="14139" y="5953"/>
                </a:cubicBezTo>
                <a:cubicBezTo>
                  <a:pt x="14093" y="5994"/>
                  <a:pt x="14031" y="6096"/>
                  <a:pt x="14015" y="6176"/>
                </a:cubicBezTo>
                <a:cubicBezTo>
                  <a:pt x="13998" y="6261"/>
                  <a:pt x="13992" y="6316"/>
                  <a:pt x="14039" y="6400"/>
                </a:cubicBezTo>
                <a:cubicBezTo>
                  <a:pt x="14080" y="6474"/>
                  <a:pt x="14197" y="6449"/>
                  <a:pt x="14263" y="6449"/>
                </a:cubicBezTo>
                <a:cubicBezTo>
                  <a:pt x="14330" y="6449"/>
                  <a:pt x="14387" y="6421"/>
                  <a:pt x="14436" y="6375"/>
                </a:cubicBezTo>
                <a:cubicBezTo>
                  <a:pt x="14507" y="6308"/>
                  <a:pt x="14509" y="6259"/>
                  <a:pt x="14536" y="6176"/>
                </a:cubicBezTo>
                <a:cubicBezTo>
                  <a:pt x="14557" y="6110"/>
                  <a:pt x="14566" y="6044"/>
                  <a:pt x="14536" y="5978"/>
                </a:cubicBezTo>
                <a:cubicBezTo>
                  <a:pt x="14514" y="5931"/>
                  <a:pt x="14463" y="5897"/>
                  <a:pt x="14436" y="5854"/>
                </a:cubicBezTo>
                <a:cubicBezTo>
                  <a:pt x="14404" y="5803"/>
                  <a:pt x="14265" y="5768"/>
                  <a:pt x="14312" y="5730"/>
                </a:cubicBezTo>
                <a:cubicBezTo>
                  <a:pt x="14329" y="5730"/>
                  <a:pt x="14345" y="5730"/>
                  <a:pt x="14362" y="5730"/>
                </a:cubicBezTo>
              </a:path>
              <a:path w="6623" h="2630">
                <a:moveTo>
                  <a:pt x="14684" y="5879"/>
                </a:moveTo>
                <a:cubicBezTo>
                  <a:pt x="14722" y="6002"/>
                  <a:pt x="14753" y="6090"/>
                  <a:pt x="14808" y="6201"/>
                </a:cubicBezTo>
                <a:cubicBezTo>
                  <a:pt x="14832" y="6249"/>
                  <a:pt x="14867" y="6339"/>
                  <a:pt x="14908" y="6375"/>
                </a:cubicBezTo>
                <a:cubicBezTo>
                  <a:pt x="14941" y="6404"/>
                  <a:pt x="15011" y="6460"/>
                  <a:pt x="15056" y="6449"/>
                </a:cubicBezTo>
                <a:cubicBezTo>
                  <a:pt x="15096" y="6429"/>
                  <a:pt x="15113" y="6431"/>
                  <a:pt x="15106" y="6400"/>
                </a:cubicBezTo>
              </a:path>
              <a:path w="6623" h="2630">
                <a:moveTo>
                  <a:pt x="15081" y="6052"/>
                </a:moveTo>
                <a:cubicBezTo>
                  <a:pt x="15013" y="6140"/>
                  <a:pt x="14956" y="6222"/>
                  <a:pt x="14858" y="6276"/>
                </a:cubicBezTo>
                <a:cubicBezTo>
                  <a:pt x="14800" y="6308"/>
                  <a:pt x="14750" y="6339"/>
                  <a:pt x="14684" y="6350"/>
                </a:cubicBezTo>
                <a:cubicBezTo>
                  <a:pt x="14632" y="6359"/>
                  <a:pt x="14588" y="6368"/>
                  <a:pt x="14536" y="6375"/>
                </a:cubicBezTo>
              </a:path>
              <a:path w="6623" h="2630">
                <a:moveTo>
                  <a:pt x="10592" y="5507"/>
                </a:moveTo>
                <a:cubicBezTo>
                  <a:pt x="10682" y="5507"/>
                  <a:pt x="10756" y="5517"/>
                  <a:pt x="10840" y="5531"/>
                </a:cubicBezTo>
                <a:cubicBezTo>
                  <a:pt x="10976" y="5553"/>
                  <a:pt x="10854" y="5522"/>
                  <a:pt x="10815" y="5507"/>
                </a:cubicBezTo>
                <a:cubicBezTo>
                  <a:pt x="10745" y="5480"/>
                  <a:pt x="10675" y="5482"/>
                  <a:pt x="10592" y="5482"/>
                </a:cubicBezTo>
                <a:cubicBezTo>
                  <a:pt x="10575" y="5482"/>
                  <a:pt x="10559" y="5482"/>
                  <a:pt x="10542" y="5482"/>
                </a:cubicBezTo>
                <a:cubicBezTo>
                  <a:pt x="10637" y="5506"/>
                  <a:pt x="10716" y="5507"/>
                  <a:pt x="10815" y="5507"/>
                </a:cubicBezTo>
                <a:cubicBezTo>
                  <a:pt x="10941" y="5507"/>
                  <a:pt x="10964" y="5503"/>
                  <a:pt x="10815" y="5482"/>
                </a:cubicBezTo>
                <a:cubicBezTo>
                  <a:pt x="10733" y="5470"/>
                  <a:pt x="10669" y="5496"/>
                  <a:pt x="10592" y="5507"/>
                </a:cubicBezTo>
                <a:cubicBezTo>
                  <a:pt x="10460" y="5526"/>
                  <a:pt x="10706" y="5507"/>
                  <a:pt x="10740" y="5507"/>
                </a:cubicBezTo>
                <a:cubicBezTo>
                  <a:pt x="10806" y="5507"/>
                  <a:pt x="10873" y="5507"/>
                  <a:pt x="10939" y="5507"/>
                </a:cubicBezTo>
                <a:cubicBezTo>
                  <a:pt x="10869" y="5498"/>
                  <a:pt x="10814" y="5482"/>
                  <a:pt x="10740" y="5482"/>
                </a:cubicBezTo>
                <a:cubicBezTo>
                  <a:pt x="10726" y="5482"/>
                  <a:pt x="10530" y="5483"/>
                  <a:pt x="10616" y="5507"/>
                </a:cubicBezTo>
                <a:cubicBezTo>
                  <a:pt x="10633" y="5507"/>
                  <a:pt x="10649" y="5507"/>
                  <a:pt x="10666" y="5507"/>
                </a:cubicBezTo>
              </a:path>
              <a:path w="6623" h="2630">
                <a:moveTo>
                  <a:pt x="11088" y="5383"/>
                </a:moveTo>
                <a:cubicBezTo>
                  <a:pt x="10999" y="5326"/>
                  <a:pt x="10967" y="5308"/>
                  <a:pt x="10864" y="5308"/>
                </a:cubicBezTo>
                <a:cubicBezTo>
                  <a:pt x="10782" y="5308"/>
                  <a:pt x="10667" y="5309"/>
                  <a:pt x="10592" y="5333"/>
                </a:cubicBezTo>
                <a:cubicBezTo>
                  <a:pt x="10549" y="5347"/>
                  <a:pt x="10458" y="5404"/>
                  <a:pt x="10418" y="5432"/>
                </a:cubicBezTo>
                <a:cubicBezTo>
                  <a:pt x="10381" y="5458"/>
                  <a:pt x="10328" y="5507"/>
                  <a:pt x="10344" y="5556"/>
                </a:cubicBezTo>
                <a:cubicBezTo>
                  <a:pt x="10357" y="5595"/>
                  <a:pt x="10455" y="5671"/>
                  <a:pt x="10492" y="5680"/>
                </a:cubicBezTo>
                <a:cubicBezTo>
                  <a:pt x="10562" y="5696"/>
                  <a:pt x="10631" y="5685"/>
                  <a:pt x="10691" y="5680"/>
                </a:cubicBezTo>
                <a:cubicBezTo>
                  <a:pt x="10769" y="5673"/>
                  <a:pt x="10841" y="5679"/>
                  <a:pt x="10914" y="5655"/>
                </a:cubicBezTo>
                <a:cubicBezTo>
                  <a:pt x="10965" y="5639"/>
                  <a:pt x="11024" y="5591"/>
                  <a:pt x="11063" y="5556"/>
                </a:cubicBezTo>
                <a:cubicBezTo>
                  <a:pt x="11124" y="5501"/>
                  <a:pt x="11108" y="5467"/>
                  <a:pt x="11063" y="5407"/>
                </a:cubicBezTo>
                <a:cubicBezTo>
                  <a:pt x="11018" y="5348"/>
                  <a:pt x="10948" y="5353"/>
                  <a:pt x="10889" y="5333"/>
                </a:cubicBezTo>
                <a:cubicBezTo>
                  <a:pt x="10828" y="5312"/>
                  <a:pt x="10811" y="5299"/>
                  <a:pt x="10840" y="5358"/>
                </a:cubicBezTo>
              </a:path>
              <a:path w="6623" h="2630">
                <a:moveTo>
                  <a:pt x="12948" y="5953"/>
                </a:moveTo>
                <a:cubicBezTo>
                  <a:pt x="12948" y="6029"/>
                  <a:pt x="12916" y="6170"/>
                  <a:pt x="12923" y="6226"/>
                </a:cubicBezTo>
                <a:cubicBezTo>
                  <a:pt x="12931" y="6243"/>
                  <a:pt x="12940" y="6259"/>
                  <a:pt x="12948" y="6276"/>
                </a:cubicBezTo>
              </a:path>
              <a:path w="6623" h="2630">
                <a:moveTo>
                  <a:pt x="12998" y="5804"/>
                </a:moveTo>
                <a:cubicBezTo>
                  <a:pt x="12917" y="5804"/>
                  <a:pt x="12799" y="5783"/>
                  <a:pt x="12725" y="5829"/>
                </a:cubicBezTo>
                <a:cubicBezTo>
                  <a:pt x="12667" y="5865"/>
                  <a:pt x="12626" y="5911"/>
                  <a:pt x="12576" y="5953"/>
                </a:cubicBezTo>
                <a:cubicBezTo>
                  <a:pt x="12515" y="6003"/>
                  <a:pt x="12526" y="6082"/>
                  <a:pt x="12526" y="6152"/>
                </a:cubicBezTo>
                <a:cubicBezTo>
                  <a:pt x="12526" y="6234"/>
                  <a:pt x="12535" y="6258"/>
                  <a:pt x="12576" y="6325"/>
                </a:cubicBezTo>
                <a:cubicBezTo>
                  <a:pt x="12637" y="6427"/>
                  <a:pt x="12682" y="6424"/>
                  <a:pt x="12799" y="6424"/>
                </a:cubicBezTo>
                <a:cubicBezTo>
                  <a:pt x="12882" y="6424"/>
                  <a:pt x="13001" y="6448"/>
                  <a:pt x="13072" y="6400"/>
                </a:cubicBezTo>
                <a:cubicBezTo>
                  <a:pt x="13141" y="6353"/>
                  <a:pt x="13205" y="6299"/>
                  <a:pt x="13246" y="6226"/>
                </a:cubicBezTo>
                <a:cubicBezTo>
                  <a:pt x="13291" y="6144"/>
                  <a:pt x="13279" y="6087"/>
                  <a:pt x="13271" y="6003"/>
                </a:cubicBezTo>
                <a:cubicBezTo>
                  <a:pt x="13267" y="5956"/>
                  <a:pt x="13243" y="5917"/>
                  <a:pt x="13196" y="5879"/>
                </a:cubicBezTo>
                <a:cubicBezTo>
                  <a:pt x="13122" y="5820"/>
                  <a:pt x="13062" y="5783"/>
                  <a:pt x="12973" y="5779"/>
                </a:cubicBezTo>
                <a:cubicBezTo>
                  <a:pt x="12921" y="5779"/>
                  <a:pt x="12903" y="5780"/>
                  <a:pt x="12874" y="5804"/>
                </a:cubicBezTo>
              </a:path>
              <a:path w="6623" h="2630">
                <a:moveTo>
                  <a:pt x="13519" y="7045"/>
                </a:moveTo>
                <a:cubicBezTo>
                  <a:pt x="13574" y="6989"/>
                  <a:pt x="13623" y="6934"/>
                  <a:pt x="13692" y="6896"/>
                </a:cubicBezTo>
                <a:cubicBezTo>
                  <a:pt x="13748" y="6865"/>
                  <a:pt x="13813" y="6869"/>
                  <a:pt x="13866" y="6896"/>
                </a:cubicBezTo>
                <a:cubicBezTo>
                  <a:pt x="13938" y="6932"/>
                  <a:pt x="13900" y="6973"/>
                  <a:pt x="13891" y="7020"/>
                </a:cubicBezTo>
                <a:cubicBezTo>
                  <a:pt x="13877" y="7093"/>
                  <a:pt x="13854" y="7130"/>
                  <a:pt x="13816" y="7193"/>
                </a:cubicBezTo>
                <a:cubicBezTo>
                  <a:pt x="13789" y="7237"/>
                  <a:pt x="13763" y="7288"/>
                  <a:pt x="13717" y="7317"/>
                </a:cubicBezTo>
                <a:cubicBezTo>
                  <a:pt x="13673" y="7339"/>
                  <a:pt x="13662" y="7352"/>
                  <a:pt x="13643" y="7317"/>
                </a:cubicBezTo>
                <a:cubicBezTo>
                  <a:pt x="13717" y="7280"/>
                  <a:pt x="13758" y="7268"/>
                  <a:pt x="13841" y="7268"/>
                </a:cubicBezTo>
                <a:cubicBezTo>
                  <a:pt x="13880" y="7268"/>
                  <a:pt x="13951" y="7294"/>
                  <a:pt x="13965" y="7342"/>
                </a:cubicBezTo>
                <a:cubicBezTo>
                  <a:pt x="13983" y="7403"/>
                  <a:pt x="13959" y="7468"/>
                  <a:pt x="13940" y="7516"/>
                </a:cubicBezTo>
                <a:cubicBezTo>
                  <a:pt x="13912" y="7585"/>
                  <a:pt x="13875" y="7670"/>
                  <a:pt x="13791" y="7689"/>
                </a:cubicBezTo>
                <a:cubicBezTo>
                  <a:pt x="13726" y="7704"/>
                  <a:pt x="13638" y="7733"/>
                  <a:pt x="13568" y="7714"/>
                </a:cubicBezTo>
                <a:cubicBezTo>
                  <a:pt x="13498" y="7695"/>
                  <a:pt x="13502" y="7672"/>
                  <a:pt x="13494" y="7615"/>
                </a:cubicBezTo>
              </a:path>
              <a:path w="6623" h="2630">
                <a:moveTo>
                  <a:pt x="14213" y="7169"/>
                </a:moveTo>
                <a:cubicBezTo>
                  <a:pt x="14276" y="7271"/>
                  <a:pt x="14331" y="7379"/>
                  <a:pt x="14412" y="7466"/>
                </a:cubicBezTo>
                <a:cubicBezTo>
                  <a:pt x="14472" y="7530"/>
                  <a:pt x="14512" y="7613"/>
                  <a:pt x="14585" y="7665"/>
                </a:cubicBezTo>
                <a:cubicBezTo>
                  <a:pt x="14659" y="7718"/>
                  <a:pt x="14705" y="7719"/>
                  <a:pt x="14784" y="7689"/>
                </a:cubicBezTo>
              </a:path>
              <a:path w="6623" h="2630">
                <a:moveTo>
                  <a:pt x="14560" y="7094"/>
                </a:moveTo>
                <a:cubicBezTo>
                  <a:pt x="14474" y="7210"/>
                  <a:pt x="14394" y="7292"/>
                  <a:pt x="14312" y="7392"/>
                </a:cubicBezTo>
                <a:cubicBezTo>
                  <a:pt x="14273" y="7440"/>
                  <a:pt x="14210" y="7463"/>
                  <a:pt x="14188" y="7441"/>
                </a:cubicBezTo>
              </a:path>
              <a:path w="6623" h="2630">
                <a:moveTo>
                  <a:pt x="16222" y="5432"/>
                </a:moveTo>
                <a:cubicBezTo>
                  <a:pt x="16222" y="5520"/>
                  <a:pt x="16201" y="5595"/>
                  <a:pt x="16197" y="5680"/>
                </a:cubicBezTo>
                <a:cubicBezTo>
                  <a:pt x="16193" y="5782"/>
                  <a:pt x="16173" y="5874"/>
                  <a:pt x="16173" y="5978"/>
                </a:cubicBezTo>
                <a:cubicBezTo>
                  <a:pt x="16173" y="6123"/>
                  <a:pt x="16221" y="6375"/>
                  <a:pt x="16197" y="6499"/>
                </a:cubicBezTo>
                <a:cubicBezTo>
                  <a:pt x="16189" y="6507"/>
                  <a:pt x="16181" y="6516"/>
                  <a:pt x="16173" y="6524"/>
                </a:cubicBezTo>
              </a:path>
              <a:path w="6623" h="2630">
                <a:moveTo>
                  <a:pt x="15726" y="6499"/>
                </a:moveTo>
                <a:cubicBezTo>
                  <a:pt x="15755" y="6572"/>
                  <a:pt x="15772" y="6595"/>
                  <a:pt x="15825" y="6648"/>
                </a:cubicBezTo>
                <a:cubicBezTo>
                  <a:pt x="15860" y="6683"/>
                  <a:pt x="15915" y="6767"/>
                  <a:pt x="15974" y="6747"/>
                </a:cubicBezTo>
                <a:cubicBezTo>
                  <a:pt x="15998" y="6739"/>
                  <a:pt x="16056" y="6649"/>
                  <a:pt x="16073" y="6623"/>
                </a:cubicBezTo>
                <a:cubicBezTo>
                  <a:pt x="16118" y="6552"/>
                  <a:pt x="16138" y="6486"/>
                  <a:pt x="16197" y="6424"/>
                </a:cubicBezTo>
                <a:cubicBezTo>
                  <a:pt x="16214" y="6408"/>
                  <a:pt x="16230" y="6391"/>
                  <a:pt x="16247" y="6375"/>
                </a:cubicBezTo>
              </a:path>
              <a:path w="6623" h="2630">
                <a:moveTo>
                  <a:pt x="15106" y="7169"/>
                </a:moveTo>
                <a:cubicBezTo>
                  <a:pt x="15178" y="7169"/>
                  <a:pt x="15239" y="7186"/>
                  <a:pt x="15304" y="7193"/>
                </a:cubicBezTo>
                <a:cubicBezTo>
                  <a:pt x="15387" y="7193"/>
                  <a:pt x="15403" y="7193"/>
                  <a:pt x="15453" y="7193"/>
                </a:cubicBezTo>
              </a:path>
              <a:path w="6623" h="2630">
                <a:moveTo>
                  <a:pt x="16098" y="6896"/>
                </a:moveTo>
                <a:cubicBezTo>
                  <a:pt x="16098" y="6969"/>
                  <a:pt x="16076" y="7024"/>
                  <a:pt x="16073" y="7094"/>
                </a:cubicBezTo>
                <a:cubicBezTo>
                  <a:pt x="16071" y="7144"/>
                  <a:pt x="16054" y="7665"/>
                  <a:pt x="16098" y="7665"/>
                </a:cubicBezTo>
                <a:cubicBezTo>
                  <a:pt x="16123" y="7640"/>
                  <a:pt x="16131" y="7632"/>
                  <a:pt x="16148" y="7615"/>
                </a:cubicBezTo>
              </a:path>
              <a:path w="6623" h="2630">
                <a:moveTo>
                  <a:pt x="16421" y="6896"/>
                </a:moveTo>
                <a:cubicBezTo>
                  <a:pt x="16460" y="6866"/>
                  <a:pt x="16536" y="6802"/>
                  <a:pt x="16594" y="6821"/>
                </a:cubicBezTo>
                <a:cubicBezTo>
                  <a:pt x="16663" y="6844"/>
                  <a:pt x="16692" y="6902"/>
                  <a:pt x="16694" y="6970"/>
                </a:cubicBezTo>
                <a:cubicBezTo>
                  <a:pt x="16697" y="7046"/>
                  <a:pt x="16711" y="7150"/>
                  <a:pt x="16669" y="7218"/>
                </a:cubicBezTo>
                <a:cubicBezTo>
                  <a:pt x="16634" y="7274"/>
                  <a:pt x="16588" y="7343"/>
                  <a:pt x="16545" y="7392"/>
                </a:cubicBezTo>
                <a:cubicBezTo>
                  <a:pt x="16475" y="7470"/>
                  <a:pt x="16385" y="7516"/>
                  <a:pt x="16371" y="7615"/>
                </a:cubicBezTo>
                <a:cubicBezTo>
                  <a:pt x="16471" y="7649"/>
                  <a:pt x="16588" y="7652"/>
                  <a:pt x="16694" y="7665"/>
                </a:cubicBezTo>
                <a:cubicBezTo>
                  <a:pt x="16762" y="7674"/>
                  <a:pt x="16835" y="7703"/>
                  <a:pt x="16892" y="7714"/>
                </a:cubicBezTo>
                <a:cubicBezTo>
                  <a:pt x="16937" y="7714"/>
                  <a:pt x="16950" y="7718"/>
                  <a:pt x="16966" y="7689"/>
                </a:cubicBezTo>
              </a:path>
              <a:path w="6623" h="2630">
                <a:moveTo>
                  <a:pt x="11162" y="5110"/>
                </a:moveTo>
                <a:cubicBezTo>
                  <a:pt x="11251" y="5134"/>
                  <a:pt x="11322" y="5119"/>
                  <a:pt x="11410" y="5135"/>
                </a:cubicBezTo>
                <a:cubicBezTo>
                  <a:pt x="11513" y="5154"/>
                  <a:pt x="11602" y="5159"/>
                  <a:pt x="11708" y="5159"/>
                </a:cubicBezTo>
                <a:cubicBezTo>
                  <a:pt x="11724" y="5159"/>
                  <a:pt x="11741" y="5159"/>
                  <a:pt x="11757" y="5159"/>
                </a:cubicBezTo>
                <a:cubicBezTo>
                  <a:pt x="11657" y="5150"/>
                  <a:pt x="11560" y="5119"/>
                  <a:pt x="11460" y="5110"/>
                </a:cubicBezTo>
                <a:cubicBezTo>
                  <a:pt x="11365" y="5101"/>
                  <a:pt x="11211" y="5092"/>
                  <a:pt x="11137" y="5110"/>
                </a:cubicBezTo>
                <a:cubicBezTo>
                  <a:pt x="11211" y="5138"/>
                  <a:pt x="11306" y="5152"/>
                  <a:pt x="11385" y="5159"/>
                </a:cubicBezTo>
                <a:cubicBezTo>
                  <a:pt x="11510" y="5170"/>
                  <a:pt x="11633" y="5170"/>
                  <a:pt x="11757" y="5184"/>
                </a:cubicBezTo>
                <a:cubicBezTo>
                  <a:pt x="11871" y="5197"/>
                  <a:pt x="11856" y="5206"/>
                  <a:pt x="11757" y="5184"/>
                </a:cubicBezTo>
                <a:cubicBezTo>
                  <a:pt x="11639" y="5158"/>
                  <a:pt x="11533" y="5159"/>
                  <a:pt x="11410" y="5159"/>
                </a:cubicBezTo>
                <a:cubicBezTo>
                  <a:pt x="11344" y="5159"/>
                  <a:pt x="11327" y="5159"/>
                  <a:pt x="11286" y="5159"/>
                </a:cubicBezTo>
                <a:cubicBezTo>
                  <a:pt x="11421" y="5186"/>
                  <a:pt x="11547" y="5166"/>
                  <a:pt x="11683" y="5184"/>
                </a:cubicBezTo>
                <a:cubicBezTo>
                  <a:pt x="11793" y="5198"/>
                  <a:pt x="11893" y="5209"/>
                  <a:pt x="12005" y="5209"/>
                </a:cubicBezTo>
                <a:cubicBezTo>
                  <a:pt x="12139" y="5209"/>
                  <a:pt x="11982" y="5164"/>
                  <a:pt x="11956" y="51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7"/>
          <p:cNvSpPr/>
          <p:nvPr/>
        </p:nvSpPr>
        <p:spPr>
          <a:xfrm>
            <a:off x="3786120" y="2374920"/>
            <a:ext cx="2465280" cy="955800"/>
          </a:xfrm>
          <a:custGeom>
            <a:avLst/>
            <a:gdLst/>
            <a:ahLst/>
            <a:rect l="l" t="t" r="r" b="b"/>
            <a:pathLst>
              <a:path w="6847" h="2655">
                <a:moveTo>
                  <a:pt x="10517" y="6623"/>
                </a:moveTo>
                <a:cubicBezTo>
                  <a:pt x="10644" y="6623"/>
                  <a:pt x="10770" y="6607"/>
                  <a:pt x="10889" y="6598"/>
                </a:cubicBezTo>
                <a:cubicBezTo>
                  <a:pt x="11214" y="6573"/>
                  <a:pt x="11562" y="6593"/>
                  <a:pt x="11881" y="6623"/>
                </a:cubicBezTo>
                <a:cubicBezTo>
                  <a:pt x="12135" y="6647"/>
                  <a:pt x="12397" y="6627"/>
                  <a:pt x="12650" y="6648"/>
                </a:cubicBezTo>
                <a:cubicBezTo>
                  <a:pt x="12971" y="6675"/>
                  <a:pt x="13299" y="6646"/>
                  <a:pt x="13618" y="6672"/>
                </a:cubicBezTo>
                <a:cubicBezTo>
                  <a:pt x="13883" y="6693"/>
                  <a:pt x="14149" y="6671"/>
                  <a:pt x="14412" y="6697"/>
                </a:cubicBezTo>
                <a:cubicBezTo>
                  <a:pt x="14501" y="6706"/>
                  <a:pt x="14597" y="6714"/>
                  <a:pt x="14684" y="6722"/>
                </a:cubicBezTo>
                <a:cubicBezTo>
                  <a:pt x="14748" y="6728"/>
                  <a:pt x="14854" y="6750"/>
                  <a:pt x="14908" y="6747"/>
                </a:cubicBezTo>
                <a:cubicBezTo>
                  <a:pt x="15039" y="6740"/>
                  <a:pt x="14970" y="6712"/>
                  <a:pt x="14957" y="6648"/>
                </a:cubicBezTo>
              </a:path>
              <a:path w="6847" h="2655">
                <a:moveTo>
                  <a:pt x="17363" y="9227"/>
                </a:moveTo>
                <a:cubicBezTo>
                  <a:pt x="17274" y="9241"/>
                  <a:pt x="17211" y="9230"/>
                  <a:pt x="17115" y="9227"/>
                </a:cubicBezTo>
                <a:cubicBezTo>
                  <a:pt x="17035" y="9224"/>
                  <a:pt x="16946" y="9217"/>
                  <a:pt x="16867" y="9203"/>
                </a:cubicBezTo>
                <a:cubicBezTo>
                  <a:pt x="16801" y="9192"/>
                  <a:pt x="16735" y="9191"/>
                  <a:pt x="16669" y="9178"/>
                </a:cubicBezTo>
                <a:cubicBezTo>
                  <a:pt x="16570" y="9159"/>
                  <a:pt x="16472" y="9137"/>
                  <a:pt x="16371" y="9128"/>
                </a:cubicBezTo>
                <a:cubicBezTo>
                  <a:pt x="16276" y="9120"/>
                  <a:pt x="16197" y="9103"/>
                  <a:pt x="16098" y="9103"/>
                </a:cubicBezTo>
                <a:cubicBezTo>
                  <a:pt x="15995" y="9103"/>
                  <a:pt x="15900" y="9087"/>
                  <a:pt x="15801" y="9079"/>
                </a:cubicBezTo>
                <a:cubicBezTo>
                  <a:pt x="15610" y="9064"/>
                  <a:pt x="15418" y="9075"/>
                  <a:pt x="15230" y="9054"/>
                </a:cubicBezTo>
                <a:cubicBezTo>
                  <a:pt x="14776" y="9003"/>
                  <a:pt x="14240" y="9029"/>
                  <a:pt x="13791" y="9079"/>
                </a:cubicBezTo>
                <a:cubicBezTo>
                  <a:pt x="13621" y="9098"/>
                  <a:pt x="13436" y="9088"/>
                  <a:pt x="13271" y="9103"/>
                </a:cubicBezTo>
                <a:cubicBezTo>
                  <a:pt x="13194" y="9110"/>
                  <a:pt x="13084" y="9117"/>
                  <a:pt x="13022" y="9079"/>
                </a:cubicBezTo>
                <a:cubicBezTo>
                  <a:pt x="13022" y="9071"/>
                  <a:pt x="13022" y="9062"/>
                  <a:pt x="13022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8"/>
          <p:cNvSpPr/>
          <p:nvPr/>
        </p:nvSpPr>
        <p:spPr>
          <a:xfrm>
            <a:off x="2938320" y="1884240"/>
            <a:ext cx="169920" cy="17640"/>
          </a:xfrm>
          <a:custGeom>
            <a:avLst/>
            <a:gdLst/>
            <a:ahLst/>
            <a:rect l="l" t="t" r="r" b="b"/>
            <a:pathLst>
              <a:path w="472" h="50">
                <a:moveTo>
                  <a:pt x="8161" y="5259"/>
                </a:moveTo>
                <a:cubicBezTo>
                  <a:pt x="8254" y="5259"/>
                  <a:pt x="8601" y="5259"/>
                  <a:pt x="8533" y="5259"/>
                </a:cubicBezTo>
                <a:cubicBezTo>
                  <a:pt x="8417" y="5259"/>
                  <a:pt x="8302" y="5259"/>
                  <a:pt x="8186" y="5259"/>
                </a:cubicBezTo>
                <a:cubicBezTo>
                  <a:pt x="8273" y="5291"/>
                  <a:pt x="8318" y="5263"/>
                  <a:pt x="8409" y="5259"/>
                </a:cubicBezTo>
                <a:cubicBezTo>
                  <a:pt x="8466" y="5257"/>
                  <a:pt x="8525" y="5259"/>
                  <a:pt x="8582" y="5259"/>
                </a:cubicBezTo>
                <a:cubicBezTo>
                  <a:pt x="8717" y="5259"/>
                  <a:pt x="8473" y="5236"/>
                  <a:pt x="8458" y="5234"/>
                </a:cubicBezTo>
                <a:cubicBezTo>
                  <a:pt x="8411" y="5229"/>
                  <a:pt x="8101" y="5234"/>
                  <a:pt x="8210" y="5234"/>
                </a:cubicBezTo>
                <a:cubicBezTo>
                  <a:pt x="8218" y="5234"/>
                  <a:pt x="8227" y="5234"/>
                  <a:pt x="8235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9"/>
          <p:cNvSpPr/>
          <p:nvPr/>
        </p:nvSpPr>
        <p:spPr>
          <a:xfrm>
            <a:off x="4518000" y="2768760"/>
            <a:ext cx="1635120" cy="990360"/>
          </a:xfrm>
          <a:custGeom>
            <a:avLst/>
            <a:gdLst/>
            <a:ahLst/>
            <a:rect l="l" t="t" r="r" b="b"/>
            <a:pathLst>
              <a:path w="4540" h="2755">
                <a:moveTo>
                  <a:pt x="13494" y="8062"/>
                </a:moveTo>
                <a:cubicBezTo>
                  <a:pt x="13554" y="8017"/>
                  <a:pt x="13592" y="7990"/>
                  <a:pt x="13667" y="7987"/>
                </a:cubicBezTo>
                <a:cubicBezTo>
                  <a:pt x="13736" y="7984"/>
                  <a:pt x="13820" y="7973"/>
                  <a:pt x="13866" y="8037"/>
                </a:cubicBezTo>
                <a:cubicBezTo>
                  <a:pt x="13918" y="8109"/>
                  <a:pt x="13887" y="8174"/>
                  <a:pt x="13841" y="8235"/>
                </a:cubicBezTo>
                <a:cubicBezTo>
                  <a:pt x="13809" y="8277"/>
                  <a:pt x="13765" y="8314"/>
                  <a:pt x="13717" y="8334"/>
                </a:cubicBezTo>
                <a:cubicBezTo>
                  <a:pt x="13692" y="8342"/>
                  <a:pt x="13668" y="8351"/>
                  <a:pt x="13643" y="8359"/>
                </a:cubicBezTo>
                <a:cubicBezTo>
                  <a:pt x="13693" y="8319"/>
                  <a:pt x="13748" y="8292"/>
                  <a:pt x="13816" y="8310"/>
                </a:cubicBezTo>
                <a:cubicBezTo>
                  <a:pt x="13860" y="8322"/>
                  <a:pt x="13915" y="8371"/>
                  <a:pt x="13940" y="8409"/>
                </a:cubicBezTo>
                <a:cubicBezTo>
                  <a:pt x="13979" y="8468"/>
                  <a:pt x="14035" y="8529"/>
                  <a:pt x="14015" y="8607"/>
                </a:cubicBezTo>
                <a:cubicBezTo>
                  <a:pt x="14008" y="8634"/>
                  <a:pt x="13981" y="8719"/>
                  <a:pt x="13940" y="8731"/>
                </a:cubicBezTo>
                <a:cubicBezTo>
                  <a:pt x="13884" y="8747"/>
                  <a:pt x="13827" y="8756"/>
                  <a:pt x="13767" y="8756"/>
                </a:cubicBezTo>
                <a:cubicBezTo>
                  <a:pt x="13703" y="8756"/>
                  <a:pt x="13617" y="8760"/>
                  <a:pt x="13568" y="8706"/>
                </a:cubicBezTo>
                <a:cubicBezTo>
                  <a:pt x="13568" y="8698"/>
                  <a:pt x="13568" y="8690"/>
                  <a:pt x="13568" y="8682"/>
                </a:cubicBezTo>
              </a:path>
              <a:path w="4540" h="2755">
                <a:moveTo>
                  <a:pt x="14238" y="8235"/>
                </a:moveTo>
                <a:cubicBezTo>
                  <a:pt x="14315" y="8294"/>
                  <a:pt x="14365" y="8329"/>
                  <a:pt x="14412" y="8409"/>
                </a:cubicBezTo>
                <a:cubicBezTo>
                  <a:pt x="14452" y="8476"/>
                  <a:pt x="14493" y="8520"/>
                  <a:pt x="14536" y="8582"/>
                </a:cubicBezTo>
                <a:cubicBezTo>
                  <a:pt x="14580" y="8646"/>
                  <a:pt x="14625" y="8682"/>
                  <a:pt x="14684" y="8731"/>
                </a:cubicBezTo>
                <a:cubicBezTo>
                  <a:pt x="14756" y="8791"/>
                  <a:pt x="14733" y="8779"/>
                  <a:pt x="14808" y="8731"/>
                </a:cubicBezTo>
              </a:path>
              <a:path w="4540" h="2755">
                <a:moveTo>
                  <a:pt x="14635" y="8161"/>
                </a:moveTo>
                <a:cubicBezTo>
                  <a:pt x="14556" y="8273"/>
                  <a:pt x="14476" y="8380"/>
                  <a:pt x="14387" y="8483"/>
                </a:cubicBezTo>
                <a:cubicBezTo>
                  <a:pt x="14321" y="8560"/>
                  <a:pt x="14277" y="8632"/>
                  <a:pt x="14213" y="8706"/>
                </a:cubicBezTo>
                <a:cubicBezTo>
                  <a:pt x="14198" y="8724"/>
                  <a:pt x="14120" y="8822"/>
                  <a:pt x="14089" y="8781"/>
                </a:cubicBezTo>
                <a:cubicBezTo>
                  <a:pt x="14089" y="8764"/>
                  <a:pt x="14089" y="8748"/>
                  <a:pt x="14089" y="8731"/>
                </a:cubicBezTo>
              </a:path>
              <a:path w="4540" h="2755">
                <a:moveTo>
                  <a:pt x="15230" y="8458"/>
                </a:moveTo>
                <a:cubicBezTo>
                  <a:pt x="15337" y="8458"/>
                  <a:pt x="15425" y="8468"/>
                  <a:pt x="15528" y="8483"/>
                </a:cubicBezTo>
                <a:cubicBezTo>
                  <a:pt x="15544" y="8483"/>
                  <a:pt x="15561" y="8483"/>
                  <a:pt x="15577" y="8483"/>
                </a:cubicBezTo>
              </a:path>
              <a:path w="4540" h="2755">
                <a:moveTo>
                  <a:pt x="15949" y="8111"/>
                </a:moveTo>
                <a:cubicBezTo>
                  <a:pt x="15972" y="8172"/>
                  <a:pt x="15989" y="8242"/>
                  <a:pt x="15974" y="8310"/>
                </a:cubicBezTo>
                <a:cubicBezTo>
                  <a:pt x="15951" y="8416"/>
                  <a:pt x="15969" y="8452"/>
                  <a:pt x="15974" y="8558"/>
                </a:cubicBezTo>
                <a:cubicBezTo>
                  <a:pt x="15978" y="8646"/>
                  <a:pt x="15984" y="8731"/>
                  <a:pt x="15999" y="8806"/>
                </a:cubicBezTo>
                <a:cubicBezTo>
                  <a:pt x="16008" y="8849"/>
                  <a:pt x="15998" y="8961"/>
                  <a:pt x="16024" y="8855"/>
                </a:cubicBezTo>
              </a:path>
              <a:path w="4540" h="2755">
                <a:moveTo>
                  <a:pt x="16247" y="8161"/>
                </a:moveTo>
                <a:cubicBezTo>
                  <a:pt x="16349" y="8106"/>
                  <a:pt x="16417" y="8051"/>
                  <a:pt x="16520" y="8136"/>
                </a:cubicBezTo>
                <a:cubicBezTo>
                  <a:pt x="16593" y="8196"/>
                  <a:pt x="16605" y="8265"/>
                  <a:pt x="16619" y="8359"/>
                </a:cubicBezTo>
                <a:cubicBezTo>
                  <a:pt x="16626" y="8409"/>
                  <a:pt x="16591" y="8486"/>
                  <a:pt x="16570" y="8533"/>
                </a:cubicBezTo>
                <a:cubicBezTo>
                  <a:pt x="16541" y="8598"/>
                  <a:pt x="16484" y="8625"/>
                  <a:pt x="16446" y="8682"/>
                </a:cubicBezTo>
                <a:cubicBezTo>
                  <a:pt x="16414" y="8730"/>
                  <a:pt x="16388" y="8765"/>
                  <a:pt x="16346" y="8806"/>
                </a:cubicBezTo>
                <a:cubicBezTo>
                  <a:pt x="16293" y="8858"/>
                  <a:pt x="16266" y="8864"/>
                  <a:pt x="16247" y="8930"/>
                </a:cubicBezTo>
                <a:cubicBezTo>
                  <a:pt x="16311" y="8938"/>
                  <a:pt x="16383" y="8940"/>
                  <a:pt x="16446" y="8954"/>
                </a:cubicBezTo>
                <a:cubicBezTo>
                  <a:pt x="16539" y="8974"/>
                  <a:pt x="16625" y="9011"/>
                  <a:pt x="16718" y="9029"/>
                </a:cubicBezTo>
                <a:cubicBezTo>
                  <a:pt x="16771" y="9039"/>
                  <a:pt x="16861" y="9076"/>
                  <a:pt x="16917" y="9054"/>
                </a:cubicBezTo>
                <a:cubicBezTo>
                  <a:pt x="16962" y="9037"/>
                  <a:pt x="16924" y="9007"/>
                  <a:pt x="16917" y="8979"/>
                </a:cubicBezTo>
              </a:path>
              <a:path w="4540" h="2755">
                <a:moveTo>
                  <a:pt x="12824" y="7962"/>
                </a:moveTo>
                <a:cubicBezTo>
                  <a:pt x="12894" y="7988"/>
                  <a:pt x="12946" y="7987"/>
                  <a:pt x="13022" y="7987"/>
                </a:cubicBezTo>
                <a:cubicBezTo>
                  <a:pt x="13097" y="7987"/>
                  <a:pt x="13171" y="7987"/>
                  <a:pt x="13246" y="7987"/>
                </a:cubicBezTo>
              </a:path>
              <a:path w="4540" h="2755">
                <a:moveTo>
                  <a:pt x="13271" y="7764"/>
                </a:moveTo>
                <a:cubicBezTo>
                  <a:pt x="13210" y="7731"/>
                  <a:pt x="13097" y="7682"/>
                  <a:pt x="13022" y="7689"/>
                </a:cubicBezTo>
                <a:cubicBezTo>
                  <a:pt x="12961" y="7695"/>
                  <a:pt x="12830" y="7713"/>
                  <a:pt x="12774" y="7739"/>
                </a:cubicBezTo>
                <a:cubicBezTo>
                  <a:pt x="12725" y="7762"/>
                  <a:pt x="12672" y="7771"/>
                  <a:pt x="12626" y="7813"/>
                </a:cubicBezTo>
                <a:cubicBezTo>
                  <a:pt x="12570" y="7864"/>
                  <a:pt x="12532" y="7932"/>
                  <a:pt x="12551" y="8012"/>
                </a:cubicBezTo>
                <a:cubicBezTo>
                  <a:pt x="12560" y="8050"/>
                  <a:pt x="12673" y="8128"/>
                  <a:pt x="12700" y="8136"/>
                </a:cubicBezTo>
                <a:cubicBezTo>
                  <a:pt x="12781" y="8161"/>
                  <a:pt x="12859" y="8186"/>
                  <a:pt x="12948" y="8186"/>
                </a:cubicBezTo>
                <a:cubicBezTo>
                  <a:pt x="13033" y="8186"/>
                  <a:pt x="13085" y="8199"/>
                  <a:pt x="13171" y="8186"/>
                </a:cubicBezTo>
                <a:cubicBezTo>
                  <a:pt x="13239" y="8176"/>
                  <a:pt x="13306" y="8183"/>
                  <a:pt x="13370" y="8161"/>
                </a:cubicBezTo>
                <a:cubicBezTo>
                  <a:pt x="13406" y="8149"/>
                  <a:pt x="13477" y="8099"/>
                  <a:pt x="13494" y="8062"/>
                </a:cubicBezTo>
                <a:cubicBezTo>
                  <a:pt x="13539" y="7968"/>
                  <a:pt x="13489" y="7962"/>
                  <a:pt x="13444" y="7888"/>
                </a:cubicBezTo>
                <a:cubicBezTo>
                  <a:pt x="13405" y="7824"/>
                  <a:pt x="13339" y="7800"/>
                  <a:pt x="13271" y="7764"/>
                </a:cubicBezTo>
                <a:cubicBezTo>
                  <a:pt x="13217" y="7735"/>
                  <a:pt x="13128" y="7706"/>
                  <a:pt x="13146" y="7764"/>
                </a:cubicBezTo>
              </a:path>
              <a:path w="4540" h="2755">
                <a:moveTo>
                  <a:pt x="15429" y="8310"/>
                </a:moveTo>
                <a:cubicBezTo>
                  <a:pt x="15429" y="8381"/>
                  <a:pt x="15408" y="8419"/>
                  <a:pt x="15404" y="8483"/>
                </a:cubicBezTo>
                <a:cubicBezTo>
                  <a:pt x="15403" y="8503"/>
                  <a:pt x="15426" y="8632"/>
                  <a:pt x="15453" y="8632"/>
                </a:cubicBezTo>
                <a:cubicBezTo>
                  <a:pt x="15453" y="8624"/>
                  <a:pt x="15453" y="8615"/>
                  <a:pt x="15453" y="8607"/>
                </a:cubicBezTo>
              </a:path>
              <a:path w="4540" h="2755">
                <a:moveTo>
                  <a:pt x="15503" y="8111"/>
                </a:moveTo>
                <a:cubicBezTo>
                  <a:pt x="15398" y="8059"/>
                  <a:pt x="15368" y="8071"/>
                  <a:pt x="15255" y="8086"/>
                </a:cubicBezTo>
                <a:cubicBezTo>
                  <a:pt x="15187" y="8095"/>
                  <a:pt x="15166" y="8125"/>
                  <a:pt x="15106" y="8161"/>
                </a:cubicBezTo>
                <a:cubicBezTo>
                  <a:pt x="15068" y="8184"/>
                  <a:pt x="15003" y="8216"/>
                  <a:pt x="14982" y="8260"/>
                </a:cubicBezTo>
                <a:cubicBezTo>
                  <a:pt x="14947" y="8332"/>
                  <a:pt x="14923" y="8415"/>
                  <a:pt x="14957" y="8483"/>
                </a:cubicBezTo>
                <a:cubicBezTo>
                  <a:pt x="14981" y="8530"/>
                  <a:pt x="15039" y="8582"/>
                  <a:pt x="15081" y="8607"/>
                </a:cubicBezTo>
                <a:cubicBezTo>
                  <a:pt x="15134" y="8638"/>
                  <a:pt x="15194" y="8693"/>
                  <a:pt x="15255" y="8706"/>
                </a:cubicBezTo>
                <a:cubicBezTo>
                  <a:pt x="15345" y="8726"/>
                  <a:pt x="15471" y="8710"/>
                  <a:pt x="15553" y="8682"/>
                </a:cubicBezTo>
                <a:cubicBezTo>
                  <a:pt x="15631" y="8655"/>
                  <a:pt x="15682" y="8622"/>
                  <a:pt x="15701" y="8533"/>
                </a:cubicBezTo>
                <a:cubicBezTo>
                  <a:pt x="15717" y="8458"/>
                  <a:pt x="15690" y="8374"/>
                  <a:pt x="15652" y="8310"/>
                </a:cubicBezTo>
                <a:cubicBezTo>
                  <a:pt x="15634" y="8280"/>
                  <a:pt x="15523" y="8157"/>
                  <a:pt x="15478" y="8161"/>
                </a:cubicBezTo>
                <a:cubicBezTo>
                  <a:pt x="15438" y="8164"/>
                  <a:pt x="15462" y="8198"/>
                  <a:pt x="15478" y="8136"/>
                </a:cubicBezTo>
              </a:path>
              <a:path w="4540" h="2755">
                <a:moveTo>
                  <a:pt x="16446" y="9525"/>
                </a:moveTo>
                <a:cubicBezTo>
                  <a:pt x="16386" y="9465"/>
                  <a:pt x="16366" y="9555"/>
                  <a:pt x="16346" y="9649"/>
                </a:cubicBezTo>
                <a:cubicBezTo>
                  <a:pt x="16330" y="9723"/>
                  <a:pt x="16321" y="9795"/>
                  <a:pt x="16321" y="9872"/>
                </a:cubicBezTo>
                <a:cubicBezTo>
                  <a:pt x="16321" y="9945"/>
                  <a:pt x="16324" y="10028"/>
                  <a:pt x="16346" y="10096"/>
                </a:cubicBezTo>
                <a:cubicBezTo>
                  <a:pt x="16362" y="10148"/>
                  <a:pt x="16415" y="10224"/>
                  <a:pt x="16446" y="10269"/>
                </a:cubicBezTo>
                <a:cubicBezTo>
                  <a:pt x="16483" y="10322"/>
                  <a:pt x="16538" y="10363"/>
                  <a:pt x="16594" y="10393"/>
                </a:cubicBezTo>
                <a:cubicBezTo>
                  <a:pt x="16691" y="10445"/>
                  <a:pt x="16763" y="10456"/>
                  <a:pt x="16867" y="10418"/>
                </a:cubicBezTo>
                <a:cubicBezTo>
                  <a:pt x="16939" y="10392"/>
                  <a:pt x="16949" y="10350"/>
                  <a:pt x="16991" y="10294"/>
                </a:cubicBezTo>
                <a:cubicBezTo>
                  <a:pt x="17024" y="10251"/>
                  <a:pt x="17056" y="10192"/>
                  <a:pt x="17066" y="10145"/>
                </a:cubicBezTo>
                <a:cubicBezTo>
                  <a:pt x="17074" y="10105"/>
                  <a:pt x="17098" y="10006"/>
                  <a:pt x="17090" y="9971"/>
                </a:cubicBezTo>
                <a:cubicBezTo>
                  <a:pt x="17072" y="9892"/>
                  <a:pt x="17067" y="9799"/>
                  <a:pt x="17041" y="9723"/>
                </a:cubicBezTo>
                <a:cubicBezTo>
                  <a:pt x="17015" y="9647"/>
                  <a:pt x="16957" y="9593"/>
                  <a:pt x="16917" y="9525"/>
                </a:cubicBezTo>
                <a:cubicBezTo>
                  <a:pt x="16868" y="9444"/>
                  <a:pt x="16805" y="9369"/>
                  <a:pt x="16718" y="9351"/>
                </a:cubicBezTo>
                <a:cubicBezTo>
                  <a:pt x="16659" y="9339"/>
                  <a:pt x="16587" y="9307"/>
                  <a:pt x="16520" y="9327"/>
                </a:cubicBezTo>
                <a:cubicBezTo>
                  <a:pt x="16501" y="9333"/>
                  <a:pt x="16405" y="9381"/>
                  <a:pt x="16396" y="9401"/>
                </a:cubicBezTo>
                <a:cubicBezTo>
                  <a:pt x="16357" y="9485"/>
                  <a:pt x="16371" y="9584"/>
                  <a:pt x="16371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2438280" y="1219320"/>
          <a:ext cx="3962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3962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Ink 18"/>
          <p:cNvSpPr/>
          <p:nvPr/>
        </p:nvSpPr>
        <p:spPr>
          <a:xfrm>
            <a:off x="3510000" y="803160"/>
            <a:ext cx="1544760" cy="455760"/>
          </a:xfrm>
          <a:custGeom>
            <a:avLst/>
            <a:gdLst/>
            <a:ahLst/>
            <a:rect l="l" t="t" r="r" b="b"/>
            <a:pathLst>
              <a:path w="4292" h="1266">
                <a:moveTo>
                  <a:pt x="9823" y="2853"/>
                </a:moveTo>
                <a:cubicBezTo>
                  <a:pt x="9895" y="2893"/>
                  <a:pt x="9910" y="2926"/>
                  <a:pt x="9947" y="3001"/>
                </a:cubicBezTo>
                <a:cubicBezTo>
                  <a:pt x="9974" y="3056"/>
                  <a:pt x="10015" y="3099"/>
                  <a:pt x="10046" y="3150"/>
                </a:cubicBezTo>
                <a:cubicBezTo>
                  <a:pt x="10089" y="3221"/>
                  <a:pt x="10103" y="3304"/>
                  <a:pt x="10145" y="3373"/>
                </a:cubicBezTo>
                <a:cubicBezTo>
                  <a:pt x="10175" y="3403"/>
                  <a:pt x="10186" y="3405"/>
                  <a:pt x="10195" y="3349"/>
                </a:cubicBezTo>
              </a:path>
              <a:path w="4292" h="1266">
                <a:moveTo>
                  <a:pt x="10195" y="2729"/>
                </a:moveTo>
                <a:cubicBezTo>
                  <a:pt x="10147" y="2817"/>
                  <a:pt x="10110" y="2886"/>
                  <a:pt x="10071" y="2977"/>
                </a:cubicBezTo>
                <a:cubicBezTo>
                  <a:pt x="10027" y="3079"/>
                  <a:pt x="9953" y="3155"/>
                  <a:pt x="9897" y="3249"/>
                </a:cubicBezTo>
                <a:cubicBezTo>
                  <a:pt x="9862" y="3308"/>
                  <a:pt x="9844" y="3372"/>
                  <a:pt x="9798" y="3423"/>
                </a:cubicBezTo>
                <a:cubicBezTo>
                  <a:pt x="9762" y="3463"/>
                  <a:pt x="9771" y="3494"/>
                  <a:pt x="9748" y="3473"/>
                </a:cubicBezTo>
              </a:path>
              <a:path w="4292" h="1266">
                <a:moveTo>
                  <a:pt x="10319" y="2307"/>
                </a:moveTo>
                <a:cubicBezTo>
                  <a:pt x="10346" y="2279"/>
                  <a:pt x="10411" y="2228"/>
                  <a:pt x="10443" y="2232"/>
                </a:cubicBezTo>
                <a:cubicBezTo>
                  <a:pt x="10459" y="2240"/>
                  <a:pt x="10476" y="2249"/>
                  <a:pt x="10492" y="2257"/>
                </a:cubicBezTo>
                <a:cubicBezTo>
                  <a:pt x="10466" y="2329"/>
                  <a:pt x="10445" y="2399"/>
                  <a:pt x="10393" y="2456"/>
                </a:cubicBezTo>
                <a:cubicBezTo>
                  <a:pt x="10345" y="2509"/>
                  <a:pt x="10416" y="2413"/>
                  <a:pt x="10468" y="2431"/>
                </a:cubicBezTo>
                <a:cubicBezTo>
                  <a:pt x="10516" y="2447"/>
                  <a:pt x="10581" y="2496"/>
                  <a:pt x="10567" y="2555"/>
                </a:cubicBezTo>
                <a:cubicBezTo>
                  <a:pt x="10555" y="2604"/>
                  <a:pt x="10492" y="2667"/>
                  <a:pt x="10443" y="2679"/>
                </a:cubicBezTo>
                <a:cubicBezTo>
                  <a:pt x="10414" y="2686"/>
                  <a:pt x="10282" y="2685"/>
                  <a:pt x="10344" y="2654"/>
                </a:cubicBezTo>
              </a:path>
              <a:path w="4292" h="1266">
                <a:moveTo>
                  <a:pt x="10889" y="2729"/>
                </a:moveTo>
                <a:cubicBezTo>
                  <a:pt x="10889" y="2834"/>
                  <a:pt x="10901" y="2929"/>
                  <a:pt x="10914" y="3026"/>
                </a:cubicBezTo>
                <a:cubicBezTo>
                  <a:pt x="10924" y="3100"/>
                  <a:pt x="10931" y="3262"/>
                  <a:pt x="10889" y="3324"/>
                </a:cubicBezTo>
                <a:cubicBezTo>
                  <a:pt x="10881" y="3324"/>
                  <a:pt x="10872" y="3324"/>
                  <a:pt x="10864" y="3324"/>
                </a:cubicBezTo>
              </a:path>
              <a:path w="4292" h="1266">
                <a:moveTo>
                  <a:pt x="10641" y="3125"/>
                </a:moveTo>
                <a:cubicBezTo>
                  <a:pt x="10707" y="3101"/>
                  <a:pt x="10776" y="3098"/>
                  <a:pt x="10840" y="3076"/>
                </a:cubicBezTo>
                <a:cubicBezTo>
                  <a:pt x="10908" y="3053"/>
                  <a:pt x="10967" y="3035"/>
                  <a:pt x="11038" y="3026"/>
                </a:cubicBezTo>
              </a:path>
              <a:path w="4292" h="1266">
                <a:moveTo>
                  <a:pt x="11286" y="2629"/>
                </a:moveTo>
                <a:cubicBezTo>
                  <a:pt x="11294" y="2577"/>
                  <a:pt x="11311" y="2515"/>
                  <a:pt x="11361" y="2480"/>
                </a:cubicBezTo>
                <a:cubicBezTo>
                  <a:pt x="11386" y="2462"/>
                  <a:pt x="11489" y="2402"/>
                  <a:pt x="11509" y="2406"/>
                </a:cubicBezTo>
                <a:cubicBezTo>
                  <a:pt x="11566" y="2417"/>
                  <a:pt x="11582" y="2514"/>
                  <a:pt x="11584" y="2555"/>
                </a:cubicBezTo>
                <a:cubicBezTo>
                  <a:pt x="11588" y="2618"/>
                  <a:pt x="11548" y="2703"/>
                  <a:pt x="11509" y="2753"/>
                </a:cubicBezTo>
                <a:cubicBezTo>
                  <a:pt x="11462" y="2814"/>
                  <a:pt x="11392" y="2855"/>
                  <a:pt x="11336" y="2902"/>
                </a:cubicBezTo>
                <a:cubicBezTo>
                  <a:pt x="11309" y="2924"/>
                  <a:pt x="11286" y="2952"/>
                  <a:pt x="11261" y="2977"/>
                </a:cubicBezTo>
                <a:cubicBezTo>
                  <a:pt x="11328" y="2943"/>
                  <a:pt x="11405" y="2882"/>
                  <a:pt x="11485" y="2902"/>
                </a:cubicBezTo>
                <a:cubicBezTo>
                  <a:pt x="11539" y="2916"/>
                  <a:pt x="11578" y="2948"/>
                  <a:pt x="11609" y="3001"/>
                </a:cubicBezTo>
                <a:cubicBezTo>
                  <a:pt x="11653" y="3076"/>
                  <a:pt x="11669" y="3125"/>
                  <a:pt x="11633" y="3200"/>
                </a:cubicBezTo>
                <a:cubicBezTo>
                  <a:pt x="11579" y="3314"/>
                  <a:pt x="11542" y="3345"/>
                  <a:pt x="11435" y="3398"/>
                </a:cubicBezTo>
                <a:cubicBezTo>
                  <a:pt x="11406" y="3413"/>
                  <a:pt x="11261" y="3452"/>
                  <a:pt x="11261" y="3373"/>
                </a:cubicBezTo>
                <a:cubicBezTo>
                  <a:pt x="11269" y="3365"/>
                  <a:pt x="11278" y="3357"/>
                  <a:pt x="11286" y="3349"/>
                </a:cubicBezTo>
              </a:path>
              <a:path w="4292" h="1266">
                <a:moveTo>
                  <a:pt x="11807" y="2877"/>
                </a:moveTo>
                <a:cubicBezTo>
                  <a:pt x="11903" y="2912"/>
                  <a:pt x="11948" y="2940"/>
                  <a:pt x="12005" y="3026"/>
                </a:cubicBezTo>
                <a:cubicBezTo>
                  <a:pt x="12067" y="3120"/>
                  <a:pt x="12141" y="3152"/>
                  <a:pt x="12229" y="3225"/>
                </a:cubicBezTo>
                <a:cubicBezTo>
                  <a:pt x="12259" y="3254"/>
                  <a:pt x="12273" y="3259"/>
                  <a:pt x="12303" y="3225"/>
                </a:cubicBezTo>
              </a:path>
              <a:path w="4292" h="1266">
                <a:moveTo>
                  <a:pt x="12129" y="2803"/>
                </a:moveTo>
                <a:cubicBezTo>
                  <a:pt x="12094" y="2902"/>
                  <a:pt x="12068" y="3004"/>
                  <a:pt x="12030" y="3101"/>
                </a:cubicBezTo>
                <a:cubicBezTo>
                  <a:pt x="12005" y="3164"/>
                  <a:pt x="11965" y="3218"/>
                  <a:pt x="11931" y="3274"/>
                </a:cubicBezTo>
                <a:cubicBezTo>
                  <a:pt x="11909" y="3318"/>
                  <a:pt x="11906" y="3330"/>
                  <a:pt x="11881" y="3349"/>
                </a:cubicBezTo>
              </a:path>
              <a:path w="4292" h="1266">
                <a:moveTo>
                  <a:pt x="12229" y="2332"/>
                </a:moveTo>
                <a:cubicBezTo>
                  <a:pt x="12299" y="2299"/>
                  <a:pt x="12407" y="2217"/>
                  <a:pt x="12477" y="2307"/>
                </a:cubicBezTo>
                <a:cubicBezTo>
                  <a:pt x="12533" y="2378"/>
                  <a:pt x="12486" y="2438"/>
                  <a:pt x="12452" y="2505"/>
                </a:cubicBezTo>
                <a:cubicBezTo>
                  <a:pt x="12422" y="2564"/>
                  <a:pt x="12374" y="2583"/>
                  <a:pt x="12328" y="2629"/>
                </a:cubicBezTo>
                <a:cubicBezTo>
                  <a:pt x="12320" y="2637"/>
                  <a:pt x="12311" y="2646"/>
                  <a:pt x="12303" y="2654"/>
                </a:cubicBezTo>
                <a:cubicBezTo>
                  <a:pt x="12373" y="2710"/>
                  <a:pt x="12413" y="2704"/>
                  <a:pt x="12502" y="2704"/>
                </a:cubicBezTo>
                <a:cubicBezTo>
                  <a:pt x="12599" y="2704"/>
                  <a:pt x="12661" y="2694"/>
                  <a:pt x="12750" y="2654"/>
                </a:cubicBezTo>
              </a:path>
              <a:path w="4292" h="1266">
                <a:moveTo>
                  <a:pt x="13122" y="2952"/>
                </a:moveTo>
                <a:cubicBezTo>
                  <a:pt x="13217" y="2928"/>
                  <a:pt x="13296" y="2927"/>
                  <a:pt x="13395" y="2927"/>
                </a:cubicBezTo>
                <a:cubicBezTo>
                  <a:pt x="13456" y="2927"/>
                  <a:pt x="13505" y="2908"/>
                  <a:pt x="13568" y="2902"/>
                </a:cubicBezTo>
              </a:path>
              <a:path w="4292" h="1266">
                <a:moveTo>
                  <a:pt x="14015" y="2406"/>
                </a:moveTo>
                <a:cubicBezTo>
                  <a:pt x="14032" y="2544"/>
                  <a:pt x="14039" y="2666"/>
                  <a:pt x="14039" y="2803"/>
                </a:cubicBezTo>
                <a:cubicBezTo>
                  <a:pt x="14039" y="2840"/>
                  <a:pt x="14061" y="3225"/>
                  <a:pt x="14015" y="3225"/>
                </a:cubicBezTo>
                <a:cubicBezTo>
                  <a:pt x="13998" y="3217"/>
                  <a:pt x="13982" y="3208"/>
                  <a:pt x="13965" y="32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9"/>
          <p:cNvSpPr/>
          <p:nvPr/>
        </p:nvSpPr>
        <p:spPr>
          <a:xfrm>
            <a:off x="3633840" y="2044800"/>
            <a:ext cx="2805120" cy="1714320"/>
          </a:xfrm>
          <a:custGeom>
            <a:avLst/>
            <a:gdLst/>
            <a:ahLst/>
            <a:rect l="l" t="t" r="r" b="b"/>
            <a:pathLst>
              <a:path w="7789" h="4764">
                <a:moveTo>
                  <a:pt x="10988" y="8260"/>
                </a:moveTo>
                <a:cubicBezTo>
                  <a:pt x="11032" y="8198"/>
                  <a:pt x="11097" y="8142"/>
                  <a:pt x="11187" y="8161"/>
                </a:cubicBezTo>
                <a:cubicBezTo>
                  <a:pt x="11274" y="8179"/>
                  <a:pt x="11265" y="8274"/>
                  <a:pt x="11237" y="8334"/>
                </a:cubicBezTo>
                <a:cubicBezTo>
                  <a:pt x="11211" y="8391"/>
                  <a:pt x="11147" y="8501"/>
                  <a:pt x="11088" y="8533"/>
                </a:cubicBezTo>
                <a:cubicBezTo>
                  <a:pt x="11035" y="8562"/>
                  <a:pt x="10993" y="8574"/>
                  <a:pt x="10939" y="8582"/>
                </a:cubicBezTo>
                <a:cubicBezTo>
                  <a:pt x="10995" y="8555"/>
                  <a:pt x="11075" y="8553"/>
                  <a:pt x="11137" y="8582"/>
                </a:cubicBezTo>
                <a:cubicBezTo>
                  <a:pt x="11175" y="8599"/>
                  <a:pt x="11218" y="8695"/>
                  <a:pt x="11237" y="8731"/>
                </a:cubicBezTo>
                <a:cubicBezTo>
                  <a:pt x="11272" y="8798"/>
                  <a:pt x="11251" y="8864"/>
                  <a:pt x="11187" y="8905"/>
                </a:cubicBezTo>
                <a:cubicBezTo>
                  <a:pt x="11147" y="8930"/>
                  <a:pt x="11059" y="8984"/>
                  <a:pt x="11013" y="8979"/>
                </a:cubicBezTo>
                <a:cubicBezTo>
                  <a:pt x="10960" y="8952"/>
                  <a:pt x="10940" y="8940"/>
                  <a:pt x="10914" y="8905"/>
                </a:cubicBezTo>
              </a:path>
              <a:path w="7789" h="4764">
                <a:moveTo>
                  <a:pt x="11509" y="8458"/>
                </a:moveTo>
                <a:cubicBezTo>
                  <a:pt x="11561" y="8554"/>
                  <a:pt x="11579" y="8608"/>
                  <a:pt x="11609" y="8706"/>
                </a:cubicBezTo>
                <a:cubicBezTo>
                  <a:pt x="11623" y="8751"/>
                  <a:pt x="11698" y="8872"/>
                  <a:pt x="11733" y="8905"/>
                </a:cubicBezTo>
                <a:cubicBezTo>
                  <a:pt x="11750" y="8921"/>
                  <a:pt x="11858" y="8997"/>
                  <a:pt x="11881" y="9004"/>
                </a:cubicBezTo>
                <a:cubicBezTo>
                  <a:pt x="11931" y="9004"/>
                  <a:pt x="11948" y="9004"/>
                  <a:pt x="11931" y="8954"/>
                </a:cubicBezTo>
              </a:path>
              <a:path w="7789" h="4764">
                <a:moveTo>
                  <a:pt x="11733" y="8434"/>
                </a:moveTo>
                <a:cubicBezTo>
                  <a:pt x="11703" y="8567"/>
                  <a:pt x="11664" y="8640"/>
                  <a:pt x="11609" y="8756"/>
                </a:cubicBezTo>
                <a:cubicBezTo>
                  <a:pt x="11579" y="8819"/>
                  <a:pt x="11560" y="8897"/>
                  <a:pt x="11534" y="8954"/>
                </a:cubicBezTo>
                <a:cubicBezTo>
                  <a:pt x="11521" y="8981"/>
                  <a:pt x="11511" y="9025"/>
                  <a:pt x="11534" y="8979"/>
                </a:cubicBezTo>
              </a:path>
              <a:path w="7789" h="4764">
                <a:moveTo>
                  <a:pt x="11931" y="8086"/>
                </a:moveTo>
                <a:cubicBezTo>
                  <a:pt x="12009" y="8086"/>
                  <a:pt x="12027" y="8071"/>
                  <a:pt x="12055" y="8111"/>
                </a:cubicBezTo>
                <a:cubicBezTo>
                  <a:pt x="12026" y="8162"/>
                  <a:pt x="11998" y="8193"/>
                  <a:pt x="11956" y="8235"/>
                </a:cubicBezTo>
                <a:cubicBezTo>
                  <a:pt x="11948" y="8243"/>
                  <a:pt x="11939" y="8252"/>
                  <a:pt x="11931" y="8260"/>
                </a:cubicBezTo>
                <a:cubicBezTo>
                  <a:pt x="12002" y="8286"/>
                  <a:pt x="12069" y="8313"/>
                  <a:pt x="12129" y="8359"/>
                </a:cubicBezTo>
                <a:cubicBezTo>
                  <a:pt x="12157" y="8387"/>
                  <a:pt x="12166" y="8401"/>
                  <a:pt x="12154" y="8434"/>
                </a:cubicBezTo>
                <a:cubicBezTo>
                  <a:pt x="12073" y="8464"/>
                  <a:pt x="12014" y="8468"/>
                  <a:pt x="11931" y="8434"/>
                </a:cubicBezTo>
                <a:cubicBezTo>
                  <a:pt x="11846" y="8399"/>
                  <a:pt x="11788" y="8328"/>
                  <a:pt x="11733" y="8260"/>
                </a:cubicBezTo>
              </a:path>
              <a:path w="7789" h="4764">
                <a:moveTo>
                  <a:pt x="12626" y="8508"/>
                </a:moveTo>
                <a:cubicBezTo>
                  <a:pt x="12618" y="8584"/>
                  <a:pt x="12601" y="8627"/>
                  <a:pt x="12601" y="8706"/>
                </a:cubicBezTo>
                <a:cubicBezTo>
                  <a:pt x="12601" y="8791"/>
                  <a:pt x="12633" y="8827"/>
                  <a:pt x="12650" y="8905"/>
                </a:cubicBezTo>
                <a:cubicBezTo>
                  <a:pt x="12650" y="8946"/>
                  <a:pt x="12642" y="8962"/>
                  <a:pt x="12675" y="8954"/>
                </a:cubicBezTo>
              </a:path>
              <a:path w="7789" h="4764">
                <a:moveTo>
                  <a:pt x="12353" y="8632"/>
                </a:moveTo>
                <a:cubicBezTo>
                  <a:pt x="12450" y="8632"/>
                  <a:pt x="12533" y="8617"/>
                  <a:pt x="12626" y="8607"/>
                </a:cubicBezTo>
                <a:cubicBezTo>
                  <a:pt x="12703" y="8598"/>
                  <a:pt x="12752" y="8606"/>
                  <a:pt x="12824" y="8582"/>
                </a:cubicBezTo>
              </a:path>
              <a:path w="7789" h="4764">
                <a:moveTo>
                  <a:pt x="13171" y="8260"/>
                </a:moveTo>
                <a:cubicBezTo>
                  <a:pt x="13143" y="8333"/>
                  <a:pt x="13141" y="8408"/>
                  <a:pt x="13122" y="8483"/>
                </a:cubicBezTo>
                <a:cubicBezTo>
                  <a:pt x="13096" y="8588"/>
                  <a:pt x="13106" y="8630"/>
                  <a:pt x="13122" y="8731"/>
                </a:cubicBezTo>
                <a:cubicBezTo>
                  <a:pt x="13136" y="8818"/>
                  <a:pt x="13167" y="8840"/>
                  <a:pt x="13221" y="8905"/>
                </a:cubicBezTo>
                <a:cubicBezTo>
                  <a:pt x="13246" y="8935"/>
                  <a:pt x="13355" y="8966"/>
                  <a:pt x="13395" y="8954"/>
                </a:cubicBezTo>
                <a:cubicBezTo>
                  <a:pt x="13456" y="8936"/>
                  <a:pt x="13508" y="8859"/>
                  <a:pt x="13519" y="8806"/>
                </a:cubicBezTo>
                <a:cubicBezTo>
                  <a:pt x="13534" y="8730"/>
                  <a:pt x="13509" y="8666"/>
                  <a:pt x="13469" y="8607"/>
                </a:cubicBezTo>
                <a:cubicBezTo>
                  <a:pt x="13388" y="8619"/>
                  <a:pt x="13375" y="8644"/>
                  <a:pt x="13370" y="8731"/>
                </a:cubicBezTo>
                <a:cubicBezTo>
                  <a:pt x="13364" y="8837"/>
                  <a:pt x="13388" y="8835"/>
                  <a:pt x="13444" y="8905"/>
                </a:cubicBezTo>
                <a:cubicBezTo>
                  <a:pt x="13501" y="8976"/>
                  <a:pt x="13533" y="8972"/>
                  <a:pt x="13618" y="9004"/>
                </a:cubicBezTo>
              </a:path>
              <a:path w="7789" h="4764">
                <a:moveTo>
                  <a:pt x="13767" y="8533"/>
                </a:moveTo>
                <a:cubicBezTo>
                  <a:pt x="13795" y="8726"/>
                  <a:pt x="13794" y="8694"/>
                  <a:pt x="13891" y="8830"/>
                </a:cubicBezTo>
                <a:cubicBezTo>
                  <a:pt x="13940" y="8898"/>
                  <a:pt x="14017" y="8977"/>
                  <a:pt x="14089" y="9029"/>
                </a:cubicBezTo>
                <a:cubicBezTo>
                  <a:pt x="14143" y="9068"/>
                  <a:pt x="14166" y="9073"/>
                  <a:pt x="14213" y="9054"/>
                </a:cubicBezTo>
              </a:path>
              <a:path w="7789" h="4764">
                <a:moveTo>
                  <a:pt x="13990" y="8483"/>
                </a:moveTo>
                <a:cubicBezTo>
                  <a:pt x="13916" y="8603"/>
                  <a:pt x="13869" y="8702"/>
                  <a:pt x="13816" y="8830"/>
                </a:cubicBezTo>
                <a:cubicBezTo>
                  <a:pt x="13787" y="8900"/>
                  <a:pt x="13773" y="8979"/>
                  <a:pt x="13767" y="9054"/>
                </a:cubicBezTo>
                <a:cubicBezTo>
                  <a:pt x="13767" y="9062"/>
                  <a:pt x="13767" y="9071"/>
                  <a:pt x="13767" y="9079"/>
                </a:cubicBezTo>
              </a:path>
              <a:path w="7789" h="4764">
                <a:moveTo>
                  <a:pt x="14114" y="8111"/>
                </a:moveTo>
                <a:cubicBezTo>
                  <a:pt x="14207" y="8140"/>
                  <a:pt x="14264" y="8153"/>
                  <a:pt x="14288" y="8260"/>
                </a:cubicBezTo>
                <a:cubicBezTo>
                  <a:pt x="14299" y="8311"/>
                  <a:pt x="14254" y="8358"/>
                  <a:pt x="14213" y="8384"/>
                </a:cubicBezTo>
                <a:cubicBezTo>
                  <a:pt x="14169" y="8406"/>
                  <a:pt x="14158" y="8409"/>
                  <a:pt x="14139" y="8434"/>
                </a:cubicBezTo>
                <a:cubicBezTo>
                  <a:pt x="14225" y="8462"/>
                  <a:pt x="14299" y="8441"/>
                  <a:pt x="14387" y="8458"/>
                </a:cubicBezTo>
                <a:cubicBezTo>
                  <a:pt x="14412" y="8466"/>
                  <a:pt x="14436" y="8475"/>
                  <a:pt x="14461" y="8483"/>
                </a:cubicBezTo>
              </a:path>
              <a:path w="7789" h="4764">
                <a:moveTo>
                  <a:pt x="14932" y="9079"/>
                </a:moveTo>
                <a:cubicBezTo>
                  <a:pt x="14854" y="9131"/>
                  <a:pt x="14802" y="9178"/>
                  <a:pt x="14709" y="9203"/>
                </a:cubicBezTo>
                <a:cubicBezTo>
                  <a:pt x="14609" y="9230"/>
                  <a:pt x="14493" y="9265"/>
                  <a:pt x="14387" y="9277"/>
                </a:cubicBezTo>
                <a:cubicBezTo>
                  <a:pt x="14248" y="9293"/>
                  <a:pt x="14105" y="9317"/>
                  <a:pt x="13965" y="9327"/>
                </a:cubicBezTo>
                <a:cubicBezTo>
                  <a:pt x="13800" y="9338"/>
                  <a:pt x="13634" y="9348"/>
                  <a:pt x="13469" y="9351"/>
                </a:cubicBezTo>
                <a:cubicBezTo>
                  <a:pt x="13137" y="9358"/>
                  <a:pt x="12807" y="9358"/>
                  <a:pt x="12477" y="9376"/>
                </a:cubicBezTo>
                <a:cubicBezTo>
                  <a:pt x="12130" y="9395"/>
                  <a:pt x="11780" y="9378"/>
                  <a:pt x="11435" y="9401"/>
                </a:cubicBezTo>
                <a:cubicBezTo>
                  <a:pt x="11283" y="9411"/>
                  <a:pt x="11158" y="9442"/>
                  <a:pt x="11013" y="9451"/>
                </a:cubicBezTo>
                <a:cubicBezTo>
                  <a:pt x="10941" y="9456"/>
                  <a:pt x="10858" y="9480"/>
                  <a:pt x="10790" y="9475"/>
                </a:cubicBezTo>
                <a:cubicBezTo>
                  <a:pt x="10716" y="9470"/>
                  <a:pt x="10752" y="9509"/>
                  <a:pt x="10740" y="9376"/>
                </a:cubicBezTo>
              </a:path>
              <a:path w="7789" h="4764">
                <a:moveTo>
                  <a:pt x="10319" y="8086"/>
                </a:moveTo>
                <a:cubicBezTo>
                  <a:pt x="10451" y="8086"/>
                  <a:pt x="10592" y="8102"/>
                  <a:pt x="10716" y="8062"/>
                </a:cubicBezTo>
              </a:path>
              <a:path w="7789" h="4764">
                <a:moveTo>
                  <a:pt x="10542" y="7838"/>
                </a:moveTo>
                <a:cubicBezTo>
                  <a:pt x="10479" y="7838"/>
                  <a:pt x="10350" y="7829"/>
                  <a:pt x="10294" y="7863"/>
                </a:cubicBezTo>
                <a:cubicBezTo>
                  <a:pt x="10244" y="7894"/>
                  <a:pt x="10173" y="7965"/>
                  <a:pt x="10145" y="8012"/>
                </a:cubicBezTo>
                <a:cubicBezTo>
                  <a:pt x="10096" y="8096"/>
                  <a:pt x="10076" y="8167"/>
                  <a:pt x="10120" y="8260"/>
                </a:cubicBezTo>
                <a:cubicBezTo>
                  <a:pt x="10138" y="8299"/>
                  <a:pt x="10255" y="8308"/>
                  <a:pt x="10294" y="8310"/>
                </a:cubicBezTo>
                <a:cubicBezTo>
                  <a:pt x="10422" y="8316"/>
                  <a:pt x="10537" y="8256"/>
                  <a:pt x="10641" y="8210"/>
                </a:cubicBezTo>
                <a:cubicBezTo>
                  <a:pt x="10727" y="8172"/>
                  <a:pt x="10803" y="8153"/>
                  <a:pt x="10790" y="8037"/>
                </a:cubicBezTo>
                <a:cubicBezTo>
                  <a:pt x="10783" y="7978"/>
                  <a:pt x="10724" y="7928"/>
                  <a:pt x="10666" y="7913"/>
                </a:cubicBezTo>
                <a:cubicBezTo>
                  <a:pt x="10616" y="7913"/>
                  <a:pt x="10600" y="7913"/>
                  <a:pt x="10567" y="7913"/>
                </a:cubicBezTo>
              </a:path>
              <a:path w="7789" h="4764">
                <a:moveTo>
                  <a:pt x="12427" y="8086"/>
                </a:moveTo>
                <a:cubicBezTo>
                  <a:pt x="12543" y="8086"/>
                  <a:pt x="12728" y="8118"/>
                  <a:pt x="12824" y="8062"/>
                </a:cubicBezTo>
              </a:path>
              <a:path w="7789" h="4764">
                <a:moveTo>
                  <a:pt x="12700" y="7863"/>
                </a:moveTo>
                <a:cubicBezTo>
                  <a:pt x="12588" y="7871"/>
                  <a:pt x="12526" y="7889"/>
                  <a:pt x="12427" y="7938"/>
                </a:cubicBezTo>
                <a:cubicBezTo>
                  <a:pt x="12344" y="7979"/>
                  <a:pt x="12276" y="8044"/>
                  <a:pt x="12254" y="8136"/>
                </a:cubicBezTo>
                <a:cubicBezTo>
                  <a:pt x="12238" y="8205"/>
                  <a:pt x="12303" y="8233"/>
                  <a:pt x="12353" y="8260"/>
                </a:cubicBezTo>
                <a:cubicBezTo>
                  <a:pt x="12423" y="8298"/>
                  <a:pt x="12547" y="8300"/>
                  <a:pt x="12626" y="8285"/>
                </a:cubicBezTo>
                <a:cubicBezTo>
                  <a:pt x="12717" y="8268"/>
                  <a:pt x="12793" y="8221"/>
                  <a:pt x="12849" y="8161"/>
                </a:cubicBezTo>
                <a:cubicBezTo>
                  <a:pt x="12894" y="8113"/>
                  <a:pt x="12925" y="8034"/>
                  <a:pt x="12898" y="7962"/>
                </a:cubicBezTo>
                <a:cubicBezTo>
                  <a:pt x="12874" y="7897"/>
                  <a:pt x="12780" y="7891"/>
                  <a:pt x="12725" y="7888"/>
                </a:cubicBezTo>
                <a:cubicBezTo>
                  <a:pt x="12662" y="7885"/>
                  <a:pt x="12633" y="7891"/>
                  <a:pt x="12576" y="7913"/>
                </a:cubicBezTo>
              </a:path>
              <a:path w="7789" h="4764">
                <a:moveTo>
                  <a:pt x="13915" y="9525"/>
                </a:moveTo>
                <a:cubicBezTo>
                  <a:pt x="13867" y="9564"/>
                  <a:pt x="13803" y="9603"/>
                  <a:pt x="13767" y="9649"/>
                </a:cubicBezTo>
                <a:cubicBezTo>
                  <a:pt x="13717" y="9712"/>
                  <a:pt x="13691" y="9804"/>
                  <a:pt x="13667" y="9872"/>
                </a:cubicBezTo>
                <a:cubicBezTo>
                  <a:pt x="13636" y="9959"/>
                  <a:pt x="13633" y="10031"/>
                  <a:pt x="13667" y="10120"/>
                </a:cubicBezTo>
                <a:cubicBezTo>
                  <a:pt x="13699" y="10205"/>
                  <a:pt x="13770" y="10289"/>
                  <a:pt x="13841" y="10344"/>
                </a:cubicBezTo>
                <a:cubicBezTo>
                  <a:pt x="13929" y="10413"/>
                  <a:pt x="14030" y="10438"/>
                  <a:pt x="14139" y="10443"/>
                </a:cubicBezTo>
                <a:cubicBezTo>
                  <a:pt x="14233" y="10447"/>
                  <a:pt x="14297" y="10405"/>
                  <a:pt x="14362" y="10344"/>
                </a:cubicBezTo>
                <a:cubicBezTo>
                  <a:pt x="14443" y="10268"/>
                  <a:pt x="14489" y="10104"/>
                  <a:pt x="14486" y="9996"/>
                </a:cubicBezTo>
                <a:cubicBezTo>
                  <a:pt x="14483" y="9902"/>
                  <a:pt x="14410" y="9775"/>
                  <a:pt x="14362" y="9699"/>
                </a:cubicBezTo>
                <a:cubicBezTo>
                  <a:pt x="14309" y="9615"/>
                  <a:pt x="14249" y="9548"/>
                  <a:pt x="14163" y="9500"/>
                </a:cubicBezTo>
                <a:cubicBezTo>
                  <a:pt x="14091" y="9460"/>
                  <a:pt x="14046" y="9451"/>
                  <a:pt x="13965" y="9451"/>
                </a:cubicBezTo>
                <a:cubicBezTo>
                  <a:pt x="13948" y="9451"/>
                  <a:pt x="13932" y="9451"/>
                  <a:pt x="13915" y="9451"/>
                </a:cubicBezTo>
              </a:path>
              <a:path w="7789" h="4764">
                <a:moveTo>
                  <a:pt x="15701" y="5730"/>
                </a:moveTo>
                <a:cubicBezTo>
                  <a:pt x="15701" y="5713"/>
                  <a:pt x="15701" y="5697"/>
                  <a:pt x="15701" y="5680"/>
                </a:cubicBezTo>
                <a:cubicBezTo>
                  <a:pt x="15671" y="5753"/>
                  <a:pt x="15656" y="5828"/>
                  <a:pt x="15627" y="5904"/>
                </a:cubicBezTo>
                <a:cubicBezTo>
                  <a:pt x="15592" y="5998"/>
                  <a:pt x="15586" y="6125"/>
                  <a:pt x="15577" y="6226"/>
                </a:cubicBezTo>
                <a:cubicBezTo>
                  <a:pt x="15564" y="6383"/>
                  <a:pt x="15564" y="6539"/>
                  <a:pt x="15553" y="6697"/>
                </a:cubicBezTo>
                <a:cubicBezTo>
                  <a:pt x="15534" y="6962"/>
                  <a:pt x="15508" y="7225"/>
                  <a:pt x="15503" y="7491"/>
                </a:cubicBezTo>
                <a:cubicBezTo>
                  <a:pt x="15499" y="7726"/>
                  <a:pt x="15513" y="7954"/>
                  <a:pt x="15528" y="8186"/>
                </a:cubicBezTo>
                <a:cubicBezTo>
                  <a:pt x="15537" y="8336"/>
                  <a:pt x="15541" y="8485"/>
                  <a:pt x="15553" y="8632"/>
                </a:cubicBezTo>
                <a:cubicBezTo>
                  <a:pt x="15562" y="8741"/>
                  <a:pt x="15585" y="8936"/>
                  <a:pt x="15577" y="9029"/>
                </a:cubicBezTo>
                <a:cubicBezTo>
                  <a:pt x="15555" y="9052"/>
                  <a:pt x="15547" y="9057"/>
                  <a:pt x="15553" y="9079"/>
                </a:cubicBezTo>
              </a:path>
              <a:path w="7789" h="4764">
                <a:moveTo>
                  <a:pt x="15106" y="8855"/>
                </a:moveTo>
                <a:cubicBezTo>
                  <a:pt x="15106" y="8940"/>
                  <a:pt x="15116" y="8940"/>
                  <a:pt x="15156" y="9004"/>
                </a:cubicBezTo>
                <a:cubicBezTo>
                  <a:pt x="15188" y="9055"/>
                  <a:pt x="15214" y="9107"/>
                  <a:pt x="15255" y="9153"/>
                </a:cubicBezTo>
                <a:cubicBezTo>
                  <a:pt x="15278" y="9179"/>
                  <a:pt x="15304" y="9203"/>
                  <a:pt x="15329" y="9227"/>
                </a:cubicBezTo>
                <a:cubicBezTo>
                  <a:pt x="15381" y="9187"/>
                  <a:pt x="15432" y="9139"/>
                  <a:pt x="15478" y="9103"/>
                </a:cubicBezTo>
                <a:cubicBezTo>
                  <a:pt x="15544" y="9051"/>
                  <a:pt x="15643" y="9046"/>
                  <a:pt x="15701" y="8979"/>
                </a:cubicBezTo>
                <a:cubicBezTo>
                  <a:pt x="15709" y="8963"/>
                  <a:pt x="15718" y="8946"/>
                  <a:pt x="15726" y="8930"/>
                </a:cubicBezTo>
              </a:path>
              <a:path w="7789" h="4764">
                <a:moveTo>
                  <a:pt x="15032" y="9996"/>
                </a:moveTo>
                <a:cubicBezTo>
                  <a:pt x="15145" y="9996"/>
                  <a:pt x="15246" y="10001"/>
                  <a:pt x="15354" y="9971"/>
                </a:cubicBezTo>
              </a:path>
              <a:path w="7789" h="4764">
                <a:moveTo>
                  <a:pt x="15677" y="9674"/>
                </a:moveTo>
                <a:cubicBezTo>
                  <a:pt x="15697" y="9748"/>
                  <a:pt x="15702" y="9834"/>
                  <a:pt x="15751" y="9897"/>
                </a:cubicBezTo>
                <a:cubicBezTo>
                  <a:pt x="15814" y="9978"/>
                  <a:pt x="15893" y="10061"/>
                  <a:pt x="15974" y="10120"/>
                </a:cubicBezTo>
                <a:cubicBezTo>
                  <a:pt x="16066" y="10187"/>
                  <a:pt x="16127" y="10279"/>
                  <a:pt x="16222" y="10344"/>
                </a:cubicBezTo>
                <a:cubicBezTo>
                  <a:pt x="16265" y="10373"/>
                  <a:pt x="16297" y="10368"/>
                  <a:pt x="16346" y="10368"/>
                </a:cubicBezTo>
              </a:path>
              <a:path w="7789" h="4764">
                <a:moveTo>
                  <a:pt x="16049" y="9550"/>
                </a:moveTo>
                <a:cubicBezTo>
                  <a:pt x="15971" y="9627"/>
                  <a:pt x="15907" y="9703"/>
                  <a:pt x="15850" y="9798"/>
                </a:cubicBezTo>
                <a:cubicBezTo>
                  <a:pt x="15798" y="9886"/>
                  <a:pt x="15758" y="9987"/>
                  <a:pt x="15701" y="10071"/>
                </a:cubicBezTo>
                <a:cubicBezTo>
                  <a:pt x="15685" y="10095"/>
                  <a:pt x="15634" y="10188"/>
                  <a:pt x="15652" y="10220"/>
                </a:cubicBezTo>
                <a:cubicBezTo>
                  <a:pt x="15660" y="10220"/>
                  <a:pt x="15669" y="10220"/>
                  <a:pt x="15677" y="10220"/>
                </a:cubicBezTo>
              </a:path>
              <a:path w="7789" h="4764">
                <a:moveTo>
                  <a:pt x="16545" y="9897"/>
                </a:moveTo>
                <a:cubicBezTo>
                  <a:pt x="16647" y="9897"/>
                  <a:pt x="16750" y="9913"/>
                  <a:pt x="16842" y="9872"/>
                </a:cubicBezTo>
                <a:cubicBezTo>
                  <a:pt x="16859" y="9864"/>
                  <a:pt x="16875" y="9855"/>
                  <a:pt x="16892" y="9847"/>
                </a:cubicBezTo>
              </a:path>
              <a:path w="7789" h="4764">
                <a:moveTo>
                  <a:pt x="17140" y="9500"/>
                </a:moveTo>
                <a:cubicBezTo>
                  <a:pt x="17195" y="9453"/>
                  <a:pt x="17290" y="9347"/>
                  <a:pt x="17388" y="9401"/>
                </a:cubicBezTo>
                <a:cubicBezTo>
                  <a:pt x="17433" y="9426"/>
                  <a:pt x="17550" y="9497"/>
                  <a:pt x="17562" y="9550"/>
                </a:cubicBezTo>
                <a:cubicBezTo>
                  <a:pt x="17581" y="9633"/>
                  <a:pt x="17560" y="9729"/>
                  <a:pt x="17512" y="9798"/>
                </a:cubicBezTo>
                <a:cubicBezTo>
                  <a:pt x="17475" y="9852"/>
                  <a:pt x="17435" y="9900"/>
                  <a:pt x="17388" y="9947"/>
                </a:cubicBezTo>
                <a:cubicBezTo>
                  <a:pt x="17340" y="9995"/>
                  <a:pt x="17287" y="10023"/>
                  <a:pt x="17239" y="10071"/>
                </a:cubicBezTo>
                <a:cubicBezTo>
                  <a:pt x="17198" y="10112"/>
                  <a:pt x="17166" y="10156"/>
                  <a:pt x="17190" y="10220"/>
                </a:cubicBezTo>
                <a:cubicBezTo>
                  <a:pt x="17213" y="10281"/>
                  <a:pt x="17318" y="10279"/>
                  <a:pt x="17363" y="10294"/>
                </a:cubicBezTo>
                <a:cubicBezTo>
                  <a:pt x="17441" y="10320"/>
                  <a:pt x="17550" y="10357"/>
                  <a:pt x="17636" y="10344"/>
                </a:cubicBezTo>
                <a:cubicBezTo>
                  <a:pt x="17718" y="10332"/>
                  <a:pt x="17805" y="10294"/>
                  <a:pt x="17884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20"/>
          <p:cNvSpPr/>
          <p:nvPr/>
        </p:nvSpPr>
        <p:spPr>
          <a:xfrm>
            <a:off x="3089160" y="1946160"/>
            <a:ext cx="1438560" cy="492120"/>
          </a:xfrm>
          <a:custGeom>
            <a:avLst/>
            <a:gdLst/>
            <a:ahLst/>
            <a:rect l="l" t="t" r="r" b="b"/>
            <a:pathLst>
              <a:path w="3995" h="1366">
                <a:moveTo>
                  <a:pt x="9302" y="5879"/>
                </a:moveTo>
                <a:cubicBezTo>
                  <a:pt x="9334" y="5935"/>
                  <a:pt x="9364" y="5999"/>
                  <a:pt x="9401" y="6052"/>
                </a:cubicBezTo>
                <a:cubicBezTo>
                  <a:pt x="9443" y="6112"/>
                  <a:pt x="9473" y="6172"/>
                  <a:pt x="9525" y="6226"/>
                </a:cubicBezTo>
                <a:cubicBezTo>
                  <a:pt x="9590" y="6294"/>
                  <a:pt x="9645" y="6372"/>
                  <a:pt x="9699" y="6449"/>
                </a:cubicBezTo>
                <a:cubicBezTo>
                  <a:pt x="9740" y="6508"/>
                  <a:pt x="9720" y="6545"/>
                  <a:pt x="9773" y="6598"/>
                </a:cubicBezTo>
              </a:path>
              <a:path w="3995" h="1366">
                <a:moveTo>
                  <a:pt x="9649" y="5854"/>
                </a:moveTo>
                <a:cubicBezTo>
                  <a:pt x="9649" y="5944"/>
                  <a:pt x="9629" y="5968"/>
                  <a:pt x="9599" y="6052"/>
                </a:cubicBezTo>
                <a:cubicBezTo>
                  <a:pt x="9571" y="6131"/>
                  <a:pt x="9538" y="6201"/>
                  <a:pt x="9500" y="6276"/>
                </a:cubicBezTo>
                <a:cubicBezTo>
                  <a:pt x="9469" y="6337"/>
                  <a:pt x="9433" y="6389"/>
                  <a:pt x="9401" y="6449"/>
                </a:cubicBezTo>
                <a:cubicBezTo>
                  <a:pt x="9369" y="6508"/>
                  <a:pt x="9293" y="6690"/>
                  <a:pt x="9302" y="6623"/>
                </a:cubicBezTo>
                <a:cubicBezTo>
                  <a:pt x="9310" y="6598"/>
                  <a:pt x="9319" y="6573"/>
                  <a:pt x="9327" y="6548"/>
                </a:cubicBezTo>
              </a:path>
              <a:path w="3995" h="1366">
                <a:moveTo>
                  <a:pt x="9798" y="5631"/>
                </a:moveTo>
                <a:cubicBezTo>
                  <a:pt x="9779" y="5663"/>
                  <a:pt x="9701" y="5752"/>
                  <a:pt x="9773" y="5779"/>
                </a:cubicBezTo>
                <a:cubicBezTo>
                  <a:pt x="9825" y="5799"/>
                  <a:pt x="9907" y="5778"/>
                  <a:pt x="9947" y="5755"/>
                </a:cubicBezTo>
              </a:path>
              <a:path w="3995" h="1366">
                <a:moveTo>
                  <a:pt x="9971" y="5457"/>
                </a:moveTo>
                <a:cubicBezTo>
                  <a:pt x="9946" y="5526"/>
                  <a:pt x="9966" y="5587"/>
                  <a:pt x="9947" y="5655"/>
                </a:cubicBezTo>
                <a:cubicBezTo>
                  <a:pt x="9923" y="5740"/>
                  <a:pt x="9922" y="5813"/>
                  <a:pt x="9922" y="5904"/>
                </a:cubicBezTo>
                <a:cubicBezTo>
                  <a:pt x="9922" y="5937"/>
                  <a:pt x="9922" y="5986"/>
                  <a:pt x="9922" y="5953"/>
                </a:cubicBezTo>
              </a:path>
              <a:path w="3995" h="1366">
                <a:moveTo>
                  <a:pt x="10616" y="5879"/>
                </a:moveTo>
                <a:cubicBezTo>
                  <a:pt x="10616" y="5939"/>
                  <a:pt x="10631" y="5980"/>
                  <a:pt x="10641" y="6028"/>
                </a:cubicBezTo>
                <a:cubicBezTo>
                  <a:pt x="10657" y="6109"/>
                  <a:pt x="10620" y="6175"/>
                  <a:pt x="10616" y="6251"/>
                </a:cubicBezTo>
                <a:cubicBezTo>
                  <a:pt x="10616" y="6267"/>
                  <a:pt x="10616" y="6284"/>
                  <a:pt x="10616" y="6300"/>
                </a:cubicBezTo>
              </a:path>
              <a:path w="3995" h="1366">
                <a:moveTo>
                  <a:pt x="10393" y="6127"/>
                </a:moveTo>
                <a:cubicBezTo>
                  <a:pt x="10512" y="6127"/>
                  <a:pt x="10630" y="6139"/>
                  <a:pt x="10740" y="6102"/>
                </a:cubicBezTo>
              </a:path>
              <a:path w="3995" h="1366">
                <a:moveTo>
                  <a:pt x="10988" y="5779"/>
                </a:moveTo>
                <a:cubicBezTo>
                  <a:pt x="11060" y="5735"/>
                  <a:pt x="11100" y="5685"/>
                  <a:pt x="11187" y="5680"/>
                </a:cubicBezTo>
                <a:cubicBezTo>
                  <a:pt x="11291" y="5674"/>
                  <a:pt x="11286" y="5718"/>
                  <a:pt x="11286" y="5804"/>
                </a:cubicBezTo>
                <a:cubicBezTo>
                  <a:pt x="11286" y="5880"/>
                  <a:pt x="11248" y="5917"/>
                  <a:pt x="11212" y="5978"/>
                </a:cubicBezTo>
                <a:cubicBezTo>
                  <a:pt x="11177" y="6036"/>
                  <a:pt x="11170" y="6090"/>
                  <a:pt x="11137" y="6152"/>
                </a:cubicBezTo>
                <a:cubicBezTo>
                  <a:pt x="11109" y="6204"/>
                  <a:pt x="11078" y="6257"/>
                  <a:pt x="11038" y="6300"/>
                </a:cubicBezTo>
                <a:cubicBezTo>
                  <a:pt x="10992" y="6348"/>
                  <a:pt x="10948" y="6393"/>
                  <a:pt x="10914" y="6449"/>
                </a:cubicBezTo>
                <a:cubicBezTo>
                  <a:pt x="10882" y="6502"/>
                  <a:pt x="10846" y="6544"/>
                  <a:pt x="10815" y="6598"/>
                </a:cubicBezTo>
                <a:cubicBezTo>
                  <a:pt x="10877" y="6567"/>
                  <a:pt x="10939" y="6573"/>
                  <a:pt x="11013" y="6573"/>
                </a:cubicBezTo>
                <a:cubicBezTo>
                  <a:pt x="11081" y="6573"/>
                  <a:pt x="11123" y="6556"/>
                  <a:pt x="11187" y="6548"/>
                </a:cubicBezTo>
              </a:path>
              <a:path w="3995" h="1366">
                <a:moveTo>
                  <a:pt x="11410" y="6028"/>
                </a:moveTo>
                <a:cubicBezTo>
                  <a:pt x="11453" y="6081"/>
                  <a:pt x="11470" y="6145"/>
                  <a:pt x="11509" y="6201"/>
                </a:cubicBezTo>
                <a:cubicBezTo>
                  <a:pt x="11547" y="6256"/>
                  <a:pt x="11585" y="6301"/>
                  <a:pt x="11633" y="6350"/>
                </a:cubicBezTo>
                <a:cubicBezTo>
                  <a:pt x="11676" y="6394"/>
                  <a:pt x="11697" y="6450"/>
                  <a:pt x="11733" y="6499"/>
                </a:cubicBezTo>
                <a:cubicBezTo>
                  <a:pt x="11757" y="6524"/>
                  <a:pt x="11765" y="6532"/>
                  <a:pt x="11782" y="6548"/>
                </a:cubicBezTo>
                <a:cubicBezTo>
                  <a:pt x="11782" y="6484"/>
                  <a:pt x="11783" y="6484"/>
                  <a:pt x="11757" y="6424"/>
                </a:cubicBezTo>
              </a:path>
              <a:path w="3995" h="1366">
                <a:moveTo>
                  <a:pt x="11683" y="5953"/>
                </a:moveTo>
                <a:cubicBezTo>
                  <a:pt x="11656" y="6041"/>
                  <a:pt x="11625" y="6094"/>
                  <a:pt x="11584" y="6176"/>
                </a:cubicBezTo>
                <a:cubicBezTo>
                  <a:pt x="11548" y="6248"/>
                  <a:pt x="11497" y="6302"/>
                  <a:pt x="11460" y="6375"/>
                </a:cubicBezTo>
                <a:cubicBezTo>
                  <a:pt x="11422" y="6450"/>
                  <a:pt x="11375" y="6481"/>
                  <a:pt x="11336" y="6548"/>
                </a:cubicBezTo>
                <a:cubicBezTo>
                  <a:pt x="11302" y="6605"/>
                  <a:pt x="11302" y="6655"/>
                  <a:pt x="11286" y="6573"/>
                </a:cubicBezTo>
              </a:path>
              <a:path w="3995" h="1366">
                <a:moveTo>
                  <a:pt x="11807" y="5482"/>
                </a:moveTo>
                <a:cubicBezTo>
                  <a:pt x="11863" y="5448"/>
                  <a:pt x="11899" y="5448"/>
                  <a:pt x="11956" y="5482"/>
                </a:cubicBezTo>
                <a:cubicBezTo>
                  <a:pt x="11944" y="5575"/>
                  <a:pt x="11928" y="5579"/>
                  <a:pt x="11857" y="5631"/>
                </a:cubicBezTo>
                <a:cubicBezTo>
                  <a:pt x="11849" y="5639"/>
                  <a:pt x="11840" y="5647"/>
                  <a:pt x="11832" y="5655"/>
                </a:cubicBezTo>
                <a:cubicBezTo>
                  <a:pt x="11877" y="5629"/>
                  <a:pt x="11932" y="5630"/>
                  <a:pt x="11981" y="5655"/>
                </a:cubicBezTo>
                <a:cubicBezTo>
                  <a:pt x="12033" y="5681"/>
                  <a:pt x="12048" y="5731"/>
                  <a:pt x="12055" y="5779"/>
                </a:cubicBezTo>
                <a:cubicBezTo>
                  <a:pt x="12000" y="5812"/>
                  <a:pt x="11949" y="5804"/>
                  <a:pt x="11881" y="5804"/>
                </a:cubicBezTo>
                <a:cubicBezTo>
                  <a:pt x="11837" y="5804"/>
                  <a:pt x="11823" y="5801"/>
                  <a:pt x="11807" y="5829"/>
                </a:cubicBezTo>
              </a:path>
              <a:path w="3995" h="1366">
                <a:moveTo>
                  <a:pt x="8582" y="6747"/>
                </a:moveTo>
                <a:cubicBezTo>
                  <a:pt x="8646" y="6761"/>
                  <a:pt x="8703" y="6772"/>
                  <a:pt x="8781" y="6772"/>
                </a:cubicBezTo>
                <a:cubicBezTo>
                  <a:pt x="9490" y="6772"/>
                  <a:pt x="10211" y="6806"/>
                  <a:pt x="10914" y="6747"/>
                </a:cubicBezTo>
                <a:cubicBezTo>
                  <a:pt x="11415" y="6705"/>
                  <a:pt x="11929" y="6766"/>
                  <a:pt x="12427" y="6722"/>
                </a:cubicBezTo>
                <a:cubicBezTo>
                  <a:pt x="12476" y="6718"/>
                  <a:pt x="12527" y="6725"/>
                  <a:pt x="12576" y="6722"/>
                </a:cubicBezTo>
              </a:path>
              <a:path w="3995" h="1366">
                <a:moveTo>
                  <a:pt x="8830" y="5581"/>
                </a:moveTo>
                <a:cubicBezTo>
                  <a:pt x="8885" y="5614"/>
                  <a:pt x="8936" y="5606"/>
                  <a:pt x="9004" y="5606"/>
                </a:cubicBezTo>
                <a:cubicBezTo>
                  <a:pt x="9054" y="5606"/>
                  <a:pt x="9103" y="5606"/>
                  <a:pt x="9153" y="5606"/>
                </a:cubicBezTo>
              </a:path>
              <a:path w="3995" h="1366">
                <a:moveTo>
                  <a:pt x="9103" y="5432"/>
                </a:moveTo>
                <a:cubicBezTo>
                  <a:pt x="9051" y="5400"/>
                  <a:pt x="8945" y="5388"/>
                  <a:pt x="8880" y="5407"/>
                </a:cubicBezTo>
                <a:cubicBezTo>
                  <a:pt x="8824" y="5424"/>
                  <a:pt x="8731" y="5487"/>
                  <a:pt x="8682" y="5531"/>
                </a:cubicBezTo>
                <a:cubicBezTo>
                  <a:pt x="8631" y="5577"/>
                  <a:pt x="8611" y="5611"/>
                  <a:pt x="8607" y="5680"/>
                </a:cubicBezTo>
                <a:cubicBezTo>
                  <a:pt x="8602" y="5774"/>
                  <a:pt x="8677" y="5775"/>
                  <a:pt x="8756" y="5779"/>
                </a:cubicBezTo>
                <a:cubicBezTo>
                  <a:pt x="8845" y="5784"/>
                  <a:pt x="8922" y="5768"/>
                  <a:pt x="9004" y="5755"/>
                </a:cubicBezTo>
                <a:cubicBezTo>
                  <a:pt x="9073" y="5745"/>
                  <a:pt x="9121" y="5723"/>
                  <a:pt x="9178" y="5680"/>
                </a:cubicBezTo>
                <a:cubicBezTo>
                  <a:pt x="9224" y="5646"/>
                  <a:pt x="9247" y="5561"/>
                  <a:pt x="9227" y="5507"/>
                </a:cubicBezTo>
                <a:cubicBezTo>
                  <a:pt x="9205" y="5448"/>
                  <a:pt x="9117" y="5451"/>
                  <a:pt x="9079" y="5432"/>
                </a:cubicBezTo>
                <a:cubicBezTo>
                  <a:pt x="9054" y="5407"/>
                  <a:pt x="9046" y="5399"/>
                  <a:pt x="9029" y="5432"/>
                </a:cubicBezTo>
              </a:path>
              <a:path w="3995" h="1366">
                <a:moveTo>
                  <a:pt x="10468" y="5631"/>
                </a:moveTo>
                <a:cubicBezTo>
                  <a:pt x="10545" y="5631"/>
                  <a:pt x="10708" y="5656"/>
                  <a:pt x="10691" y="5606"/>
                </a:cubicBezTo>
              </a:path>
              <a:path w="3995" h="1366">
                <a:moveTo>
                  <a:pt x="10716" y="5457"/>
                </a:moveTo>
                <a:cubicBezTo>
                  <a:pt x="10656" y="5434"/>
                  <a:pt x="10585" y="5417"/>
                  <a:pt x="10517" y="5432"/>
                </a:cubicBezTo>
                <a:cubicBezTo>
                  <a:pt x="10455" y="5446"/>
                  <a:pt x="10367" y="5492"/>
                  <a:pt x="10319" y="5531"/>
                </a:cubicBezTo>
                <a:cubicBezTo>
                  <a:pt x="10266" y="5574"/>
                  <a:pt x="10224" y="5614"/>
                  <a:pt x="10220" y="5680"/>
                </a:cubicBezTo>
                <a:cubicBezTo>
                  <a:pt x="10216" y="5756"/>
                  <a:pt x="10270" y="5792"/>
                  <a:pt x="10344" y="5804"/>
                </a:cubicBezTo>
                <a:cubicBezTo>
                  <a:pt x="10432" y="5818"/>
                  <a:pt x="10512" y="5792"/>
                  <a:pt x="10592" y="5779"/>
                </a:cubicBezTo>
                <a:cubicBezTo>
                  <a:pt x="10657" y="5769"/>
                  <a:pt x="10668" y="5754"/>
                  <a:pt x="10716" y="5705"/>
                </a:cubicBezTo>
                <a:cubicBezTo>
                  <a:pt x="10759" y="5661"/>
                  <a:pt x="10784" y="5623"/>
                  <a:pt x="10765" y="5556"/>
                </a:cubicBezTo>
                <a:cubicBezTo>
                  <a:pt x="10744" y="5481"/>
                  <a:pt x="10715" y="5436"/>
                  <a:pt x="10641" y="5432"/>
                </a:cubicBezTo>
                <a:cubicBezTo>
                  <a:pt x="10597" y="5432"/>
                  <a:pt x="10583" y="5429"/>
                  <a:pt x="10567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1"/>
          <p:cNvSpPr/>
          <p:nvPr/>
        </p:nvSpPr>
        <p:spPr>
          <a:xfrm>
            <a:off x="5295960" y="3786120"/>
            <a:ext cx="1249200" cy="884160"/>
          </a:xfrm>
          <a:custGeom>
            <a:avLst/>
            <a:gdLst/>
            <a:ahLst/>
            <a:rect l="l" t="t" r="r" b="b"/>
            <a:pathLst>
              <a:path w="3474" h="2457">
                <a:moveTo>
                  <a:pt x="14932" y="10914"/>
                </a:moveTo>
                <a:cubicBezTo>
                  <a:pt x="15040" y="10914"/>
                  <a:pt x="15147" y="10914"/>
                  <a:pt x="15255" y="10914"/>
                </a:cubicBezTo>
              </a:path>
              <a:path w="3474" h="2457">
                <a:moveTo>
                  <a:pt x="15553" y="10691"/>
                </a:moveTo>
                <a:cubicBezTo>
                  <a:pt x="15565" y="10787"/>
                  <a:pt x="15610" y="10809"/>
                  <a:pt x="15652" y="10889"/>
                </a:cubicBezTo>
                <a:cubicBezTo>
                  <a:pt x="15708" y="10995"/>
                  <a:pt x="15775" y="11065"/>
                  <a:pt x="15850" y="11162"/>
                </a:cubicBezTo>
                <a:cubicBezTo>
                  <a:pt x="15913" y="11243"/>
                  <a:pt x="15987" y="11332"/>
                  <a:pt x="16073" y="11385"/>
                </a:cubicBezTo>
                <a:cubicBezTo>
                  <a:pt x="16121" y="11409"/>
                  <a:pt x="16136" y="11417"/>
                  <a:pt x="16173" y="11410"/>
                </a:cubicBezTo>
              </a:path>
              <a:path w="3474" h="2457">
                <a:moveTo>
                  <a:pt x="15974" y="10616"/>
                </a:moveTo>
                <a:cubicBezTo>
                  <a:pt x="15885" y="10673"/>
                  <a:pt x="15844" y="10736"/>
                  <a:pt x="15776" y="10815"/>
                </a:cubicBezTo>
                <a:cubicBezTo>
                  <a:pt x="15696" y="10908"/>
                  <a:pt x="15612" y="11000"/>
                  <a:pt x="15528" y="11088"/>
                </a:cubicBezTo>
                <a:cubicBezTo>
                  <a:pt x="15451" y="11168"/>
                  <a:pt x="15364" y="11295"/>
                  <a:pt x="15255" y="11311"/>
                </a:cubicBezTo>
              </a:path>
              <a:path w="3474" h="2457">
                <a:moveTo>
                  <a:pt x="16520" y="11187"/>
                </a:moveTo>
                <a:cubicBezTo>
                  <a:pt x="16606" y="11163"/>
                  <a:pt x="16686" y="11165"/>
                  <a:pt x="16768" y="11137"/>
                </a:cubicBezTo>
              </a:path>
              <a:path w="3474" h="2457">
                <a:moveTo>
                  <a:pt x="17090" y="10815"/>
                </a:moveTo>
                <a:cubicBezTo>
                  <a:pt x="17108" y="10811"/>
                  <a:pt x="17329" y="10727"/>
                  <a:pt x="17363" y="10815"/>
                </a:cubicBezTo>
                <a:cubicBezTo>
                  <a:pt x="17384" y="10870"/>
                  <a:pt x="17389" y="10959"/>
                  <a:pt x="17363" y="11013"/>
                </a:cubicBezTo>
                <a:cubicBezTo>
                  <a:pt x="17320" y="11105"/>
                  <a:pt x="17269" y="11122"/>
                  <a:pt x="17214" y="11187"/>
                </a:cubicBezTo>
                <a:cubicBezTo>
                  <a:pt x="17172" y="11236"/>
                  <a:pt x="17138" y="11287"/>
                  <a:pt x="17090" y="11336"/>
                </a:cubicBezTo>
                <a:cubicBezTo>
                  <a:pt x="17030" y="11397"/>
                  <a:pt x="17033" y="11461"/>
                  <a:pt x="17115" y="11509"/>
                </a:cubicBezTo>
                <a:cubicBezTo>
                  <a:pt x="17208" y="11564"/>
                  <a:pt x="17316" y="11517"/>
                  <a:pt x="17413" y="11509"/>
                </a:cubicBezTo>
              </a:path>
              <a:path w="3474" h="2457">
                <a:moveTo>
                  <a:pt x="18182" y="11633"/>
                </a:moveTo>
                <a:cubicBezTo>
                  <a:pt x="18066" y="11633"/>
                  <a:pt x="17970" y="11621"/>
                  <a:pt x="17859" y="11609"/>
                </a:cubicBezTo>
                <a:cubicBezTo>
                  <a:pt x="17745" y="11597"/>
                  <a:pt x="17625" y="11593"/>
                  <a:pt x="17512" y="11584"/>
                </a:cubicBezTo>
                <a:cubicBezTo>
                  <a:pt x="17357" y="11571"/>
                  <a:pt x="17197" y="11562"/>
                  <a:pt x="17041" y="11559"/>
                </a:cubicBezTo>
                <a:cubicBezTo>
                  <a:pt x="16676" y="11552"/>
                  <a:pt x="16311" y="11560"/>
                  <a:pt x="15949" y="11584"/>
                </a:cubicBezTo>
                <a:cubicBezTo>
                  <a:pt x="15790" y="11594"/>
                  <a:pt x="15659" y="11599"/>
                  <a:pt x="15503" y="11633"/>
                </a:cubicBezTo>
                <a:cubicBezTo>
                  <a:pt x="15465" y="11641"/>
                  <a:pt x="15285" y="11642"/>
                  <a:pt x="15255" y="11683"/>
                </a:cubicBezTo>
                <a:cubicBezTo>
                  <a:pt x="15233" y="11713"/>
                  <a:pt x="15244" y="11692"/>
                  <a:pt x="15280" y="11683"/>
                </a:cubicBezTo>
              </a:path>
              <a:path w="3474" h="2457">
                <a:moveTo>
                  <a:pt x="15056" y="10666"/>
                </a:moveTo>
                <a:cubicBezTo>
                  <a:pt x="15090" y="10734"/>
                  <a:pt x="15081" y="10808"/>
                  <a:pt x="15081" y="10889"/>
                </a:cubicBezTo>
                <a:cubicBezTo>
                  <a:pt x="15081" y="10960"/>
                  <a:pt x="15053" y="11056"/>
                  <a:pt x="15106" y="11038"/>
                </a:cubicBezTo>
              </a:path>
              <a:path w="3474" h="2457">
                <a:moveTo>
                  <a:pt x="15131" y="10542"/>
                </a:moveTo>
                <a:cubicBezTo>
                  <a:pt x="15049" y="10520"/>
                  <a:pt x="14987" y="10497"/>
                  <a:pt x="14908" y="10542"/>
                </a:cubicBezTo>
                <a:cubicBezTo>
                  <a:pt x="14806" y="10600"/>
                  <a:pt x="14714" y="10695"/>
                  <a:pt x="14709" y="10815"/>
                </a:cubicBezTo>
                <a:cubicBezTo>
                  <a:pt x="14705" y="10905"/>
                  <a:pt x="14739" y="11002"/>
                  <a:pt x="14808" y="11063"/>
                </a:cubicBezTo>
                <a:cubicBezTo>
                  <a:pt x="14925" y="11166"/>
                  <a:pt x="15009" y="11162"/>
                  <a:pt x="15156" y="11162"/>
                </a:cubicBezTo>
                <a:cubicBezTo>
                  <a:pt x="15272" y="11162"/>
                  <a:pt x="15308" y="11118"/>
                  <a:pt x="15379" y="11038"/>
                </a:cubicBezTo>
                <a:cubicBezTo>
                  <a:pt x="15432" y="10979"/>
                  <a:pt x="15476" y="10927"/>
                  <a:pt x="15453" y="10840"/>
                </a:cubicBezTo>
                <a:cubicBezTo>
                  <a:pt x="15436" y="10778"/>
                  <a:pt x="15392" y="10728"/>
                  <a:pt x="15379" y="10666"/>
                </a:cubicBezTo>
              </a:path>
              <a:path w="3474" h="2457">
                <a:moveTo>
                  <a:pt x="16743" y="10988"/>
                </a:moveTo>
                <a:cubicBezTo>
                  <a:pt x="16694" y="11049"/>
                  <a:pt x="16671" y="11131"/>
                  <a:pt x="16694" y="11212"/>
                </a:cubicBezTo>
                <a:cubicBezTo>
                  <a:pt x="16704" y="11247"/>
                  <a:pt x="16723" y="11273"/>
                  <a:pt x="16743" y="11286"/>
                </a:cubicBezTo>
              </a:path>
              <a:path w="3474" h="2457">
                <a:moveTo>
                  <a:pt x="16644" y="10790"/>
                </a:moveTo>
                <a:cubicBezTo>
                  <a:pt x="16520" y="10834"/>
                  <a:pt x="16478" y="10851"/>
                  <a:pt x="16421" y="10964"/>
                </a:cubicBezTo>
                <a:cubicBezTo>
                  <a:pt x="16397" y="11012"/>
                  <a:pt x="16385" y="11118"/>
                  <a:pt x="16421" y="11162"/>
                </a:cubicBezTo>
                <a:cubicBezTo>
                  <a:pt x="16504" y="11263"/>
                  <a:pt x="16634" y="11374"/>
                  <a:pt x="16768" y="11385"/>
                </a:cubicBezTo>
                <a:cubicBezTo>
                  <a:pt x="16855" y="11392"/>
                  <a:pt x="16932" y="11379"/>
                  <a:pt x="16991" y="11311"/>
                </a:cubicBezTo>
                <a:cubicBezTo>
                  <a:pt x="17041" y="11253"/>
                  <a:pt x="17058" y="11177"/>
                  <a:pt x="17016" y="11112"/>
                </a:cubicBezTo>
                <a:cubicBezTo>
                  <a:pt x="16952" y="11011"/>
                  <a:pt x="16916" y="10988"/>
                  <a:pt x="16818" y="10939"/>
                </a:cubicBezTo>
              </a:path>
              <a:path w="3474" h="2457">
                <a:moveTo>
                  <a:pt x="17438" y="12030"/>
                </a:moveTo>
                <a:cubicBezTo>
                  <a:pt x="17395" y="12090"/>
                  <a:pt x="17344" y="12124"/>
                  <a:pt x="17289" y="12179"/>
                </a:cubicBezTo>
                <a:cubicBezTo>
                  <a:pt x="17242" y="12226"/>
                  <a:pt x="17203" y="12314"/>
                  <a:pt x="17190" y="12378"/>
                </a:cubicBezTo>
                <a:cubicBezTo>
                  <a:pt x="17173" y="12462"/>
                  <a:pt x="17197" y="12554"/>
                  <a:pt x="17239" y="12626"/>
                </a:cubicBezTo>
                <a:cubicBezTo>
                  <a:pt x="17287" y="12708"/>
                  <a:pt x="17365" y="12814"/>
                  <a:pt x="17438" y="12874"/>
                </a:cubicBezTo>
                <a:cubicBezTo>
                  <a:pt x="17506" y="12930"/>
                  <a:pt x="17614" y="13011"/>
                  <a:pt x="17711" y="12973"/>
                </a:cubicBezTo>
                <a:cubicBezTo>
                  <a:pt x="17764" y="12952"/>
                  <a:pt x="17903" y="12876"/>
                  <a:pt x="17934" y="12824"/>
                </a:cubicBezTo>
                <a:cubicBezTo>
                  <a:pt x="18000" y="12713"/>
                  <a:pt x="18021" y="12552"/>
                  <a:pt x="18008" y="12427"/>
                </a:cubicBezTo>
                <a:cubicBezTo>
                  <a:pt x="17996" y="12308"/>
                  <a:pt x="17946" y="12142"/>
                  <a:pt x="17859" y="12055"/>
                </a:cubicBezTo>
                <a:cubicBezTo>
                  <a:pt x="17750" y="11946"/>
                  <a:pt x="17612" y="11907"/>
                  <a:pt x="17462" y="11931"/>
                </a:cubicBezTo>
                <a:cubicBezTo>
                  <a:pt x="17437" y="11939"/>
                  <a:pt x="17413" y="11948"/>
                  <a:pt x="17388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22"/>
          <p:cNvSpPr/>
          <p:nvPr/>
        </p:nvSpPr>
        <p:spPr>
          <a:xfrm>
            <a:off x="3929040" y="2473200"/>
            <a:ext cx="1241280" cy="376200"/>
          </a:xfrm>
          <a:custGeom>
            <a:avLst/>
            <a:gdLst/>
            <a:ahLst/>
            <a:rect l="l" t="t" r="r" b="b"/>
            <a:pathLst>
              <a:path w="3449" h="1043">
                <a:moveTo>
                  <a:pt x="11063" y="7094"/>
                </a:moveTo>
                <a:cubicBezTo>
                  <a:pt x="11074" y="7051"/>
                  <a:pt x="11103" y="7029"/>
                  <a:pt x="11137" y="6995"/>
                </a:cubicBezTo>
                <a:cubicBezTo>
                  <a:pt x="11160" y="6971"/>
                  <a:pt x="11250" y="6933"/>
                  <a:pt x="11286" y="6945"/>
                </a:cubicBezTo>
                <a:cubicBezTo>
                  <a:pt x="11356" y="6969"/>
                  <a:pt x="11382" y="7025"/>
                  <a:pt x="11385" y="7094"/>
                </a:cubicBezTo>
                <a:cubicBezTo>
                  <a:pt x="11388" y="7166"/>
                  <a:pt x="11367" y="7211"/>
                  <a:pt x="11336" y="7268"/>
                </a:cubicBezTo>
                <a:cubicBezTo>
                  <a:pt x="11301" y="7334"/>
                  <a:pt x="11265" y="7344"/>
                  <a:pt x="11212" y="7392"/>
                </a:cubicBezTo>
                <a:cubicBezTo>
                  <a:pt x="11189" y="7412"/>
                  <a:pt x="11097" y="7522"/>
                  <a:pt x="11137" y="7441"/>
                </a:cubicBezTo>
                <a:cubicBezTo>
                  <a:pt x="11169" y="7422"/>
                  <a:pt x="11244" y="7378"/>
                  <a:pt x="11286" y="7392"/>
                </a:cubicBezTo>
                <a:cubicBezTo>
                  <a:pt x="11349" y="7413"/>
                  <a:pt x="11399" y="7475"/>
                  <a:pt x="11410" y="7541"/>
                </a:cubicBezTo>
                <a:cubicBezTo>
                  <a:pt x="11420" y="7604"/>
                  <a:pt x="11423" y="7717"/>
                  <a:pt x="11385" y="7764"/>
                </a:cubicBezTo>
                <a:cubicBezTo>
                  <a:pt x="11345" y="7813"/>
                  <a:pt x="11290" y="7852"/>
                  <a:pt x="11237" y="7863"/>
                </a:cubicBezTo>
                <a:cubicBezTo>
                  <a:pt x="11160" y="7879"/>
                  <a:pt x="11050" y="7872"/>
                  <a:pt x="10988" y="7838"/>
                </a:cubicBezTo>
                <a:cubicBezTo>
                  <a:pt x="10916" y="7799"/>
                  <a:pt x="10914" y="7794"/>
                  <a:pt x="10914" y="7714"/>
                </a:cubicBezTo>
              </a:path>
              <a:path w="3449" h="1043">
                <a:moveTo>
                  <a:pt x="11485" y="7417"/>
                </a:moveTo>
                <a:cubicBezTo>
                  <a:pt x="11563" y="7428"/>
                  <a:pt x="11557" y="7448"/>
                  <a:pt x="11584" y="7516"/>
                </a:cubicBezTo>
                <a:cubicBezTo>
                  <a:pt x="11617" y="7598"/>
                  <a:pt x="11647" y="7648"/>
                  <a:pt x="11708" y="7714"/>
                </a:cubicBezTo>
                <a:cubicBezTo>
                  <a:pt x="11753" y="7762"/>
                  <a:pt x="11802" y="7805"/>
                  <a:pt x="11857" y="7838"/>
                </a:cubicBezTo>
                <a:cubicBezTo>
                  <a:pt x="11925" y="7879"/>
                  <a:pt x="11949" y="7888"/>
                  <a:pt x="12030" y="7888"/>
                </a:cubicBezTo>
                <a:cubicBezTo>
                  <a:pt x="12038" y="7888"/>
                  <a:pt x="12047" y="7888"/>
                  <a:pt x="12055" y="7888"/>
                </a:cubicBezTo>
              </a:path>
              <a:path w="3449" h="1043">
                <a:moveTo>
                  <a:pt x="11807" y="7392"/>
                </a:moveTo>
                <a:cubicBezTo>
                  <a:pt x="11771" y="7479"/>
                  <a:pt x="11736" y="7561"/>
                  <a:pt x="11708" y="7640"/>
                </a:cubicBezTo>
                <a:cubicBezTo>
                  <a:pt x="11689" y="7694"/>
                  <a:pt x="11655" y="7768"/>
                  <a:pt x="11633" y="7813"/>
                </a:cubicBezTo>
                <a:cubicBezTo>
                  <a:pt x="11613" y="7854"/>
                  <a:pt x="11598" y="7865"/>
                  <a:pt x="11584" y="7838"/>
                </a:cubicBezTo>
              </a:path>
              <a:path w="3449" h="1043">
                <a:moveTo>
                  <a:pt x="11931" y="7020"/>
                </a:moveTo>
                <a:cubicBezTo>
                  <a:pt x="11971" y="6980"/>
                  <a:pt x="12016" y="6945"/>
                  <a:pt x="12080" y="6970"/>
                </a:cubicBezTo>
                <a:cubicBezTo>
                  <a:pt x="12152" y="6998"/>
                  <a:pt x="12127" y="7069"/>
                  <a:pt x="12105" y="7119"/>
                </a:cubicBezTo>
                <a:cubicBezTo>
                  <a:pt x="12081" y="7173"/>
                  <a:pt x="12045" y="7203"/>
                  <a:pt x="12005" y="7243"/>
                </a:cubicBezTo>
                <a:cubicBezTo>
                  <a:pt x="12057" y="7243"/>
                  <a:pt x="12172" y="7237"/>
                  <a:pt x="12204" y="7293"/>
                </a:cubicBezTo>
                <a:cubicBezTo>
                  <a:pt x="12204" y="7309"/>
                  <a:pt x="12204" y="7326"/>
                  <a:pt x="12204" y="7342"/>
                </a:cubicBezTo>
                <a:cubicBezTo>
                  <a:pt x="12110" y="7352"/>
                  <a:pt x="12050" y="7353"/>
                  <a:pt x="11956" y="7342"/>
                </a:cubicBezTo>
              </a:path>
              <a:path w="3449" h="1043">
                <a:moveTo>
                  <a:pt x="12774" y="7144"/>
                </a:moveTo>
                <a:cubicBezTo>
                  <a:pt x="12774" y="7233"/>
                  <a:pt x="12785" y="7317"/>
                  <a:pt x="12799" y="7392"/>
                </a:cubicBezTo>
                <a:cubicBezTo>
                  <a:pt x="12812" y="7458"/>
                  <a:pt x="12803" y="7526"/>
                  <a:pt x="12824" y="7590"/>
                </a:cubicBezTo>
                <a:cubicBezTo>
                  <a:pt x="12844" y="7631"/>
                  <a:pt x="12853" y="7637"/>
                  <a:pt x="12849" y="7665"/>
                </a:cubicBezTo>
              </a:path>
              <a:path w="3449" h="1043">
                <a:moveTo>
                  <a:pt x="12576" y="7417"/>
                </a:moveTo>
                <a:cubicBezTo>
                  <a:pt x="12661" y="7417"/>
                  <a:pt x="12721" y="7405"/>
                  <a:pt x="12799" y="7392"/>
                </a:cubicBezTo>
                <a:cubicBezTo>
                  <a:pt x="12849" y="7392"/>
                  <a:pt x="12865" y="7392"/>
                  <a:pt x="12898" y="7392"/>
                </a:cubicBezTo>
              </a:path>
              <a:path w="3449" h="1043">
                <a:moveTo>
                  <a:pt x="13246" y="7045"/>
                </a:moveTo>
                <a:cubicBezTo>
                  <a:pt x="13218" y="7114"/>
                  <a:pt x="13184" y="7204"/>
                  <a:pt x="13171" y="7268"/>
                </a:cubicBezTo>
                <a:cubicBezTo>
                  <a:pt x="13158" y="7331"/>
                  <a:pt x="13163" y="7404"/>
                  <a:pt x="13146" y="7466"/>
                </a:cubicBezTo>
                <a:cubicBezTo>
                  <a:pt x="13125" y="7546"/>
                  <a:pt x="13128" y="7583"/>
                  <a:pt x="13146" y="7665"/>
                </a:cubicBezTo>
                <a:cubicBezTo>
                  <a:pt x="13177" y="7808"/>
                  <a:pt x="13178" y="7766"/>
                  <a:pt x="13271" y="7813"/>
                </a:cubicBezTo>
                <a:cubicBezTo>
                  <a:pt x="13312" y="7834"/>
                  <a:pt x="13390" y="7859"/>
                  <a:pt x="13444" y="7838"/>
                </a:cubicBezTo>
                <a:cubicBezTo>
                  <a:pt x="13493" y="7819"/>
                  <a:pt x="13527" y="7805"/>
                  <a:pt x="13568" y="7764"/>
                </a:cubicBezTo>
                <a:cubicBezTo>
                  <a:pt x="13617" y="7715"/>
                  <a:pt x="13598" y="7652"/>
                  <a:pt x="13593" y="7615"/>
                </a:cubicBezTo>
                <a:cubicBezTo>
                  <a:pt x="13585" y="7561"/>
                  <a:pt x="13571" y="7498"/>
                  <a:pt x="13494" y="7516"/>
                </a:cubicBezTo>
                <a:cubicBezTo>
                  <a:pt x="13424" y="7533"/>
                  <a:pt x="13382" y="7580"/>
                  <a:pt x="13370" y="7640"/>
                </a:cubicBezTo>
                <a:cubicBezTo>
                  <a:pt x="13359" y="7696"/>
                  <a:pt x="13362" y="7771"/>
                  <a:pt x="13395" y="7813"/>
                </a:cubicBezTo>
                <a:cubicBezTo>
                  <a:pt x="13429" y="7855"/>
                  <a:pt x="13470" y="7838"/>
                  <a:pt x="13519" y="7838"/>
                </a:cubicBezTo>
              </a:path>
              <a:path w="3449" h="1043">
                <a:moveTo>
                  <a:pt x="13667" y="7392"/>
                </a:moveTo>
                <a:cubicBezTo>
                  <a:pt x="13703" y="7446"/>
                  <a:pt x="13734" y="7509"/>
                  <a:pt x="13767" y="7565"/>
                </a:cubicBezTo>
                <a:cubicBezTo>
                  <a:pt x="13810" y="7637"/>
                  <a:pt x="13831" y="7679"/>
                  <a:pt x="13891" y="7739"/>
                </a:cubicBezTo>
                <a:cubicBezTo>
                  <a:pt x="13922" y="7771"/>
                  <a:pt x="13994" y="7827"/>
                  <a:pt x="14039" y="7838"/>
                </a:cubicBezTo>
                <a:cubicBezTo>
                  <a:pt x="14089" y="7850"/>
                  <a:pt x="14112" y="7856"/>
                  <a:pt x="14163" y="7863"/>
                </a:cubicBezTo>
              </a:path>
              <a:path w="3449" h="1043">
                <a:moveTo>
                  <a:pt x="13866" y="7441"/>
                </a:moveTo>
                <a:cubicBezTo>
                  <a:pt x="13820" y="7506"/>
                  <a:pt x="13771" y="7565"/>
                  <a:pt x="13742" y="7640"/>
                </a:cubicBezTo>
                <a:cubicBezTo>
                  <a:pt x="13714" y="7711"/>
                  <a:pt x="13681" y="7750"/>
                  <a:pt x="13643" y="7813"/>
                </a:cubicBezTo>
                <a:cubicBezTo>
                  <a:pt x="13613" y="7863"/>
                  <a:pt x="13592" y="7966"/>
                  <a:pt x="13618" y="7863"/>
                </a:cubicBezTo>
              </a:path>
              <a:path w="3449" h="1043">
                <a:moveTo>
                  <a:pt x="13915" y="6921"/>
                </a:moveTo>
                <a:cubicBezTo>
                  <a:pt x="13976" y="6875"/>
                  <a:pt x="14020" y="6840"/>
                  <a:pt x="14089" y="6896"/>
                </a:cubicBezTo>
                <a:cubicBezTo>
                  <a:pt x="14157" y="6951"/>
                  <a:pt x="14147" y="6971"/>
                  <a:pt x="14139" y="7045"/>
                </a:cubicBezTo>
                <a:cubicBezTo>
                  <a:pt x="14131" y="7117"/>
                  <a:pt x="14115" y="7143"/>
                  <a:pt x="14064" y="7193"/>
                </a:cubicBezTo>
                <a:cubicBezTo>
                  <a:pt x="14039" y="7218"/>
                  <a:pt x="14031" y="7226"/>
                  <a:pt x="14015" y="7243"/>
                </a:cubicBezTo>
                <a:cubicBezTo>
                  <a:pt x="14064" y="7273"/>
                  <a:pt x="14125" y="7290"/>
                  <a:pt x="14188" y="7293"/>
                </a:cubicBezTo>
                <a:cubicBezTo>
                  <a:pt x="14251" y="7296"/>
                  <a:pt x="14336" y="7307"/>
                  <a:pt x="14362" y="72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23"/>
          <p:cNvSpPr/>
          <p:nvPr/>
        </p:nvSpPr>
        <p:spPr>
          <a:xfrm>
            <a:off x="1224000" y="2527200"/>
            <a:ext cx="1330200" cy="2438640"/>
          </a:xfrm>
          <a:custGeom>
            <a:avLst/>
            <a:gdLst/>
            <a:ahLst/>
            <a:rect l="l" t="t" r="r" b="b"/>
            <a:pathLst>
              <a:path w="3697" h="6772">
                <a:moveTo>
                  <a:pt x="3522" y="8781"/>
                </a:moveTo>
                <a:cubicBezTo>
                  <a:pt x="3603" y="8781"/>
                  <a:pt x="3699" y="8763"/>
                  <a:pt x="3770" y="8806"/>
                </a:cubicBezTo>
                <a:cubicBezTo>
                  <a:pt x="3840" y="8848"/>
                  <a:pt x="3775" y="8917"/>
                  <a:pt x="3721" y="8930"/>
                </a:cubicBezTo>
                <a:cubicBezTo>
                  <a:pt x="3664" y="8943"/>
                  <a:pt x="3645" y="8940"/>
                  <a:pt x="3597" y="8979"/>
                </a:cubicBezTo>
                <a:cubicBezTo>
                  <a:pt x="3677" y="9020"/>
                  <a:pt x="3752" y="9045"/>
                  <a:pt x="3820" y="9103"/>
                </a:cubicBezTo>
                <a:cubicBezTo>
                  <a:pt x="3889" y="9162"/>
                  <a:pt x="3910" y="9232"/>
                  <a:pt x="3845" y="9302"/>
                </a:cubicBezTo>
                <a:cubicBezTo>
                  <a:pt x="3782" y="9369"/>
                  <a:pt x="3652" y="9351"/>
                  <a:pt x="3572" y="9351"/>
                </a:cubicBezTo>
                <a:cubicBezTo>
                  <a:pt x="3496" y="9351"/>
                  <a:pt x="3466" y="9352"/>
                  <a:pt x="3398" y="9327"/>
                </a:cubicBezTo>
              </a:path>
              <a:path w="3697" h="6772">
                <a:moveTo>
                  <a:pt x="4266" y="8930"/>
                </a:moveTo>
                <a:cubicBezTo>
                  <a:pt x="4266" y="9077"/>
                  <a:pt x="4232" y="9211"/>
                  <a:pt x="4217" y="9351"/>
                </a:cubicBezTo>
                <a:cubicBezTo>
                  <a:pt x="4211" y="9407"/>
                  <a:pt x="4237" y="9460"/>
                  <a:pt x="4242" y="9500"/>
                </a:cubicBezTo>
                <a:cubicBezTo>
                  <a:pt x="4261" y="9397"/>
                  <a:pt x="4275" y="9311"/>
                  <a:pt x="4266" y="9203"/>
                </a:cubicBezTo>
                <a:cubicBezTo>
                  <a:pt x="4249" y="9004"/>
                  <a:pt x="4235" y="8802"/>
                  <a:pt x="4217" y="8607"/>
                </a:cubicBezTo>
                <a:cubicBezTo>
                  <a:pt x="4206" y="8487"/>
                  <a:pt x="4169" y="8191"/>
                  <a:pt x="4242" y="8086"/>
                </a:cubicBezTo>
                <a:cubicBezTo>
                  <a:pt x="4293" y="8012"/>
                  <a:pt x="4419" y="8024"/>
                  <a:pt x="4490" y="8012"/>
                </a:cubicBezTo>
                <a:cubicBezTo>
                  <a:pt x="4667" y="7982"/>
                  <a:pt x="4855" y="7970"/>
                  <a:pt x="5035" y="7962"/>
                </a:cubicBezTo>
                <a:cubicBezTo>
                  <a:pt x="5296" y="7950"/>
                  <a:pt x="5570" y="7983"/>
                  <a:pt x="5829" y="8012"/>
                </a:cubicBezTo>
                <a:cubicBezTo>
                  <a:pt x="6077" y="8040"/>
                  <a:pt x="6326" y="8052"/>
                  <a:pt x="6573" y="8086"/>
                </a:cubicBezTo>
                <a:cubicBezTo>
                  <a:pt x="6699" y="8103"/>
                  <a:pt x="6868" y="8152"/>
                  <a:pt x="6995" y="8136"/>
                </a:cubicBezTo>
                <a:cubicBezTo>
                  <a:pt x="7084" y="8125"/>
                  <a:pt x="7120" y="8095"/>
                  <a:pt x="7020" y="8136"/>
                </a:cubicBezTo>
              </a:path>
              <a:path w="3697" h="6772">
                <a:moveTo>
                  <a:pt x="5035" y="8409"/>
                </a:moveTo>
                <a:cubicBezTo>
                  <a:pt x="5027" y="8384"/>
                  <a:pt x="5019" y="8359"/>
                  <a:pt x="5011" y="8334"/>
                </a:cubicBezTo>
                <a:cubicBezTo>
                  <a:pt x="4915" y="8346"/>
                  <a:pt x="4858" y="8389"/>
                  <a:pt x="4787" y="8458"/>
                </a:cubicBezTo>
                <a:cubicBezTo>
                  <a:pt x="4722" y="8520"/>
                  <a:pt x="4634" y="8612"/>
                  <a:pt x="4614" y="8706"/>
                </a:cubicBezTo>
                <a:cubicBezTo>
                  <a:pt x="4591" y="8811"/>
                  <a:pt x="4684" y="8787"/>
                  <a:pt x="4738" y="8781"/>
                </a:cubicBezTo>
                <a:cubicBezTo>
                  <a:pt x="4822" y="8772"/>
                  <a:pt x="4885" y="8746"/>
                  <a:pt x="4936" y="8682"/>
                </a:cubicBezTo>
                <a:cubicBezTo>
                  <a:pt x="4979" y="8629"/>
                  <a:pt x="5005" y="8544"/>
                  <a:pt x="5035" y="8483"/>
                </a:cubicBezTo>
                <a:cubicBezTo>
                  <a:pt x="4981" y="8552"/>
                  <a:pt x="4946" y="8642"/>
                  <a:pt x="4936" y="8731"/>
                </a:cubicBezTo>
                <a:cubicBezTo>
                  <a:pt x="4923" y="8846"/>
                  <a:pt x="4890" y="8986"/>
                  <a:pt x="4911" y="9103"/>
                </a:cubicBezTo>
                <a:cubicBezTo>
                  <a:pt x="4931" y="9214"/>
                  <a:pt x="4926" y="9340"/>
                  <a:pt x="5011" y="9327"/>
                </a:cubicBezTo>
              </a:path>
              <a:path w="3697" h="6772">
                <a:moveTo>
                  <a:pt x="5531" y="8409"/>
                </a:moveTo>
                <a:cubicBezTo>
                  <a:pt x="5630" y="8355"/>
                  <a:pt x="5666" y="8359"/>
                  <a:pt x="5779" y="8359"/>
                </a:cubicBezTo>
                <a:cubicBezTo>
                  <a:pt x="5868" y="8359"/>
                  <a:pt x="5962" y="8408"/>
                  <a:pt x="6052" y="8384"/>
                </a:cubicBezTo>
                <a:cubicBezTo>
                  <a:pt x="6118" y="8366"/>
                  <a:pt x="6208" y="8329"/>
                  <a:pt x="6201" y="8458"/>
                </a:cubicBezTo>
                <a:cubicBezTo>
                  <a:pt x="6196" y="8552"/>
                  <a:pt x="6103" y="8719"/>
                  <a:pt x="6077" y="8806"/>
                </a:cubicBezTo>
                <a:cubicBezTo>
                  <a:pt x="6041" y="8929"/>
                  <a:pt x="6056" y="9054"/>
                  <a:pt x="6077" y="9178"/>
                </a:cubicBezTo>
                <a:cubicBezTo>
                  <a:pt x="6092" y="9266"/>
                  <a:pt x="6130" y="9375"/>
                  <a:pt x="6176" y="9451"/>
                </a:cubicBezTo>
                <a:cubicBezTo>
                  <a:pt x="6201" y="9475"/>
                  <a:pt x="6209" y="9483"/>
                  <a:pt x="6176" y="9500"/>
                </a:cubicBezTo>
              </a:path>
              <a:path w="3697" h="6772">
                <a:moveTo>
                  <a:pt x="4291" y="7193"/>
                </a:moveTo>
                <a:cubicBezTo>
                  <a:pt x="4263" y="7126"/>
                  <a:pt x="4298" y="7105"/>
                  <a:pt x="4366" y="7069"/>
                </a:cubicBezTo>
                <a:cubicBezTo>
                  <a:pt x="4450" y="7025"/>
                  <a:pt x="4503" y="7037"/>
                  <a:pt x="4589" y="7045"/>
                </a:cubicBezTo>
                <a:cubicBezTo>
                  <a:pt x="4680" y="7054"/>
                  <a:pt x="4691" y="7114"/>
                  <a:pt x="4663" y="7193"/>
                </a:cubicBezTo>
                <a:cubicBezTo>
                  <a:pt x="4638" y="7265"/>
                  <a:pt x="4601" y="7304"/>
                  <a:pt x="4539" y="7342"/>
                </a:cubicBezTo>
                <a:cubicBezTo>
                  <a:pt x="4496" y="7368"/>
                  <a:pt x="4475" y="7382"/>
                  <a:pt x="4440" y="7417"/>
                </a:cubicBezTo>
                <a:cubicBezTo>
                  <a:pt x="4511" y="7417"/>
                  <a:pt x="4608" y="7406"/>
                  <a:pt x="4663" y="7466"/>
                </a:cubicBezTo>
                <a:cubicBezTo>
                  <a:pt x="4718" y="7526"/>
                  <a:pt x="4755" y="7624"/>
                  <a:pt x="4663" y="7665"/>
                </a:cubicBezTo>
                <a:cubicBezTo>
                  <a:pt x="4597" y="7694"/>
                  <a:pt x="4499" y="7647"/>
                  <a:pt x="4440" y="7640"/>
                </a:cubicBezTo>
                <a:cubicBezTo>
                  <a:pt x="4365" y="7631"/>
                  <a:pt x="4322" y="7673"/>
                  <a:pt x="4341" y="7615"/>
                </a:cubicBezTo>
              </a:path>
              <a:path w="3697" h="6772">
                <a:moveTo>
                  <a:pt x="4911" y="9996"/>
                </a:moveTo>
                <a:cubicBezTo>
                  <a:pt x="4946" y="9938"/>
                  <a:pt x="4957" y="9895"/>
                  <a:pt x="4961" y="9823"/>
                </a:cubicBezTo>
                <a:cubicBezTo>
                  <a:pt x="4965" y="9748"/>
                  <a:pt x="4982" y="9632"/>
                  <a:pt x="4936" y="9575"/>
                </a:cubicBezTo>
                <a:cubicBezTo>
                  <a:pt x="4885" y="9512"/>
                  <a:pt x="4838" y="9512"/>
                  <a:pt x="4762" y="9550"/>
                </a:cubicBezTo>
                <a:cubicBezTo>
                  <a:pt x="4700" y="9581"/>
                  <a:pt x="4667" y="9664"/>
                  <a:pt x="4638" y="9723"/>
                </a:cubicBezTo>
                <a:cubicBezTo>
                  <a:pt x="4602" y="9797"/>
                  <a:pt x="4609" y="9837"/>
                  <a:pt x="4663" y="9897"/>
                </a:cubicBezTo>
                <a:cubicBezTo>
                  <a:pt x="4713" y="9952"/>
                  <a:pt x="4739" y="9947"/>
                  <a:pt x="4812" y="9947"/>
                </a:cubicBezTo>
                <a:cubicBezTo>
                  <a:pt x="4878" y="9947"/>
                  <a:pt x="4977" y="9945"/>
                  <a:pt x="5011" y="9872"/>
                </a:cubicBezTo>
                <a:cubicBezTo>
                  <a:pt x="5031" y="9812"/>
                  <a:pt x="5049" y="9797"/>
                  <a:pt x="5011" y="9773"/>
                </a:cubicBezTo>
                <a:cubicBezTo>
                  <a:pt x="5001" y="9849"/>
                  <a:pt x="4952" y="9898"/>
                  <a:pt x="4936" y="9971"/>
                </a:cubicBezTo>
                <a:cubicBezTo>
                  <a:pt x="4921" y="10040"/>
                  <a:pt x="4914" y="10125"/>
                  <a:pt x="4911" y="10195"/>
                </a:cubicBezTo>
                <a:cubicBezTo>
                  <a:pt x="4908" y="10267"/>
                  <a:pt x="4950" y="10325"/>
                  <a:pt x="4961" y="10393"/>
                </a:cubicBezTo>
                <a:cubicBezTo>
                  <a:pt x="4973" y="10466"/>
                  <a:pt x="4981" y="10448"/>
                  <a:pt x="4961" y="10517"/>
                </a:cubicBezTo>
              </a:path>
              <a:path w="3697" h="6772">
                <a:moveTo>
                  <a:pt x="4266" y="10592"/>
                </a:moveTo>
                <a:cubicBezTo>
                  <a:pt x="4355" y="10603"/>
                  <a:pt x="4448" y="10602"/>
                  <a:pt x="4539" y="10616"/>
                </a:cubicBezTo>
                <a:cubicBezTo>
                  <a:pt x="4679" y="10637"/>
                  <a:pt x="4821" y="10646"/>
                  <a:pt x="4961" y="10666"/>
                </a:cubicBezTo>
                <a:cubicBezTo>
                  <a:pt x="5103" y="10686"/>
                  <a:pt x="5240" y="10711"/>
                  <a:pt x="5383" y="10716"/>
                </a:cubicBezTo>
                <a:cubicBezTo>
                  <a:pt x="5464" y="10719"/>
                  <a:pt x="5513" y="10755"/>
                  <a:pt x="5581" y="10716"/>
                </a:cubicBezTo>
                <a:cubicBezTo>
                  <a:pt x="5548" y="10683"/>
                  <a:pt x="5515" y="10649"/>
                  <a:pt x="5482" y="10616"/>
                </a:cubicBezTo>
              </a:path>
              <a:path w="3697" h="6772">
                <a:moveTo>
                  <a:pt x="4118" y="10071"/>
                </a:moveTo>
                <a:cubicBezTo>
                  <a:pt x="4167" y="10071"/>
                  <a:pt x="4425" y="10062"/>
                  <a:pt x="4366" y="10046"/>
                </a:cubicBezTo>
                <a:cubicBezTo>
                  <a:pt x="4349" y="10046"/>
                  <a:pt x="4333" y="10046"/>
                  <a:pt x="4316" y="10046"/>
                </a:cubicBezTo>
              </a:path>
              <a:path w="3697" h="6772">
                <a:moveTo>
                  <a:pt x="4961" y="10864"/>
                </a:moveTo>
                <a:cubicBezTo>
                  <a:pt x="4905" y="10944"/>
                  <a:pt x="4772" y="11051"/>
                  <a:pt x="4738" y="11137"/>
                </a:cubicBezTo>
                <a:cubicBezTo>
                  <a:pt x="4689" y="11261"/>
                  <a:pt x="4706" y="11317"/>
                  <a:pt x="4762" y="11410"/>
                </a:cubicBezTo>
                <a:cubicBezTo>
                  <a:pt x="4809" y="11488"/>
                  <a:pt x="4894" y="11517"/>
                  <a:pt x="4986" y="11534"/>
                </a:cubicBezTo>
                <a:cubicBezTo>
                  <a:pt x="5048" y="11545"/>
                  <a:pt x="5155" y="11531"/>
                  <a:pt x="5209" y="11509"/>
                </a:cubicBezTo>
                <a:cubicBezTo>
                  <a:pt x="5257" y="11489"/>
                  <a:pt x="5281" y="11403"/>
                  <a:pt x="5283" y="11361"/>
                </a:cubicBezTo>
                <a:cubicBezTo>
                  <a:pt x="5287" y="11275"/>
                  <a:pt x="5290" y="11193"/>
                  <a:pt x="5259" y="11112"/>
                </a:cubicBezTo>
                <a:cubicBezTo>
                  <a:pt x="5238" y="11058"/>
                  <a:pt x="5209" y="11010"/>
                  <a:pt x="5184" y="10964"/>
                </a:cubicBezTo>
                <a:cubicBezTo>
                  <a:pt x="5165" y="10929"/>
                  <a:pt x="5122" y="10808"/>
                  <a:pt x="5085" y="10790"/>
                </a:cubicBezTo>
                <a:cubicBezTo>
                  <a:pt x="5020" y="10758"/>
                  <a:pt x="4911" y="10801"/>
                  <a:pt x="4862" y="10840"/>
                </a:cubicBezTo>
                <a:cubicBezTo>
                  <a:pt x="4829" y="10867"/>
                  <a:pt x="4792" y="10965"/>
                  <a:pt x="4837" y="10988"/>
                </a:cubicBezTo>
                <a:cubicBezTo>
                  <a:pt x="4867" y="10959"/>
                  <a:pt x="4881" y="10948"/>
                  <a:pt x="4911" y="10939"/>
                </a:cubicBezTo>
              </a:path>
              <a:path w="3697" h="6772">
                <a:moveTo>
                  <a:pt x="5854" y="9624"/>
                </a:moveTo>
                <a:cubicBezTo>
                  <a:pt x="5827" y="9730"/>
                  <a:pt x="5808" y="9837"/>
                  <a:pt x="5804" y="9947"/>
                </a:cubicBezTo>
                <a:cubicBezTo>
                  <a:pt x="5800" y="10053"/>
                  <a:pt x="5818" y="10143"/>
                  <a:pt x="5829" y="10244"/>
                </a:cubicBezTo>
                <a:cubicBezTo>
                  <a:pt x="5836" y="10309"/>
                  <a:pt x="5843" y="10442"/>
                  <a:pt x="5804" y="10468"/>
                </a:cubicBezTo>
              </a:path>
              <a:path w="3697" h="6772">
                <a:moveTo>
                  <a:pt x="5507" y="10344"/>
                </a:moveTo>
                <a:cubicBezTo>
                  <a:pt x="5579" y="10396"/>
                  <a:pt x="5644" y="10463"/>
                  <a:pt x="5730" y="10468"/>
                </a:cubicBezTo>
                <a:cubicBezTo>
                  <a:pt x="5799" y="10472"/>
                  <a:pt x="5863" y="10483"/>
                  <a:pt x="5904" y="10418"/>
                </a:cubicBezTo>
                <a:cubicBezTo>
                  <a:pt x="5935" y="10368"/>
                  <a:pt x="5990" y="10303"/>
                  <a:pt x="6003" y="10244"/>
                </a:cubicBezTo>
                <a:cubicBezTo>
                  <a:pt x="6003" y="10228"/>
                  <a:pt x="6003" y="10211"/>
                  <a:pt x="6003" y="10195"/>
                </a:cubicBezTo>
              </a:path>
              <a:path w="3697" h="6772">
                <a:moveTo>
                  <a:pt x="5680" y="10840"/>
                </a:moveTo>
                <a:cubicBezTo>
                  <a:pt x="5794" y="10855"/>
                  <a:pt x="5853" y="10834"/>
                  <a:pt x="5953" y="10815"/>
                </a:cubicBezTo>
                <a:cubicBezTo>
                  <a:pt x="6041" y="10798"/>
                  <a:pt x="6049" y="10899"/>
                  <a:pt x="6028" y="10964"/>
                </a:cubicBezTo>
                <a:cubicBezTo>
                  <a:pt x="6012" y="11016"/>
                  <a:pt x="6019" y="11080"/>
                  <a:pt x="6003" y="11137"/>
                </a:cubicBezTo>
                <a:cubicBezTo>
                  <a:pt x="5983" y="11208"/>
                  <a:pt x="5978" y="11259"/>
                  <a:pt x="5978" y="11336"/>
                </a:cubicBezTo>
                <a:cubicBezTo>
                  <a:pt x="5978" y="11374"/>
                  <a:pt x="6006" y="11494"/>
                  <a:pt x="6003" y="11509"/>
                </a:cubicBezTo>
                <a:cubicBezTo>
                  <a:pt x="5969" y="11543"/>
                  <a:pt x="5961" y="11539"/>
                  <a:pt x="5978" y="11460"/>
                </a:cubicBezTo>
              </a:path>
              <a:path w="3697" h="6772">
                <a:moveTo>
                  <a:pt x="5507" y="7293"/>
                </a:moveTo>
                <a:cubicBezTo>
                  <a:pt x="5461" y="7247"/>
                  <a:pt x="5436" y="7226"/>
                  <a:pt x="5482" y="7169"/>
                </a:cubicBezTo>
                <a:cubicBezTo>
                  <a:pt x="5523" y="7118"/>
                  <a:pt x="5586" y="7079"/>
                  <a:pt x="5655" y="7094"/>
                </a:cubicBezTo>
                <a:cubicBezTo>
                  <a:pt x="5740" y="7112"/>
                  <a:pt x="5748" y="7224"/>
                  <a:pt x="5730" y="7293"/>
                </a:cubicBezTo>
                <a:cubicBezTo>
                  <a:pt x="5705" y="7385"/>
                  <a:pt x="5626" y="7460"/>
                  <a:pt x="5581" y="7541"/>
                </a:cubicBezTo>
                <a:cubicBezTo>
                  <a:pt x="5563" y="7574"/>
                  <a:pt x="5491" y="7632"/>
                  <a:pt x="5482" y="7665"/>
                </a:cubicBezTo>
                <a:cubicBezTo>
                  <a:pt x="5482" y="7681"/>
                  <a:pt x="5482" y="7698"/>
                  <a:pt x="5482" y="7714"/>
                </a:cubicBezTo>
                <a:cubicBezTo>
                  <a:pt x="5564" y="7714"/>
                  <a:pt x="5626" y="7700"/>
                  <a:pt x="5705" y="7689"/>
                </a:cubicBezTo>
                <a:cubicBezTo>
                  <a:pt x="5766" y="7680"/>
                  <a:pt x="5948" y="7655"/>
                  <a:pt x="6003" y="7665"/>
                </a:cubicBezTo>
                <a:cubicBezTo>
                  <a:pt x="6003" y="7673"/>
                  <a:pt x="6003" y="7681"/>
                  <a:pt x="6003" y="7689"/>
                </a:cubicBezTo>
              </a:path>
              <a:path w="3697" h="6772">
                <a:moveTo>
                  <a:pt x="5928" y="11633"/>
                </a:moveTo>
                <a:cubicBezTo>
                  <a:pt x="5887" y="11705"/>
                  <a:pt x="5798" y="11797"/>
                  <a:pt x="5779" y="11881"/>
                </a:cubicBezTo>
                <a:cubicBezTo>
                  <a:pt x="5764" y="11949"/>
                  <a:pt x="5790" y="12003"/>
                  <a:pt x="5829" y="12055"/>
                </a:cubicBezTo>
                <a:cubicBezTo>
                  <a:pt x="5867" y="12105"/>
                  <a:pt x="5961" y="12169"/>
                  <a:pt x="6028" y="12154"/>
                </a:cubicBezTo>
                <a:cubicBezTo>
                  <a:pt x="6093" y="12139"/>
                  <a:pt x="6177" y="12075"/>
                  <a:pt x="6226" y="12030"/>
                </a:cubicBezTo>
                <a:cubicBezTo>
                  <a:pt x="6271" y="11989"/>
                  <a:pt x="6267" y="11990"/>
                  <a:pt x="6276" y="11931"/>
                </a:cubicBezTo>
                <a:cubicBezTo>
                  <a:pt x="6201" y="11906"/>
                  <a:pt x="6126" y="11885"/>
                  <a:pt x="6052" y="11931"/>
                </a:cubicBezTo>
                <a:cubicBezTo>
                  <a:pt x="6003" y="11961"/>
                  <a:pt x="5947" y="12015"/>
                  <a:pt x="5953" y="12080"/>
                </a:cubicBezTo>
                <a:cubicBezTo>
                  <a:pt x="5959" y="12152"/>
                  <a:pt x="6020" y="12271"/>
                  <a:pt x="6052" y="12328"/>
                </a:cubicBezTo>
              </a:path>
              <a:path w="3697" h="6772">
                <a:moveTo>
                  <a:pt x="5358" y="12551"/>
                </a:moveTo>
                <a:cubicBezTo>
                  <a:pt x="5458" y="12579"/>
                  <a:pt x="5576" y="12593"/>
                  <a:pt x="5680" y="12601"/>
                </a:cubicBezTo>
                <a:cubicBezTo>
                  <a:pt x="5821" y="12612"/>
                  <a:pt x="5962" y="12607"/>
                  <a:pt x="6102" y="12626"/>
                </a:cubicBezTo>
                <a:cubicBezTo>
                  <a:pt x="6207" y="12641"/>
                  <a:pt x="6341" y="12674"/>
                  <a:pt x="6449" y="12650"/>
                </a:cubicBezTo>
                <a:cubicBezTo>
                  <a:pt x="6499" y="12626"/>
                  <a:pt x="6515" y="12618"/>
                  <a:pt x="6548" y="12601"/>
                </a:cubicBezTo>
              </a:path>
              <a:path w="3697" h="6772">
                <a:moveTo>
                  <a:pt x="5159" y="11906"/>
                </a:moveTo>
                <a:cubicBezTo>
                  <a:pt x="5237" y="11906"/>
                  <a:pt x="5289" y="11927"/>
                  <a:pt x="5358" y="11931"/>
                </a:cubicBezTo>
                <a:cubicBezTo>
                  <a:pt x="5418" y="11935"/>
                  <a:pt x="5417" y="11960"/>
                  <a:pt x="5432" y="11931"/>
                </a:cubicBezTo>
              </a:path>
              <a:path w="3697" h="6772">
                <a:moveTo>
                  <a:pt x="6226" y="12849"/>
                </a:moveTo>
                <a:cubicBezTo>
                  <a:pt x="6195" y="12949"/>
                  <a:pt x="6184" y="13051"/>
                  <a:pt x="6152" y="13146"/>
                </a:cubicBezTo>
                <a:cubicBezTo>
                  <a:pt x="6119" y="13245"/>
                  <a:pt x="6124" y="13345"/>
                  <a:pt x="6102" y="13444"/>
                </a:cubicBezTo>
                <a:cubicBezTo>
                  <a:pt x="6082" y="13532"/>
                  <a:pt x="6077" y="13600"/>
                  <a:pt x="6077" y="13692"/>
                </a:cubicBezTo>
                <a:cubicBezTo>
                  <a:pt x="6077" y="13733"/>
                  <a:pt x="6077" y="13808"/>
                  <a:pt x="6077" y="137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4"/>
          <p:cNvGraphicFramePr/>
          <p:nvPr/>
        </p:nvGraphicFramePr>
        <p:xfrm>
          <a:off x="2362320" y="914400"/>
          <a:ext cx="4263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263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Ink 5"/>
          <p:cNvSpPr/>
          <p:nvPr/>
        </p:nvSpPr>
        <p:spPr>
          <a:xfrm>
            <a:off x="5562720" y="1393920"/>
            <a:ext cx="376200" cy="25884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15677" y="3994"/>
                </a:moveTo>
                <a:cubicBezTo>
                  <a:pt x="15711" y="4040"/>
                  <a:pt x="15701" y="4082"/>
                  <a:pt x="15701" y="4142"/>
                </a:cubicBezTo>
                <a:cubicBezTo>
                  <a:pt x="15701" y="4225"/>
                  <a:pt x="15701" y="4307"/>
                  <a:pt x="15701" y="4390"/>
                </a:cubicBezTo>
              </a:path>
              <a:path w="1043" h="720">
                <a:moveTo>
                  <a:pt x="15453" y="4192"/>
                </a:moveTo>
                <a:cubicBezTo>
                  <a:pt x="15557" y="4192"/>
                  <a:pt x="15653" y="4183"/>
                  <a:pt x="15751" y="4167"/>
                </a:cubicBezTo>
                <a:cubicBezTo>
                  <a:pt x="15768" y="4167"/>
                  <a:pt x="15784" y="4167"/>
                  <a:pt x="15801" y="4167"/>
                </a:cubicBezTo>
              </a:path>
              <a:path w="1043" h="720">
                <a:moveTo>
                  <a:pt x="15949" y="3894"/>
                </a:moveTo>
                <a:cubicBezTo>
                  <a:pt x="15924" y="4003"/>
                  <a:pt x="15890" y="4108"/>
                  <a:pt x="15875" y="4217"/>
                </a:cubicBezTo>
                <a:cubicBezTo>
                  <a:pt x="15867" y="4274"/>
                  <a:pt x="15863" y="4349"/>
                  <a:pt x="15900" y="4390"/>
                </a:cubicBezTo>
                <a:cubicBezTo>
                  <a:pt x="15928" y="4421"/>
                  <a:pt x="15936" y="4415"/>
                  <a:pt x="15974" y="4415"/>
                </a:cubicBezTo>
                <a:cubicBezTo>
                  <a:pt x="16004" y="4376"/>
                  <a:pt x="16024" y="4338"/>
                  <a:pt x="16049" y="4291"/>
                </a:cubicBezTo>
                <a:cubicBezTo>
                  <a:pt x="16083" y="4227"/>
                  <a:pt x="16073" y="4164"/>
                  <a:pt x="16073" y="4093"/>
                </a:cubicBezTo>
                <a:cubicBezTo>
                  <a:pt x="16073" y="4036"/>
                  <a:pt x="16058" y="3961"/>
                  <a:pt x="16024" y="3919"/>
                </a:cubicBezTo>
                <a:cubicBezTo>
                  <a:pt x="15995" y="3883"/>
                  <a:pt x="15959" y="3874"/>
                  <a:pt x="15949" y="3894"/>
                </a:cubicBezTo>
              </a:path>
              <a:path w="1043" h="720">
                <a:moveTo>
                  <a:pt x="16173" y="3994"/>
                </a:moveTo>
                <a:cubicBezTo>
                  <a:pt x="16198" y="4065"/>
                  <a:pt x="16256" y="4145"/>
                  <a:pt x="16272" y="4217"/>
                </a:cubicBezTo>
                <a:cubicBezTo>
                  <a:pt x="16287" y="4282"/>
                  <a:pt x="16328" y="4354"/>
                  <a:pt x="16371" y="4415"/>
                </a:cubicBezTo>
                <a:cubicBezTo>
                  <a:pt x="16385" y="4435"/>
                  <a:pt x="16464" y="4529"/>
                  <a:pt x="16495" y="4490"/>
                </a:cubicBezTo>
                <a:cubicBezTo>
                  <a:pt x="16495" y="4482"/>
                  <a:pt x="16495" y="4473"/>
                  <a:pt x="16495" y="4465"/>
                </a:cubicBezTo>
              </a:path>
              <a:path w="1043" h="720">
                <a:moveTo>
                  <a:pt x="16470" y="3969"/>
                </a:moveTo>
                <a:cubicBezTo>
                  <a:pt x="16398" y="4021"/>
                  <a:pt x="16359" y="4107"/>
                  <a:pt x="16321" y="4192"/>
                </a:cubicBezTo>
                <a:cubicBezTo>
                  <a:pt x="16280" y="4285"/>
                  <a:pt x="16244" y="4353"/>
                  <a:pt x="16197" y="4440"/>
                </a:cubicBezTo>
                <a:cubicBezTo>
                  <a:pt x="16181" y="4469"/>
                  <a:pt x="16145" y="4575"/>
                  <a:pt x="16123" y="4589"/>
                </a:cubicBezTo>
                <a:cubicBezTo>
                  <a:pt x="16115" y="4589"/>
                  <a:pt x="16106" y="4589"/>
                  <a:pt x="16098" y="45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9"/>
          <p:cNvSpPr/>
          <p:nvPr/>
        </p:nvSpPr>
        <p:spPr>
          <a:xfrm>
            <a:off x="3938760" y="285840"/>
            <a:ext cx="2732040" cy="723960"/>
          </a:xfrm>
          <a:custGeom>
            <a:avLst/>
            <a:gdLst/>
            <a:ahLst/>
            <a:rect l="l" t="t" r="r" b="b"/>
            <a:pathLst>
              <a:path w="7591" h="2010">
                <a:moveTo>
                  <a:pt x="10964" y="1885"/>
                </a:moveTo>
                <a:cubicBezTo>
                  <a:pt x="10941" y="1839"/>
                  <a:pt x="10969" y="1810"/>
                  <a:pt x="11013" y="1761"/>
                </a:cubicBezTo>
                <a:cubicBezTo>
                  <a:pt x="11049" y="1720"/>
                  <a:pt x="11073" y="1677"/>
                  <a:pt x="11112" y="1637"/>
                </a:cubicBezTo>
                <a:cubicBezTo>
                  <a:pt x="11152" y="1596"/>
                  <a:pt x="11203" y="1527"/>
                  <a:pt x="11261" y="1513"/>
                </a:cubicBezTo>
                <a:cubicBezTo>
                  <a:pt x="11278" y="1513"/>
                  <a:pt x="11294" y="1513"/>
                  <a:pt x="11311" y="1513"/>
                </a:cubicBezTo>
                <a:cubicBezTo>
                  <a:pt x="11319" y="1569"/>
                  <a:pt x="11354" y="1624"/>
                  <a:pt x="11336" y="1687"/>
                </a:cubicBezTo>
                <a:cubicBezTo>
                  <a:pt x="11317" y="1755"/>
                  <a:pt x="11308" y="1823"/>
                  <a:pt x="11286" y="1885"/>
                </a:cubicBezTo>
                <a:cubicBezTo>
                  <a:pt x="11261" y="1954"/>
                  <a:pt x="11217" y="2018"/>
                  <a:pt x="11187" y="2084"/>
                </a:cubicBezTo>
                <a:cubicBezTo>
                  <a:pt x="11138" y="2192"/>
                  <a:pt x="11085" y="2297"/>
                  <a:pt x="11038" y="2406"/>
                </a:cubicBezTo>
                <a:cubicBezTo>
                  <a:pt x="11014" y="2462"/>
                  <a:pt x="10988" y="2529"/>
                  <a:pt x="10964" y="2580"/>
                </a:cubicBezTo>
                <a:cubicBezTo>
                  <a:pt x="10939" y="2604"/>
                  <a:pt x="10931" y="2612"/>
                  <a:pt x="10964" y="2629"/>
                </a:cubicBezTo>
                <a:cubicBezTo>
                  <a:pt x="10974" y="2556"/>
                  <a:pt x="10985" y="2535"/>
                  <a:pt x="11063" y="2530"/>
                </a:cubicBezTo>
                <a:cubicBezTo>
                  <a:pt x="11146" y="2525"/>
                  <a:pt x="11207" y="2544"/>
                  <a:pt x="11286" y="2555"/>
                </a:cubicBezTo>
                <a:cubicBezTo>
                  <a:pt x="11340" y="2563"/>
                  <a:pt x="11365" y="2561"/>
                  <a:pt x="11385" y="2530"/>
                </a:cubicBezTo>
              </a:path>
              <a:path w="7591" h="2010">
                <a:moveTo>
                  <a:pt x="11509" y="2084"/>
                </a:moveTo>
                <a:cubicBezTo>
                  <a:pt x="11552" y="2147"/>
                  <a:pt x="11578" y="2211"/>
                  <a:pt x="11609" y="2282"/>
                </a:cubicBezTo>
                <a:cubicBezTo>
                  <a:pt x="11634" y="2338"/>
                  <a:pt x="11674" y="2382"/>
                  <a:pt x="11708" y="2431"/>
                </a:cubicBezTo>
                <a:cubicBezTo>
                  <a:pt x="11749" y="2489"/>
                  <a:pt x="11790" y="2548"/>
                  <a:pt x="11832" y="2604"/>
                </a:cubicBezTo>
                <a:cubicBezTo>
                  <a:pt x="11862" y="2634"/>
                  <a:pt x="11876" y="2639"/>
                  <a:pt x="11906" y="2604"/>
                </a:cubicBezTo>
              </a:path>
              <a:path w="7591" h="2010">
                <a:moveTo>
                  <a:pt x="11807" y="1935"/>
                </a:moveTo>
                <a:cubicBezTo>
                  <a:pt x="11761" y="2025"/>
                  <a:pt x="11723" y="2116"/>
                  <a:pt x="11683" y="2208"/>
                </a:cubicBezTo>
                <a:cubicBezTo>
                  <a:pt x="11639" y="2310"/>
                  <a:pt x="11536" y="2429"/>
                  <a:pt x="11509" y="2530"/>
                </a:cubicBezTo>
                <a:cubicBezTo>
                  <a:pt x="11498" y="2571"/>
                  <a:pt x="11440" y="2649"/>
                  <a:pt x="11485" y="2604"/>
                </a:cubicBezTo>
              </a:path>
              <a:path w="7591" h="2010">
                <a:moveTo>
                  <a:pt x="11906" y="1563"/>
                </a:moveTo>
                <a:cubicBezTo>
                  <a:pt x="11949" y="1508"/>
                  <a:pt x="12014" y="1412"/>
                  <a:pt x="12105" y="1439"/>
                </a:cubicBezTo>
                <a:cubicBezTo>
                  <a:pt x="12186" y="1463"/>
                  <a:pt x="12150" y="1562"/>
                  <a:pt x="12129" y="1612"/>
                </a:cubicBezTo>
                <a:cubicBezTo>
                  <a:pt x="12104" y="1673"/>
                  <a:pt x="12076" y="1715"/>
                  <a:pt x="12030" y="1761"/>
                </a:cubicBezTo>
                <a:cubicBezTo>
                  <a:pt x="11997" y="1794"/>
                  <a:pt x="11965" y="1827"/>
                  <a:pt x="11931" y="1860"/>
                </a:cubicBezTo>
                <a:cubicBezTo>
                  <a:pt x="12002" y="1860"/>
                  <a:pt x="12041" y="1840"/>
                  <a:pt x="12105" y="1836"/>
                </a:cubicBezTo>
                <a:cubicBezTo>
                  <a:pt x="12138" y="1834"/>
                  <a:pt x="12378" y="1817"/>
                  <a:pt x="12378" y="1860"/>
                </a:cubicBezTo>
                <a:cubicBezTo>
                  <a:pt x="12370" y="1860"/>
                  <a:pt x="12361" y="1860"/>
                  <a:pt x="12353" y="1860"/>
                </a:cubicBezTo>
              </a:path>
              <a:path w="7591" h="2010">
                <a:moveTo>
                  <a:pt x="12750" y="1935"/>
                </a:moveTo>
                <a:cubicBezTo>
                  <a:pt x="12750" y="2025"/>
                  <a:pt x="12729" y="2076"/>
                  <a:pt x="12725" y="2158"/>
                </a:cubicBezTo>
                <a:cubicBezTo>
                  <a:pt x="12722" y="2223"/>
                  <a:pt x="12720" y="2344"/>
                  <a:pt x="12700" y="2406"/>
                </a:cubicBezTo>
                <a:cubicBezTo>
                  <a:pt x="12677" y="2429"/>
                  <a:pt x="12669" y="2433"/>
                  <a:pt x="12675" y="2456"/>
                </a:cubicBezTo>
              </a:path>
              <a:path w="7591" h="2010">
                <a:moveTo>
                  <a:pt x="12452" y="2208"/>
                </a:moveTo>
                <a:cubicBezTo>
                  <a:pt x="12537" y="2197"/>
                  <a:pt x="12609" y="2183"/>
                  <a:pt x="12700" y="2183"/>
                </a:cubicBezTo>
                <a:cubicBezTo>
                  <a:pt x="12797" y="2183"/>
                  <a:pt x="12882" y="2193"/>
                  <a:pt x="12973" y="2208"/>
                </a:cubicBezTo>
                <a:cubicBezTo>
                  <a:pt x="13023" y="2216"/>
                  <a:pt x="13032" y="2193"/>
                  <a:pt x="13072" y="2183"/>
                </a:cubicBezTo>
              </a:path>
              <a:path w="7591" h="2010">
                <a:moveTo>
                  <a:pt x="13221" y="1736"/>
                </a:moveTo>
                <a:cubicBezTo>
                  <a:pt x="13300" y="1658"/>
                  <a:pt x="13357" y="1607"/>
                  <a:pt x="13444" y="1563"/>
                </a:cubicBezTo>
                <a:cubicBezTo>
                  <a:pt x="13509" y="1530"/>
                  <a:pt x="13560" y="1521"/>
                  <a:pt x="13568" y="1612"/>
                </a:cubicBezTo>
                <a:cubicBezTo>
                  <a:pt x="13576" y="1697"/>
                  <a:pt x="13543" y="1790"/>
                  <a:pt x="13494" y="1860"/>
                </a:cubicBezTo>
                <a:cubicBezTo>
                  <a:pt x="13455" y="1915"/>
                  <a:pt x="13426" y="1972"/>
                  <a:pt x="13395" y="2034"/>
                </a:cubicBezTo>
                <a:cubicBezTo>
                  <a:pt x="13364" y="2096"/>
                  <a:pt x="13314" y="2177"/>
                  <a:pt x="13271" y="2232"/>
                </a:cubicBezTo>
                <a:cubicBezTo>
                  <a:pt x="13215" y="2304"/>
                  <a:pt x="13168" y="2375"/>
                  <a:pt x="13122" y="2456"/>
                </a:cubicBezTo>
                <a:cubicBezTo>
                  <a:pt x="13086" y="2519"/>
                  <a:pt x="13058" y="2525"/>
                  <a:pt x="13022" y="2580"/>
                </a:cubicBezTo>
                <a:cubicBezTo>
                  <a:pt x="13110" y="2580"/>
                  <a:pt x="13186" y="2559"/>
                  <a:pt x="13271" y="2555"/>
                </a:cubicBezTo>
                <a:cubicBezTo>
                  <a:pt x="13357" y="2551"/>
                  <a:pt x="13414" y="2558"/>
                  <a:pt x="13494" y="2530"/>
                </a:cubicBezTo>
                <a:cubicBezTo>
                  <a:pt x="13519" y="2522"/>
                  <a:pt x="13543" y="2513"/>
                  <a:pt x="13568" y="2505"/>
                </a:cubicBezTo>
              </a:path>
              <a:path w="7591" h="2010">
                <a:moveTo>
                  <a:pt x="13593" y="2084"/>
                </a:moveTo>
                <a:cubicBezTo>
                  <a:pt x="13631" y="2130"/>
                  <a:pt x="13664" y="2179"/>
                  <a:pt x="13692" y="2232"/>
                </a:cubicBezTo>
                <a:cubicBezTo>
                  <a:pt x="13731" y="2305"/>
                  <a:pt x="13758" y="2347"/>
                  <a:pt x="13816" y="2406"/>
                </a:cubicBezTo>
                <a:cubicBezTo>
                  <a:pt x="13867" y="2457"/>
                  <a:pt x="13913" y="2454"/>
                  <a:pt x="13965" y="2480"/>
                </a:cubicBezTo>
                <a:cubicBezTo>
                  <a:pt x="13998" y="2513"/>
                  <a:pt x="14014" y="2513"/>
                  <a:pt x="14039" y="2456"/>
                </a:cubicBezTo>
              </a:path>
              <a:path w="7591" h="2010">
                <a:moveTo>
                  <a:pt x="13915" y="2034"/>
                </a:moveTo>
                <a:cubicBezTo>
                  <a:pt x="13857" y="2107"/>
                  <a:pt x="13819" y="2156"/>
                  <a:pt x="13767" y="2232"/>
                </a:cubicBezTo>
                <a:cubicBezTo>
                  <a:pt x="13738" y="2274"/>
                  <a:pt x="13697" y="2315"/>
                  <a:pt x="13667" y="2356"/>
                </a:cubicBezTo>
                <a:cubicBezTo>
                  <a:pt x="13645" y="2379"/>
                  <a:pt x="13640" y="2387"/>
                  <a:pt x="13618" y="2381"/>
                </a:cubicBezTo>
              </a:path>
              <a:path w="7591" h="2010">
                <a:moveTo>
                  <a:pt x="14461" y="2257"/>
                </a:moveTo>
                <a:cubicBezTo>
                  <a:pt x="14566" y="2257"/>
                  <a:pt x="14661" y="2245"/>
                  <a:pt x="14759" y="2232"/>
                </a:cubicBezTo>
                <a:cubicBezTo>
                  <a:pt x="14835" y="2232"/>
                  <a:pt x="14861" y="2232"/>
                  <a:pt x="14908" y="2208"/>
                </a:cubicBezTo>
              </a:path>
              <a:path w="7591" h="2010">
                <a:moveTo>
                  <a:pt x="15280" y="1786"/>
                </a:moveTo>
                <a:cubicBezTo>
                  <a:pt x="15280" y="1955"/>
                  <a:pt x="15286" y="2117"/>
                  <a:pt x="15304" y="2282"/>
                </a:cubicBezTo>
                <a:cubicBezTo>
                  <a:pt x="15308" y="2317"/>
                  <a:pt x="15304" y="2527"/>
                  <a:pt x="15304" y="2480"/>
                </a:cubicBezTo>
              </a:path>
              <a:path w="7591" h="2010">
                <a:moveTo>
                  <a:pt x="16123" y="1513"/>
                </a:moveTo>
                <a:cubicBezTo>
                  <a:pt x="16102" y="1591"/>
                  <a:pt x="16081" y="1679"/>
                  <a:pt x="16098" y="1761"/>
                </a:cubicBezTo>
                <a:cubicBezTo>
                  <a:pt x="16110" y="1819"/>
                  <a:pt x="16103" y="1931"/>
                  <a:pt x="16123" y="1984"/>
                </a:cubicBezTo>
                <a:cubicBezTo>
                  <a:pt x="16145" y="2040"/>
                  <a:pt x="16173" y="2048"/>
                  <a:pt x="16148" y="2108"/>
                </a:cubicBezTo>
              </a:path>
              <a:path w="7591" h="2010">
                <a:moveTo>
                  <a:pt x="15875" y="1910"/>
                </a:moveTo>
                <a:cubicBezTo>
                  <a:pt x="15961" y="1881"/>
                  <a:pt x="16055" y="1865"/>
                  <a:pt x="16148" y="1860"/>
                </a:cubicBezTo>
                <a:cubicBezTo>
                  <a:pt x="16216" y="1857"/>
                  <a:pt x="16265" y="1852"/>
                  <a:pt x="16321" y="1836"/>
                </a:cubicBezTo>
                <a:cubicBezTo>
                  <a:pt x="16329" y="1836"/>
                  <a:pt x="16338" y="1836"/>
                  <a:pt x="16346" y="1836"/>
                </a:cubicBezTo>
              </a:path>
              <a:path w="7591" h="2010">
                <a:moveTo>
                  <a:pt x="17760" y="1042"/>
                </a:moveTo>
                <a:cubicBezTo>
                  <a:pt x="17804" y="1064"/>
                  <a:pt x="17816" y="1077"/>
                  <a:pt x="17835" y="1042"/>
                </a:cubicBezTo>
                <a:cubicBezTo>
                  <a:pt x="17826" y="976"/>
                  <a:pt x="17792" y="932"/>
                  <a:pt x="17760" y="868"/>
                </a:cubicBezTo>
                <a:cubicBezTo>
                  <a:pt x="17720" y="789"/>
                  <a:pt x="17649" y="777"/>
                  <a:pt x="17562" y="794"/>
                </a:cubicBezTo>
                <a:cubicBezTo>
                  <a:pt x="17504" y="805"/>
                  <a:pt x="17403" y="853"/>
                  <a:pt x="17388" y="918"/>
                </a:cubicBezTo>
                <a:cubicBezTo>
                  <a:pt x="17370" y="998"/>
                  <a:pt x="17387" y="1040"/>
                  <a:pt x="17438" y="1091"/>
                </a:cubicBezTo>
                <a:cubicBezTo>
                  <a:pt x="17491" y="1145"/>
                  <a:pt x="17572" y="1146"/>
                  <a:pt x="17636" y="1116"/>
                </a:cubicBezTo>
                <a:cubicBezTo>
                  <a:pt x="17681" y="1095"/>
                  <a:pt x="17724" y="1053"/>
                  <a:pt x="17760" y="1017"/>
                </a:cubicBezTo>
                <a:cubicBezTo>
                  <a:pt x="17790" y="987"/>
                  <a:pt x="17808" y="951"/>
                  <a:pt x="17835" y="918"/>
                </a:cubicBezTo>
                <a:cubicBezTo>
                  <a:pt x="17835" y="1078"/>
                  <a:pt x="17840" y="1236"/>
                  <a:pt x="17859" y="1389"/>
                </a:cubicBezTo>
                <a:cubicBezTo>
                  <a:pt x="17868" y="1458"/>
                  <a:pt x="17881" y="1554"/>
                  <a:pt x="17835" y="1538"/>
                </a:cubicBezTo>
              </a:path>
              <a:path w="7591" h="2010">
                <a:moveTo>
                  <a:pt x="16743" y="1811"/>
                </a:moveTo>
                <a:cubicBezTo>
                  <a:pt x="16936" y="1811"/>
                  <a:pt x="17123" y="1801"/>
                  <a:pt x="17314" y="1786"/>
                </a:cubicBezTo>
                <a:cubicBezTo>
                  <a:pt x="17478" y="1773"/>
                  <a:pt x="17647" y="1785"/>
                  <a:pt x="17810" y="1761"/>
                </a:cubicBezTo>
                <a:cubicBezTo>
                  <a:pt x="17947" y="1741"/>
                  <a:pt x="18096" y="1761"/>
                  <a:pt x="18231" y="1736"/>
                </a:cubicBezTo>
                <a:cubicBezTo>
                  <a:pt x="18296" y="1724"/>
                  <a:pt x="18377" y="1719"/>
                  <a:pt x="18430" y="1687"/>
                </a:cubicBezTo>
                <a:cubicBezTo>
                  <a:pt x="18372" y="1687"/>
                  <a:pt x="18347" y="1687"/>
                  <a:pt x="18306" y="1687"/>
                </a:cubicBezTo>
              </a:path>
              <a:path w="7591" h="2010">
                <a:moveTo>
                  <a:pt x="16917" y="2158"/>
                </a:moveTo>
                <a:cubicBezTo>
                  <a:pt x="16945" y="2123"/>
                  <a:pt x="16971" y="2054"/>
                  <a:pt x="17016" y="2034"/>
                </a:cubicBezTo>
                <a:cubicBezTo>
                  <a:pt x="17065" y="2012"/>
                  <a:pt x="17137" y="1987"/>
                  <a:pt x="17190" y="1984"/>
                </a:cubicBezTo>
                <a:cubicBezTo>
                  <a:pt x="17273" y="1979"/>
                  <a:pt x="17264" y="2017"/>
                  <a:pt x="17264" y="2084"/>
                </a:cubicBezTo>
                <a:cubicBezTo>
                  <a:pt x="17264" y="2179"/>
                  <a:pt x="17223" y="2281"/>
                  <a:pt x="17165" y="2356"/>
                </a:cubicBezTo>
                <a:cubicBezTo>
                  <a:pt x="17106" y="2432"/>
                  <a:pt x="17077" y="2527"/>
                  <a:pt x="17016" y="2604"/>
                </a:cubicBezTo>
                <a:cubicBezTo>
                  <a:pt x="16964" y="2669"/>
                  <a:pt x="16928" y="2699"/>
                  <a:pt x="16917" y="2778"/>
                </a:cubicBezTo>
                <a:cubicBezTo>
                  <a:pt x="16979" y="2803"/>
                  <a:pt x="17017" y="2765"/>
                  <a:pt x="17090" y="2753"/>
                </a:cubicBezTo>
                <a:cubicBezTo>
                  <a:pt x="17154" y="2742"/>
                  <a:pt x="17203" y="2731"/>
                  <a:pt x="17264" y="2704"/>
                </a:cubicBezTo>
              </a:path>
              <a:path w="7591" h="2010">
                <a:moveTo>
                  <a:pt x="17413" y="2257"/>
                </a:moveTo>
                <a:cubicBezTo>
                  <a:pt x="17445" y="2310"/>
                  <a:pt x="17447" y="2374"/>
                  <a:pt x="17487" y="2431"/>
                </a:cubicBezTo>
                <a:cubicBezTo>
                  <a:pt x="17528" y="2490"/>
                  <a:pt x="17585" y="2538"/>
                  <a:pt x="17636" y="2580"/>
                </a:cubicBezTo>
                <a:cubicBezTo>
                  <a:pt x="17670" y="2608"/>
                  <a:pt x="17731" y="2707"/>
                  <a:pt x="17785" y="2704"/>
                </a:cubicBezTo>
                <a:cubicBezTo>
                  <a:pt x="17802" y="2696"/>
                  <a:pt x="17818" y="2687"/>
                  <a:pt x="17835" y="2679"/>
                </a:cubicBezTo>
              </a:path>
              <a:path w="7591" h="2010">
                <a:moveTo>
                  <a:pt x="17686" y="2232"/>
                </a:moveTo>
                <a:cubicBezTo>
                  <a:pt x="17654" y="2343"/>
                  <a:pt x="17615" y="2385"/>
                  <a:pt x="17562" y="2480"/>
                </a:cubicBezTo>
                <a:cubicBezTo>
                  <a:pt x="17525" y="2546"/>
                  <a:pt x="17481" y="2616"/>
                  <a:pt x="17438" y="2679"/>
                </a:cubicBezTo>
                <a:cubicBezTo>
                  <a:pt x="17408" y="2722"/>
                  <a:pt x="17354" y="2795"/>
                  <a:pt x="17438" y="2753"/>
                </a:cubicBezTo>
              </a:path>
              <a:path w="7591" h="2010">
                <a:moveTo>
                  <a:pt x="17983" y="2232"/>
                </a:moveTo>
                <a:cubicBezTo>
                  <a:pt x="18001" y="2321"/>
                  <a:pt x="18042" y="2426"/>
                  <a:pt x="18058" y="2505"/>
                </a:cubicBezTo>
                <a:cubicBezTo>
                  <a:pt x="18069" y="2558"/>
                  <a:pt x="18070" y="2623"/>
                  <a:pt x="18058" y="2629"/>
                </a:cubicBezTo>
              </a:path>
              <a:path w="7591" h="2010">
                <a:moveTo>
                  <a:pt x="17810" y="2456"/>
                </a:moveTo>
                <a:cubicBezTo>
                  <a:pt x="17880" y="2447"/>
                  <a:pt x="17935" y="2431"/>
                  <a:pt x="18008" y="2431"/>
                </a:cubicBezTo>
                <a:cubicBezTo>
                  <a:pt x="18090" y="2431"/>
                  <a:pt x="18181" y="2413"/>
                  <a:pt x="18256" y="2381"/>
                </a:cubicBezTo>
                <a:cubicBezTo>
                  <a:pt x="18273" y="2373"/>
                  <a:pt x="18289" y="2364"/>
                  <a:pt x="18306" y="2356"/>
                </a:cubicBezTo>
              </a:path>
              <a:path w="7591" h="2010">
                <a:moveTo>
                  <a:pt x="18504" y="1984"/>
                </a:moveTo>
                <a:cubicBezTo>
                  <a:pt x="18521" y="2078"/>
                  <a:pt x="18504" y="2154"/>
                  <a:pt x="18504" y="2257"/>
                </a:cubicBezTo>
                <a:cubicBezTo>
                  <a:pt x="18504" y="2315"/>
                  <a:pt x="18480" y="2752"/>
                  <a:pt x="18529" y="2753"/>
                </a:cubicBezTo>
                <a:cubicBezTo>
                  <a:pt x="18529" y="2745"/>
                  <a:pt x="18529" y="2737"/>
                  <a:pt x="18529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20"/>
          <p:cNvSpPr/>
          <p:nvPr/>
        </p:nvSpPr>
        <p:spPr>
          <a:xfrm>
            <a:off x="3697200" y="1616040"/>
            <a:ext cx="1677960" cy="563760"/>
          </a:xfrm>
          <a:custGeom>
            <a:avLst/>
            <a:gdLst/>
            <a:ahLst/>
            <a:rect l="l" t="t" r="r" b="b"/>
            <a:pathLst>
              <a:path w="4664" h="1563">
                <a:moveTo>
                  <a:pt x="10889" y="5234"/>
                </a:moveTo>
                <a:cubicBezTo>
                  <a:pt x="10862" y="5279"/>
                  <a:pt x="10837" y="5329"/>
                  <a:pt x="10815" y="5383"/>
                </a:cubicBezTo>
                <a:cubicBezTo>
                  <a:pt x="10784" y="5458"/>
                  <a:pt x="10750" y="5528"/>
                  <a:pt x="10740" y="5606"/>
                </a:cubicBezTo>
                <a:cubicBezTo>
                  <a:pt x="10795" y="5573"/>
                  <a:pt x="10846" y="5581"/>
                  <a:pt x="10914" y="5581"/>
                </a:cubicBezTo>
                <a:cubicBezTo>
                  <a:pt x="10986" y="5581"/>
                  <a:pt x="11081" y="5601"/>
                  <a:pt x="11137" y="5556"/>
                </a:cubicBezTo>
                <a:cubicBezTo>
                  <a:pt x="11159" y="5534"/>
                  <a:pt x="11168" y="5529"/>
                  <a:pt x="11162" y="5507"/>
                </a:cubicBezTo>
              </a:path>
              <a:path w="4664" h="1563">
                <a:moveTo>
                  <a:pt x="11112" y="5060"/>
                </a:moveTo>
                <a:cubicBezTo>
                  <a:pt x="11112" y="5173"/>
                  <a:pt x="11101" y="5277"/>
                  <a:pt x="11088" y="5383"/>
                </a:cubicBezTo>
                <a:cubicBezTo>
                  <a:pt x="11072" y="5515"/>
                  <a:pt x="11083" y="5651"/>
                  <a:pt x="11063" y="5779"/>
                </a:cubicBezTo>
                <a:cubicBezTo>
                  <a:pt x="11060" y="5798"/>
                  <a:pt x="11061" y="5954"/>
                  <a:pt x="11038" y="5953"/>
                </a:cubicBezTo>
                <a:cubicBezTo>
                  <a:pt x="11013" y="5952"/>
                  <a:pt x="11088" y="5879"/>
                  <a:pt x="11088" y="5879"/>
                </a:cubicBezTo>
              </a:path>
              <a:path w="4664" h="1563">
                <a:moveTo>
                  <a:pt x="11336" y="5383"/>
                </a:moveTo>
                <a:cubicBezTo>
                  <a:pt x="11380" y="5426"/>
                  <a:pt x="11383" y="5458"/>
                  <a:pt x="11410" y="5507"/>
                </a:cubicBezTo>
                <a:cubicBezTo>
                  <a:pt x="11456" y="5593"/>
                  <a:pt x="11465" y="5643"/>
                  <a:pt x="11534" y="5705"/>
                </a:cubicBezTo>
                <a:cubicBezTo>
                  <a:pt x="11586" y="5752"/>
                  <a:pt x="11634" y="5805"/>
                  <a:pt x="11683" y="5854"/>
                </a:cubicBezTo>
                <a:cubicBezTo>
                  <a:pt x="11741" y="5912"/>
                  <a:pt x="11742" y="5889"/>
                  <a:pt x="11733" y="5829"/>
                </a:cubicBezTo>
              </a:path>
              <a:path w="4664" h="1563">
                <a:moveTo>
                  <a:pt x="11559" y="5308"/>
                </a:moveTo>
                <a:cubicBezTo>
                  <a:pt x="11524" y="5377"/>
                  <a:pt x="11491" y="5438"/>
                  <a:pt x="11460" y="5507"/>
                </a:cubicBezTo>
                <a:cubicBezTo>
                  <a:pt x="11430" y="5574"/>
                  <a:pt x="11394" y="5639"/>
                  <a:pt x="11361" y="5705"/>
                </a:cubicBezTo>
                <a:cubicBezTo>
                  <a:pt x="11335" y="5758"/>
                  <a:pt x="11300" y="5810"/>
                  <a:pt x="11261" y="5854"/>
                </a:cubicBezTo>
                <a:cubicBezTo>
                  <a:pt x="11203" y="5920"/>
                  <a:pt x="11296" y="5797"/>
                  <a:pt x="11311" y="5779"/>
                </a:cubicBezTo>
              </a:path>
              <a:path w="4664" h="1563">
                <a:moveTo>
                  <a:pt x="11757" y="4787"/>
                </a:moveTo>
                <a:cubicBezTo>
                  <a:pt x="11814" y="4706"/>
                  <a:pt x="11830" y="4669"/>
                  <a:pt x="11931" y="4663"/>
                </a:cubicBezTo>
                <a:cubicBezTo>
                  <a:pt x="12015" y="4658"/>
                  <a:pt x="12009" y="4731"/>
                  <a:pt x="11981" y="4787"/>
                </a:cubicBezTo>
                <a:cubicBezTo>
                  <a:pt x="11957" y="4834"/>
                  <a:pt x="11895" y="4859"/>
                  <a:pt x="11857" y="4887"/>
                </a:cubicBezTo>
                <a:cubicBezTo>
                  <a:pt x="11799" y="4930"/>
                  <a:pt x="11908" y="4869"/>
                  <a:pt x="11956" y="4887"/>
                </a:cubicBezTo>
                <a:cubicBezTo>
                  <a:pt x="12011" y="4907"/>
                  <a:pt x="12032" y="4972"/>
                  <a:pt x="12005" y="5011"/>
                </a:cubicBezTo>
                <a:cubicBezTo>
                  <a:pt x="11973" y="5058"/>
                  <a:pt x="11907" y="5082"/>
                  <a:pt x="11857" y="5085"/>
                </a:cubicBezTo>
                <a:cubicBezTo>
                  <a:pt x="11830" y="5087"/>
                  <a:pt x="11683" y="5060"/>
                  <a:pt x="11683" y="5060"/>
                </a:cubicBezTo>
                <a:cubicBezTo>
                  <a:pt x="11683" y="5068"/>
                  <a:pt x="11683" y="5077"/>
                  <a:pt x="11683" y="5085"/>
                </a:cubicBezTo>
              </a:path>
              <a:path w="4664" h="1563">
                <a:moveTo>
                  <a:pt x="12998" y="5159"/>
                </a:moveTo>
                <a:cubicBezTo>
                  <a:pt x="13011" y="5194"/>
                  <a:pt x="13012" y="5281"/>
                  <a:pt x="12998" y="5333"/>
                </a:cubicBezTo>
                <a:cubicBezTo>
                  <a:pt x="12978" y="5404"/>
                  <a:pt x="12973" y="5454"/>
                  <a:pt x="12973" y="5531"/>
                </a:cubicBezTo>
                <a:cubicBezTo>
                  <a:pt x="12973" y="5573"/>
                  <a:pt x="12973" y="5598"/>
                  <a:pt x="12973" y="5556"/>
                </a:cubicBezTo>
              </a:path>
              <a:path w="4664" h="1563">
                <a:moveTo>
                  <a:pt x="12774" y="5407"/>
                </a:moveTo>
                <a:cubicBezTo>
                  <a:pt x="12941" y="5407"/>
                  <a:pt x="13119" y="5401"/>
                  <a:pt x="13271" y="5432"/>
                </a:cubicBezTo>
                <a:cubicBezTo>
                  <a:pt x="13360" y="5450"/>
                  <a:pt x="13279" y="5427"/>
                  <a:pt x="13320" y="5407"/>
                </a:cubicBezTo>
              </a:path>
              <a:path w="4664" h="1563">
                <a:moveTo>
                  <a:pt x="13667" y="5011"/>
                </a:moveTo>
                <a:cubicBezTo>
                  <a:pt x="13751" y="4934"/>
                  <a:pt x="13783" y="4928"/>
                  <a:pt x="13866" y="4887"/>
                </a:cubicBezTo>
                <a:cubicBezTo>
                  <a:pt x="13916" y="4862"/>
                  <a:pt x="13955" y="4841"/>
                  <a:pt x="14015" y="4837"/>
                </a:cubicBezTo>
                <a:cubicBezTo>
                  <a:pt x="14105" y="4832"/>
                  <a:pt x="14133" y="4875"/>
                  <a:pt x="14114" y="4961"/>
                </a:cubicBezTo>
                <a:cubicBezTo>
                  <a:pt x="14103" y="5010"/>
                  <a:pt x="14059" y="5094"/>
                  <a:pt x="14039" y="5135"/>
                </a:cubicBezTo>
                <a:cubicBezTo>
                  <a:pt x="14008" y="5197"/>
                  <a:pt x="13953" y="5227"/>
                  <a:pt x="13915" y="5283"/>
                </a:cubicBezTo>
                <a:cubicBezTo>
                  <a:pt x="13867" y="5354"/>
                  <a:pt x="13809" y="5386"/>
                  <a:pt x="13767" y="5457"/>
                </a:cubicBezTo>
                <a:cubicBezTo>
                  <a:pt x="13736" y="5509"/>
                  <a:pt x="13707" y="5560"/>
                  <a:pt x="13667" y="5606"/>
                </a:cubicBezTo>
                <a:cubicBezTo>
                  <a:pt x="13623" y="5656"/>
                  <a:pt x="13623" y="5705"/>
                  <a:pt x="13593" y="5755"/>
                </a:cubicBezTo>
                <a:cubicBezTo>
                  <a:pt x="13706" y="5755"/>
                  <a:pt x="13806" y="5743"/>
                  <a:pt x="13915" y="5730"/>
                </a:cubicBezTo>
                <a:cubicBezTo>
                  <a:pt x="13996" y="5721"/>
                  <a:pt x="14034" y="5727"/>
                  <a:pt x="14114" y="5705"/>
                </a:cubicBezTo>
              </a:path>
              <a:path w="4664" h="1563">
                <a:moveTo>
                  <a:pt x="14163" y="5283"/>
                </a:moveTo>
                <a:cubicBezTo>
                  <a:pt x="14208" y="5336"/>
                  <a:pt x="14253" y="5398"/>
                  <a:pt x="14288" y="5457"/>
                </a:cubicBezTo>
                <a:cubicBezTo>
                  <a:pt x="14334" y="5535"/>
                  <a:pt x="14343" y="5553"/>
                  <a:pt x="14412" y="5606"/>
                </a:cubicBezTo>
                <a:cubicBezTo>
                  <a:pt x="14441" y="5628"/>
                  <a:pt x="14477" y="5695"/>
                  <a:pt x="14511" y="5705"/>
                </a:cubicBezTo>
                <a:cubicBezTo>
                  <a:pt x="14567" y="5721"/>
                  <a:pt x="14592" y="5691"/>
                  <a:pt x="14610" y="5655"/>
                </a:cubicBezTo>
              </a:path>
              <a:path w="4664" h="1563">
                <a:moveTo>
                  <a:pt x="14486" y="5209"/>
                </a:moveTo>
                <a:cubicBezTo>
                  <a:pt x="14455" y="5263"/>
                  <a:pt x="14425" y="5334"/>
                  <a:pt x="14387" y="5383"/>
                </a:cubicBezTo>
                <a:cubicBezTo>
                  <a:pt x="14336" y="5448"/>
                  <a:pt x="14288" y="5516"/>
                  <a:pt x="14238" y="5581"/>
                </a:cubicBezTo>
                <a:cubicBezTo>
                  <a:pt x="14203" y="5626"/>
                  <a:pt x="14154" y="5664"/>
                  <a:pt x="14114" y="5705"/>
                </a:cubicBezTo>
                <a:cubicBezTo>
                  <a:pt x="14079" y="5740"/>
                  <a:pt x="14075" y="5735"/>
                  <a:pt x="14114" y="5655"/>
                </a:cubicBezTo>
              </a:path>
              <a:path w="4664" h="1563">
                <a:moveTo>
                  <a:pt x="14585" y="4837"/>
                </a:moveTo>
                <a:cubicBezTo>
                  <a:pt x="14629" y="4818"/>
                  <a:pt x="14755" y="4734"/>
                  <a:pt x="14784" y="4837"/>
                </a:cubicBezTo>
                <a:cubicBezTo>
                  <a:pt x="14808" y="4922"/>
                  <a:pt x="14711" y="4993"/>
                  <a:pt x="14660" y="5035"/>
                </a:cubicBezTo>
                <a:cubicBezTo>
                  <a:pt x="14624" y="5065"/>
                  <a:pt x="14593" y="5102"/>
                  <a:pt x="14560" y="5135"/>
                </a:cubicBezTo>
                <a:cubicBezTo>
                  <a:pt x="14622" y="5165"/>
                  <a:pt x="14733" y="5176"/>
                  <a:pt x="14808" y="5184"/>
                </a:cubicBezTo>
                <a:cubicBezTo>
                  <a:pt x="14854" y="5189"/>
                  <a:pt x="14941" y="5173"/>
                  <a:pt x="14908" y="5209"/>
                </a:cubicBezTo>
              </a:path>
              <a:path w="4664" h="1563">
                <a:moveTo>
                  <a:pt x="10815" y="5953"/>
                </a:moveTo>
                <a:cubicBezTo>
                  <a:pt x="11798" y="5953"/>
                  <a:pt x="12788" y="5921"/>
                  <a:pt x="13767" y="5978"/>
                </a:cubicBezTo>
                <a:cubicBezTo>
                  <a:pt x="13942" y="5988"/>
                  <a:pt x="14114" y="6015"/>
                  <a:pt x="14288" y="6028"/>
                </a:cubicBezTo>
                <a:cubicBezTo>
                  <a:pt x="14414" y="6037"/>
                  <a:pt x="14533" y="6052"/>
                  <a:pt x="14660" y="6052"/>
                </a:cubicBezTo>
                <a:cubicBezTo>
                  <a:pt x="14726" y="6052"/>
                  <a:pt x="14826" y="6071"/>
                  <a:pt x="14883" y="6028"/>
                </a:cubicBezTo>
                <a:cubicBezTo>
                  <a:pt x="14948" y="5978"/>
                  <a:pt x="14818" y="5951"/>
                  <a:pt x="14784" y="5928"/>
                </a:cubicBezTo>
              </a:path>
              <a:path w="4664" h="1563">
                <a:moveTo>
                  <a:pt x="10368" y="4887"/>
                </a:moveTo>
                <a:cubicBezTo>
                  <a:pt x="10455" y="4887"/>
                  <a:pt x="10530" y="4866"/>
                  <a:pt x="10616" y="4862"/>
                </a:cubicBezTo>
                <a:cubicBezTo>
                  <a:pt x="10688" y="4859"/>
                  <a:pt x="10808" y="4885"/>
                  <a:pt x="10840" y="4837"/>
                </a:cubicBezTo>
              </a:path>
              <a:path w="4664" h="1563">
                <a:moveTo>
                  <a:pt x="10740" y="4713"/>
                </a:moveTo>
                <a:cubicBezTo>
                  <a:pt x="10690" y="4672"/>
                  <a:pt x="10636" y="4644"/>
                  <a:pt x="10567" y="4663"/>
                </a:cubicBezTo>
                <a:cubicBezTo>
                  <a:pt x="10501" y="4681"/>
                  <a:pt x="10423" y="4721"/>
                  <a:pt x="10368" y="4762"/>
                </a:cubicBezTo>
                <a:cubicBezTo>
                  <a:pt x="10319" y="4799"/>
                  <a:pt x="10274" y="4881"/>
                  <a:pt x="10269" y="4936"/>
                </a:cubicBezTo>
                <a:cubicBezTo>
                  <a:pt x="10262" y="5021"/>
                  <a:pt x="10262" y="5053"/>
                  <a:pt x="10319" y="5110"/>
                </a:cubicBezTo>
                <a:cubicBezTo>
                  <a:pt x="10373" y="5164"/>
                  <a:pt x="10420" y="5159"/>
                  <a:pt x="10492" y="5159"/>
                </a:cubicBezTo>
                <a:cubicBezTo>
                  <a:pt x="10570" y="5159"/>
                  <a:pt x="10646" y="5119"/>
                  <a:pt x="10716" y="5085"/>
                </a:cubicBezTo>
                <a:cubicBezTo>
                  <a:pt x="10795" y="5047"/>
                  <a:pt x="10833" y="4991"/>
                  <a:pt x="10864" y="4911"/>
                </a:cubicBezTo>
                <a:cubicBezTo>
                  <a:pt x="10898" y="4822"/>
                  <a:pt x="10904" y="4760"/>
                  <a:pt x="10840" y="4688"/>
                </a:cubicBezTo>
                <a:cubicBezTo>
                  <a:pt x="10802" y="4645"/>
                  <a:pt x="10753" y="4617"/>
                  <a:pt x="10740" y="4564"/>
                </a:cubicBezTo>
              </a:path>
              <a:path w="4664" h="1563">
                <a:moveTo>
                  <a:pt x="12948" y="4862"/>
                </a:moveTo>
                <a:cubicBezTo>
                  <a:pt x="13003" y="4829"/>
                  <a:pt x="13054" y="4837"/>
                  <a:pt x="13122" y="4837"/>
                </a:cubicBezTo>
                <a:cubicBezTo>
                  <a:pt x="13204" y="4837"/>
                  <a:pt x="13332" y="4863"/>
                  <a:pt x="13395" y="4812"/>
                </a:cubicBezTo>
                <a:cubicBezTo>
                  <a:pt x="13417" y="4790"/>
                  <a:pt x="13428" y="4781"/>
                  <a:pt x="13395" y="4787"/>
                </a:cubicBezTo>
              </a:path>
              <a:path w="4664" h="1563">
                <a:moveTo>
                  <a:pt x="13246" y="4638"/>
                </a:moveTo>
                <a:cubicBezTo>
                  <a:pt x="13172" y="4614"/>
                  <a:pt x="13079" y="4566"/>
                  <a:pt x="12998" y="4589"/>
                </a:cubicBezTo>
                <a:cubicBezTo>
                  <a:pt x="12940" y="4605"/>
                  <a:pt x="12867" y="4648"/>
                  <a:pt x="12824" y="4688"/>
                </a:cubicBezTo>
                <a:cubicBezTo>
                  <a:pt x="12777" y="4732"/>
                  <a:pt x="12689" y="4797"/>
                  <a:pt x="12675" y="4862"/>
                </a:cubicBezTo>
                <a:cubicBezTo>
                  <a:pt x="12661" y="4925"/>
                  <a:pt x="12685" y="5029"/>
                  <a:pt x="12750" y="5060"/>
                </a:cubicBezTo>
                <a:cubicBezTo>
                  <a:pt x="12846" y="5106"/>
                  <a:pt x="12907" y="5072"/>
                  <a:pt x="12998" y="5060"/>
                </a:cubicBezTo>
                <a:cubicBezTo>
                  <a:pt x="13118" y="5045"/>
                  <a:pt x="13170" y="5012"/>
                  <a:pt x="13271" y="4961"/>
                </a:cubicBezTo>
                <a:cubicBezTo>
                  <a:pt x="13330" y="4931"/>
                  <a:pt x="13441" y="4873"/>
                  <a:pt x="13469" y="4812"/>
                </a:cubicBezTo>
                <a:cubicBezTo>
                  <a:pt x="13500" y="4744"/>
                  <a:pt x="13478" y="4706"/>
                  <a:pt x="13444" y="4638"/>
                </a:cubicBezTo>
                <a:cubicBezTo>
                  <a:pt x="13414" y="4579"/>
                  <a:pt x="13332" y="4529"/>
                  <a:pt x="13271" y="4514"/>
                </a:cubicBezTo>
                <a:cubicBezTo>
                  <a:pt x="13207" y="4498"/>
                  <a:pt x="13224" y="4518"/>
                  <a:pt x="13320" y="44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21"/>
          <p:cNvSpPr/>
          <p:nvPr/>
        </p:nvSpPr>
        <p:spPr>
          <a:xfrm>
            <a:off x="4946760" y="2187720"/>
            <a:ext cx="1152360" cy="349200"/>
          </a:xfrm>
          <a:custGeom>
            <a:avLst/>
            <a:gdLst/>
            <a:ahLst/>
            <a:rect l="l" t="t" r="r" b="b"/>
            <a:pathLst>
              <a:path w="3201" h="969">
                <a:moveTo>
                  <a:pt x="13965" y="6251"/>
                </a:moveTo>
                <a:cubicBezTo>
                  <a:pt x="13936" y="6299"/>
                  <a:pt x="13920" y="6344"/>
                  <a:pt x="13891" y="6400"/>
                </a:cubicBezTo>
                <a:cubicBezTo>
                  <a:pt x="13860" y="6459"/>
                  <a:pt x="13837" y="6501"/>
                  <a:pt x="13791" y="6548"/>
                </a:cubicBezTo>
                <a:cubicBezTo>
                  <a:pt x="13748" y="6591"/>
                  <a:pt x="13751" y="6587"/>
                  <a:pt x="13742" y="6648"/>
                </a:cubicBezTo>
                <a:cubicBezTo>
                  <a:pt x="13875" y="6648"/>
                  <a:pt x="14109" y="6694"/>
                  <a:pt x="14188" y="6598"/>
                </a:cubicBezTo>
              </a:path>
              <a:path w="3201" h="969">
                <a:moveTo>
                  <a:pt x="14188" y="6176"/>
                </a:moveTo>
                <a:cubicBezTo>
                  <a:pt x="14188" y="6281"/>
                  <a:pt x="14175" y="6376"/>
                  <a:pt x="14163" y="6474"/>
                </a:cubicBezTo>
                <a:cubicBezTo>
                  <a:pt x="14152" y="6559"/>
                  <a:pt x="14159" y="6664"/>
                  <a:pt x="14139" y="6747"/>
                </a:cubicBezTo>
                <a:cubicBezTo>
                  <a:pt x="14122" y="6818"/>
                  <a:pt x="14114" y="6869"/>
                  <a:pt x="14114" y="6945"/>
                </a:cubicBezTo>
                <a:cubicBezTo>
                  <a:pt x="14114" y="7010"/>
                  <a:pt x="14073" y="7061"/>
                  <a:pt x="14114" y="7020"/>
                </a:cubicBezTo>
              </a:path>
              <a:path w="3201" h="969">
                <a:moveTo>
                  <a:pt x="14436" y="6524"/>
                </a:moveTo>
                <a:cubicBezTo>
                  <a:pt x="14444" y="6597"/>
                  <a:pt x="14463" y="6680"/>
                  <a:pt x="14486" y="6747"/>
                </a:cubicBezTo>
                <a:cubicBezTo>
                  <a:pt x="14510" y="6819"/>
                  <a:pt x="14570" y="6847"/>
                  <a:pt x="14610" y="6896"/>
                </a:cubicBezTo>
                <a:cubicBezTo>
                  <a:pt x="14649" y="6944"/>
                  <a:pt x="14663" y="7003"/>
                  <a:pt x="14734" y="7020"/>
                </a:cubicBezTo>
                <a:cubicBezTo>
                  <a:pt x="14833" y="7043"/>
                  <a:pt x="14771" y="6939"/>
                  <a:pt x="14759" y="6896"/>
                </a:cubicBezTo>
              </a:path>
              <a:path w="3201" h="969">
                <a:moveTo>
                  <a:pt x="14660" y="6375"/>
                </a:moveTo>
                <a:cubicBezTo>
                  <a:pt x="14650" y="6450"/>
                  <a:pt x="14620" y="6504"/>
                  <a:pt x="14585" y="6573"/>
                </a:cubicBezTo>
                <a:cubicBezTo>
                  <a:pt x="14543" y="6657"/>
                  <a:pt x="14512" y="6720"/>
                  <a:pt x="14461" y="6796"/>
                </a:cubicBezTo>
                <a:cubicBezTo>
                  <a:pt x="14427" y="6847"/>
                  <a:pt x="14403" y="6900"/>
                  <a:pt x="14362" y="6945"/>
                </a:cubicBezTo>
                <a:cubicBezTo>
                  <a:pt x="14302" y="7011"/>
                  <a:pt x="14397" y="6889"/>
                  <a:pt x="14412" y="6871"/>
                </a:cubicBezTo>
              </a:path>
              <a:path w="3201" h="969">
                <a:moveTo>
                  <a:pt x="14808" y="6102"/>
                </a:moveTo>
                <a:cubicBezTo>
                  <a:pt x="14899" y="6077"/>
                  <a:pt x="14899" y="6071"/>
                  <a:pt x="14982" y="6102"/>
                </a:cubicBezTo>
                <a:cubicBezTo>
                  <a:pt x="14961" y="6209"/>
                  <a:pt x="14938" y="6240"/>
                  <a:pt x="14858" y="6300"/>
                </a:cubicBezTo>
                <a:cubicBezTo>
                  <a:pt x="14830" y="6328"/>
                  <a:pt x="14817" y="6337"/>
                  <a:pt x="14784" y="6325"/>
                </a:cubicBezTo>
                <a:cubicBezTo>
                  <a:pt x="14848" y="6364"/>
                  <a:pt x="14927" y="6350"/>
                  <a:pt x="15007" y="6350"/>
                </a:cubicBezTo>
                <a:cubicBezTo>
                  <a:pt x="15032" y="6350"/>
                  <a:pt x="15056" y="6350"/>
                  <a:pt x="15081" y="6350"/>
                </a:cubicBezTo>
              </a:path>
              <a:path w="3201" h="969">
                <a:moveTo>
                  <a:pt x="15528" y="6325"/>
                </a:moveTo>
                <a:cubicBezTo>
                  <a:pt x="15528" y="6407"/>
                  <a:pt x="15560" y="6709"/>
                  <a:pt x="15503" y="6747"/>
                </a:cubicBezTo>
              </a:path>
              <a:path w="3201" h="969">
                <a:moveTo>
                  <a:pt x="15304" y="6524"/>
                </a:moveTo>
                <a:cubicBezTo>
                  <a:pt x="15446" y="6524"/>
                  <a:pt x="15618" y="6549"/>
                  <a:pt x="15751" y="6499"/>
                </a:cubicBezTo>
              </a:path>
              <a:path w="3201" h="969">
                <a:moveTo>
                  <a:pt x="16073" y="6201"/>
                </a:moveTo>
                <a:cubicBezTo>
                  <a:pt x="16043" y="6263"/>
                  <a:pt x="16006" y="6315"/>
                  <a:pt x="15974" y="6375"/>
                </a:cubicBezTo>
                <a:cubicBezTo>
                  <a:pt x="15935" y="6447"/>
                  <a:pt x="15868" y="6544"/>
                  <a:pt x="15850" y="6623"/>
                </a:cubicBezTo>
                <a:cubicBezTo>
                  <a:pt x="15834" y="6694"/>
                  <a:pt x="15856" y="6768"/>
                  <a:pt x="15900" y="6821"/>
                </a:cubicBezTo>
                <a:cubicBezTo>
                  <a:pt x="15938" y="6867"/>
                  <a:pt x="15992" y="6886"/>
                  <a:pt x="16049" y="6896"/>
                </a:cubicBezTo>
                <a:cubicBezTo>
                  <a:pt x="16104" y="6905"/>
                  <a:pt x="16200" y="6893"/>
                  <a:pt x="16247" y="6871"/>
                </a:cubicBezTo>
                <a:cubicBezTo>
                  <a:pt x="16301" y="6846"/>
                  <a:pt x="16368" y="6744"/>
                  <a:pt x="16396" y="6697"/>
                </a:cubicBezTo>
                <a:cubicBezTo>
                  <a:pt x="16426" y="6647"/>
                  <a:pt x="16458" y="6531"/>
                  <a:pt x="16446" y="6474"/>
                </a:cubicBezTo>
                <a:cubicBezTo>
                  <a:pt x="16433" y="6411"/>
                  <a:pt x="16410" y="6331"/>
                  <a:pt x="16371" y="6276"/>
                </a:cubicBezTo>
                <a:cubicBezTo>
                  <a:pt x="16320" y="6203"/>
                  <a:pt x="16292" y="6180"/>
                  <a:pt x="16197" y="6176"/>
                </a:cubicBezTo>
                <a:cubicBezTo>
                  <a:pt x="16113" y="6172"/>
                  <a:pt x="16062" y="6169"/>
                  <a:pt x="15999" y="6226"/>
                </a:cubicBezTo>
                <a:cubicBezTo>
                  <a:pt x="15952" y="6269"/>
                  <a:pt x="15929" y="6286"/>
                  <a:pt x="15925" y="6350"/>
                </a:cubicBezTo>
                <a:cubicBezTo>
                  <a:pt x="15922" y="6409"/>
                  <a:pt x="15936" y="6411"/>
                  <a:pt x="15974" y="6449"/>
                </a:cubicBezTo>
              </a:path>
              <a:path w="3201" h="969">
                <a:moveTo>
                  <a:pt x="16545" y="6449"/>
                </a:moveTo>
                <a:cubicBezTo>
                  <a:pt x="16556" y="6487"/>
                  <a:pt x="16592" y="6643"/>
                  <a:pt x="16619" y="6672"/>
                </a:cubicBezTo>
                <a:cubicBezTo>
                  <a:pt x="16656" y="6712"/>
                  <a:pt x="16700" y="6754"/>
                  <a:pt x="16743" y="6796"/>
                </a:cubicBezTo>
                <a:cubicBezTo>
                  <a:pt x="16780" y="6833"/>
                  <a:pt x="16807" y="6885"/>
                  <a:pt x="16867" y="6871"/>
                </a:cubicBezTo>
                <a:cubicBezTo>
                  <a:pt x="16937" y="6854"/>
                  <a:pt x="16934" y="6828"/>
                  <a:pt x="16942" y="6772"/>
                </a:cubicBezTo>
              </a:path>
              <a:path w="3201" h="969">
                <a:moveTo>
                  <a:pt x="16867" y="6400"/>
                </a:moveTo>
                <a:cubicBezTo>
                  <a:pt x="16760" y="6507"/>
                  <a:pt x="16652" y="6614"/>
                  <a:pt x="16545" y="6722"/>
                </a:cubicBezTo>
                <a:cubicBezTo>
                  <a:pt x="16507" y="6761"/>
                  <a:pt x="16460" y="6782"/>
                  <a:pt x="16421" y="6821"/>
                </a:cubicBezTo>
                <a:cubicBezTo>
                  <a:pt x="16396" y="6846"/>
                  <a:pt x="16371" y="6871"/>
                  <a:pt x="16346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22"/>
          <p:cNvSpPr/>
          <p:nvPr/>
        </p:nvSpPr>
        <p:spPr>
          <a:xfrm>
            <a:off x="4670280" y="2490840"/>
            <a:ext cx="2125800" cy="982440"/>
          </a:xfrm>
          <a:custGeom>
            <a:avLst/>
            <a:gdLst/>
            <a:ahLst/>
            <a:rect l="l" t="t" r="r" b="b"/>
            <a:pathLst>
              <a:path w="5904" h="2729">
                <a:moveTo>
                  <a:pt x="14163" y="7392"/>
                </a:moveTo>
                <a:cubicBezTo>
                  <a:pt x="14183" y="7443"/>
                  <a:pt x="14149" y="7529"/>
                  <a:pt x="14114" y="7590"/>
                </a:cubicBezTo>
                <a:cubicBezTo>
                  <a:pt x="14089" y="7635"/>
                  <a:pt x="14052" y="7677"/>
                  <a:pt x="14015" y="7714"/>
                </a:cubicBezTo>
                <a:cubicBezTo>
                  <a:pt x="13990" y="7739"/>
                  <a:pt x="13982" y="7747"/>
                  <a:pt x="13965" y="7764"/>
                </a:cubicBezTo>
                <a:cubicBezTo>
                  <a:pt x="14011" y="7792"/>
                  <a:pt x="14090" y="7804"/>
                  <a:pt x="14139" y="7813"/>
                </a:cubicBezTo>
                <a:cubicBezTo>
                  <a:pt x="14190" y="7822"/>
                  <a:pt x="14289" y="7846"/>
                  <a:pt x="14337" y="7838"/>
                </a:cubicBezTo>
                <a:cubicBezTo>
                  <a:pt x="14402" y="7816"/>
                  <a:pt x="14417" y="7808"/>
                  <a:pt x="14461" y="7813"/>
                </a:cubicBezTo>
              </a:path>
              <a:path w="5904" h="2729">
                <a:moveTo>
                  <a:pt x="14412" y="7268"/>
                </a:moveTo>
                <a:cubicBezTo>
                  <a:pt x="14412" y="7469"/>
                  <a:pt x="14403" y="7667"/>
                  <a:pt x="14387" y="7863"/>
                </a:cubicBezTo>
                <a:cubicBezTo>
                  <a:pt x="14381" y="7941"/>
                  <a:pt x="14367" y="8225"/>
                  <a:pt x="14412" y="8210"/>
                </a:cubicBezTo>
              </a:path>
              <a:path w="5904" h="2729">
                <a:moveTo>
                  <a:pt x="14560" y="7714"/>
                </a:moveTo>
                <a:cubicBezTo>
                  <a:pt x="14607" y="7773"/>
                  <a:pt x="14654" y="7842"/>
                  <a:pt x="14684" y="7913"/>
                </a:cubicBezTo>
                <a:cubicBezTo>
                  <a:pt x="14720" y="7999"/>
                  <a:pt x="14768" y="8067"/>
                  <a:pt x="14833" y="8136"/>
                </a:cubicBezTo>
                <a:cubicBezTo>
                  <a:pt x="14894" y="8200"/>
                  <a:pt x="14949" y="8252"/>
                  <a:pt x="15032" y="8285"/>
                </a:cubicBezTo>
                <a:cubicBezTo>
                  <a:pt x="15092" y="8305"/>
                  <a:pt x="15107" y="8324"/>
                  <a:pt x="15131" y="8285"/>
                </a:cubicBezTo>
              </a:path>
              <a:path w="5904" h="2729">
                <a:moveTo>
                  <a:pt x="14932" y="7640"/>
                </a:moveTo>
                <a:cubicBezTo>
                  <a:pt x="14883" y="7752"/>
                  <a:pt x="14783" y="7911"/>
                  <a:pt x="14759" y="8037"/>
                </a:cubicBezTo>
                <a:cubicBezTo>
                  <a:pt x="14743" y="8118"/>
                  <a:pt x="14725" y="8165"/>
                  <a:pt x="14684" y="8235"/>
                </a:cubicBezTo>
                <a:cubicBezTo>
                  <a:pt x="14641" y="8308"/>
                  <a:pt x="14636" y="8378"/>
                  <a:pt x="14660" y="8260"/>
                </a:cubicBezTo>
              </a:path>
              <a:path w="5904" h="2729">
                <a:moveTo>
                  <a:pt x="14957" y="7466"/>
                </a:moveTo>
                <a:cubicBezTo>
                  <a:pt x="15016" y="7393"/>
                  <a:pt x="15071" y="7328"/>
                  <a:pt x="15180" y="7367"/>
                </a:cubicBezTo>
                <a:cubicBezTo>
                  <a:pt x="15258" y="7395"/>
                  <a:pt x="15187" y="7507"/>
                  <a:pt x="15156" y="7541"/>
                </a:cubicBezTo>
                <a:cubicBezTo>
                  <a:pt x="15105" y="7598"/>
                  <a:pt x="15067" y="7613"/>
                  <a:pt x="15056" y="7689"/>
                </a:cubicBezTo>
                <a:cubicBezTo>
                  <a:pt x="15118" y="7720"/>
                  <a:pt x="15181" y="7714"/>
                  <a:pt x="15255" y="7714"/>
                </a:cubicBezTo>
                <a:cubicBezTo>
                  <a:pt x="15333" y="7714"/>
                  <a:pt x="15337" y="7698"/>
                  <a:pt x="15379" y="7640"/>
                </a:cubicBezTo>
              </a:path>
              <a:path w="5904" h="2729">
                <a:moveTo>
                  <a:pt x="15825" y="7590"/>
                </a:moveTo>
                <a:cubicBezTo>
                  <a:pt x="15860" y="7685"/>
                  <a:pt x="15875" y="7737"/>
                  <a:pt x="15875" y="7838"/>
                </a:cubicBezTo>
                <a:cubicBezTo>
                  <a:pt x="15875" y="7914"/>
                  <a:pt x="15870" y="8017"/>
                  <a:pt x="15900" y="8086"/>
                </a:cubicBezTo>
                <a:cubicBezTo>
                  <a:pt x="15933" y="8119"/>
                  <a:pt x="15933" y="8119"/>
                  <a:pt x="15875" y="8062"/>
                </a:cubicBezTo>
              </a:path>
              <a:path w="5904" h="2729">
                <a:moveTo>
                  <a:pt x="15577" y="7813"/>
                </a:moveTo>
                <a:cubicBezTo>
                  <a:pt x="15681" y="7813"/>
                  <a:pt x="15777" y="7805"/>
                  <a:pt x="15875" y="7789"/>
                </a:cubicBezTo>
                <a:cubicBezTo>
                  <a:pt x="15925" y="7789"/>
                  <a:pt x="15941" y="7789"/>
                  <a:pt x="15974" y="7789"/>
                </a:cubicBezTo>
              </a:path>
              <a:path w="5904" h="2729">
                <a:moveTo>
                  <a:pt x="16123" y="7541"/>
                </a:moveTo>
                <a:cubicBezTo>
                  <a:pt x="16237" y="7467"/>
                  <a:pt x="16265" y="7441"/>
                  <a:pt x="16396" y="7491"/>
                </a:cubicBezTo>
                <a:cubicBezTo>
                  <a:pt x="16484" y="7525"/>
                  <a:pt x="16488" y="7581"/>
                  <a:pt x="16446" y="7665"/>
                </a:cubicBezTo>
                <a:cubicBezTo>
                  <a:pt x="16430" y="7698"/>
                  <a:pt x="16374" y="7788"/>
                  <a:pt x="16346" y="7813"/>
                </a:cubicBezTo>
                <a:cubicBezTo>
                  <a:pt x="16295" y="7857"/>
                  <a:pt x="16245" y="7920"/>
                  <a:pt x="16197" y="7962"/>
                </a:cubicBezTo>
                <a:cubicBezTo>
                  <a:pt x="16137" y="8014"/>
                  <a:pt x="16082" y="8051"/>
                  <a:pt x="16073" y="8136"/>
                </a:cubicBezTo>
                <a:cubicBezTo>
                  <a:pt x="16066" y="8195"/>
                  <a:pt x="16114" y="8246"/>
                  <a:pt x="16173" y="8260"/>
                </a:cubicBezTo>
                <a:cubicBezTo>
                  <a:pt x="16239" y="8276"/>
                  <a:pt x="16327" y="8260"/>
                  <a:pt x="16396" y="8260"/>
                </a:cubicBezTo>
              </a:path>
              <a:path w="5904" h="2729">
                <a:moveTo>
                  <a:pt x="16644" y="7838"/>
                </a:moveTo>
                <a:cubicBezTo>
                  <a:pt x="16690" y="7944"/>
                  <a:pt x="16716" y="8004"/>
                  <a:pt x="16793" y="8086"/>
                </a:cubicBezTo>
                <a:cubicBezTo>
                  <a:pt x="16853" y="8150"/>
                  <a:pt x="16892" y="8210"/>
                  <a:pt x="16966" y="8260"/>
                </a:cubicBezTo>
                <a:cubicBezTo>
                  <a:pt x="17020" y="8296"/>
                  <a:pt x="17080" y="8329"/>
                  <a:pt x="17140" y="8334"/>
                </a:cubicBezTo>
                <a:cubicBezTo>
                  <a:pt x="17148" y="8334"/>
                  <a:pt x="17157" y="8334"/>
                  <a:pt x="17165" y="8334"/>
                </a:cubicBezTo>
              </a:path>
              <a:path w="5904" h="2729">
                <a:moveTo>
                  <a:pt x="16966" y="7739"/>
                </a:moveTo>
                <a:cubicBezTo>
                  <a:pt x="16916" y="7789"/>
                  <a:pt x="16835" y="7839"/>
                  <a:pt x="16793" y="7888"/>
                </a:cubicBezTo>
                <a:cubicBezTo>
                  <a:pt x="16740" y="7949"/>
                  <a:pt x="16667" y="8019"/>
                  <a:pt x="16619" y="8086"/>
                </a:cubicBezTo>
                <a:cubicBezTo>
                  <a:pt x="16573" y="8149"/>
                  <a:pt x="16525" y="8199"/>
                  <a:pt x="16470" y="8260"/>
                </a:cubicBezTo>
                <a:cubicBezTo>
                  <a:pt x="16441" y="8290"/>
                  <a:pt x="16427" y="8302"/>
                  <a:pt x="16396" y="8310"/>
                </a:cubicBezTo>
              </a:path>
              <a:path w="5904" h="2729">
                <a:moveTo>
                  <a:pt x="13767" y="8384"/>
                </a:moveTo>
                <a:cubicBezTo>
                  <a:pt x="13843" y="8388"/>
                  <a:pt x="13897" y="8403"/>
                  <a:pt x="13965" y="8409"/>
                </a:cubicBezTo>
                <a:cubicBezTo>
                  <a:pt x="14137" y="8425"/>
                  <a:pt x="14316" y="8418"/>
                  <a:pt x="14486" y="8434"/>
                </a:cubicBezTo>
                <a:cubicBezTo>
                  <a:pt x="14609" y="8445"/>
                  <a:pt x="14736" y="8448"/>
                  <a:pt x="14858" y="8458"/>
                </a:cubicBezTo>
                <a:cubicBezTo>
                  <a:pt x="15039" y="8473"/>
                  <a:pt x="15225" y="8470"/>
                  <a:pt x="15404" y="8483"/>
                </a:cubicBezTo>
                <a:cubicBezTo>
                  <a:pt x="15576" y="8495"/>
                  <a:pt x="15754" y="8498"/>
                  <a:pt x="15925" y="8508"/>
                </a:cubicBezTo>
                <a:cubicBezTo>
                  <a:pt x="16148" y="8522"/>
                  <a:pt x="16373" y="8518"/>
                  <a:pt x="16594" y="8533"/>
                </a:cubicBezTo>
                <a:cubicBezTo>
                  <a:pt x="16802" y="8547"/>
                  <a:pt x="17010" y="8536"/>
                  <a:pt x="17214" y="8558"/>
                </a:cubicBezTo>
                <a:cubicBezTo>
                  <a:pt x="17377" y="8576"/>
                  <a:pt x="17473" y="8547"/>
                  <a:pt x="17512" y="8508"/>
                </a:cubicBezTo>
              </a:path>
              <a:path w="5904" h="2729">
                <a:moveTo>
                  <a:pt x="13246" y="7367"/>
                </a:moveTo>
                <a:cubicBezTo>
                  <a:pt x="13399" y="7367"/>
                  <a:pt x="13544" y="7368"/>
                  <a:pt x="13692" y="7342"/>
                </a:cubicBezTo>
                <a:cubicBezTo>
                  <a:pt x="13700" y="7342"/>
                  <a:pt x="13709" y="7342"/>
                  <a:pt x="13717" y="7342"/>
                </a:cubicBezTo>
              </a:path>
              <a:path w="5904" h="2729">
                <a:moveTo>
                  <a:pt x="13643" y="7119"/>
                </a:moveTo>
                <a:cubicBezTo>
                  <a:pt x="13600" y="7076"/>
                  <a:pt x="13534" y="7040"/>
                  <a:pt x="13469" y="7045"/>
                </a:cubicBezTo>
                <a:cubicBezTo>
                  <a:pt x="13407" y="7050"/>
                  <a:pt x="13304" y="7075"/>
                  <a:pt x="13246" y="7094"/>
                </a:cubicBezTo>
                <a:cubicBezTo>
                  <a:pt x="13194" y="7111"/>
                  <a:pt x="13048" y="7168"/>
                  <a:pt x="13022" y="7218"/>
                </a:cubicBezTo>
                <a:cubicBezTo>
                  <a:pt x="12981" y="7297"/>
                  <a:pt x="12963" y="7326"/>
                  <a:pt x="13022" y="7392"/>
                </a:cubicBezTo>
                <a:cubicBezTo>
                  <a:pt x="13073" y="7449"/>
                  <a:pt x="13134" y="7445"/>
                  <a:pt x="13196" y="7466"/>
                </a:cubicBezTo>
                <a:cubicBezTo>
                  <a:pt x="13289" y="7497"/>
                  <a:pt x="13419" y="7509"/>
                  <a:pt x="13519" y="7491"/>
                </a:cubicBezTo>
                <a:cubicBezTo>
                  <a:pt x="13585" y="7479"/>
                  <a:pt x="13680" y="7445"/>
                  <a:pt x="13742" y="7417"/>
                </a:cubicBezTo>
                <a:cubicBezTo>
                  <a:pt x="13777" y="7402"/>
                  <a:pt x="13882" y="7336"/>
                  <a:pt x="13891" y="7293"/>
                </a:cubicBezTo>
                <a:cubicBezTo>
                  <a:pt x="13907" y="7218"/>
                  <a:pt x="13864" y="7147"/>
                  <a:pt x="13816" y="7094"/>
                </a:cubicBezTo>
                <a:cubicBezTo>
                  <a:pt x="13788" y="7063"/>
                  <a:pt x="13750" y="7046"/>
                  <a:pt x="13717" y="7020"/>
                </a:cubicBezTo>
              </a:path>
              <a:path w="5904" h="2729">
                <a:moveTo>
                  <a:pt x="15478" y="7218"/>
                </a:moveTo>
                <a:cubicBezTo>
                  <a:pt x="15561" y="7218"/>
                  <a:pt x="15625" y="7230"/>
                  <a:pt x="15701" y="7243"/>
                </a:cubicBezTo>
                <a:cubicBezTo>
                  <a:pt x="15786" y="7257"/>
                  <a:pt x="15879" y="7239"/>
                  <a:pt x="15949" y="7218"/>
                </a:cubicBezTo>
                <a:cubicBezTo>
                  <a:pt x="15957" y="7218"/>
                  <a:pt x="15966" y="7218"/>
                  <a:pt x="15974" y="7218"/>
                </a:cubicBezTo>
              </a:path>
              <a:path w="5904" h="2729">
                <a:moveTo>
                  <a:pt x="15825" y="6945"/>
                </a:moveTo>
                <a:cubicBezTo>
                  <a:pt x="15730" y="6922"/>
                  <a:pt x="15682" y="6933"/>
                  <a:pt x="15602" y="6945"/>
                </a:cubicBezTo>
                <a:cubicBezTo>
                  <a:pt x="15524" y="6956"/>
                  <a:pt x="15445" y="6966"/>
                  <a:pt x="15379" y="7020"/>
                </a:cubicBezTo>
                <a:cubicBezTo>
                  <a:pt x="15341" y="7051"/>
                  <a:pt x="15244" y="7135"/>
                  <a:pt x="15230" y="7193"/>
                </a:cubicBezTo>
                <a:cubicBezTo>
                  <a:pt x="15219" y="7237"/>
                  <a:pt x="15223" y="7326"/>
                  <a:pt x="15280" y="7342"/>
                </a:cubicBezTo>
                <a:cubicBezTo>
                  <a:pt x="15370" y="7368"/>
                  <a:pt x="15462" y="7370"/>
                  <a:pt x="15553" y="7392"/>
                </a:cubicBezTo>
                <a:cubicBezTo>
                  <a:pt x="15608" y="7405"/>
                  <a:pt x="15687" y="7410"/>
                  <a:pt x="15751" y="7392"/>
                </a:cubicBezTo>
                <a:cubicBezTo>
                  <a:pt x="15780" y="7384"/>
                  <a:pt x="15890" y="7320"/>
                  <a:pt x="15900" y="7293"/>
                </a:cubicBezTo>
                <a:cubicBezTo>
                  <a:pt x="15923" y="7229"/>
                  <a:pt x="15925" y="7168"/>
                  <a:pt x="15925" y="7094"/>
                </a:cubicBezTo>
                <a:cubicBezTo>
                  <a:pt x="15925" y="7046"/>
                  <a:pt x="15891" y="6996"/>
                  <a:pt x="15850" y="6970"/>
                </a:cubicBezTo>
                <a:cubicBezTo>
                  <a:pt x="15799" y="6937"/>
                  <a:pt x="15758" y="6945"/>
                  <a:pt x="15701" y="6945"/>
                </a:cubicBezTo>
              </a:path>
              <a:path w="5904" h="2729">
                <a:moveTo>
                  <a:pt x="15701" y="9029"/>
                </a:moveTo>
                <a:cubicBezTo>
                  <a:pt x="15773" y="9029"/>
                  <a:pt x="15915" y="9063"/>
                  <a:pt x="15974" y="9054"/>
                </a:cubicBezTo>
                <a:cubicBezTo>
                  <a:pt x="16002" y="9026"/>
                  <a:pt x="16016" y="9017"/>
                  <a:pt x="16049" y="9029"/>
                </a:cubicBezTo>
              </a:path>
              <a:path w="5904" h="2729">
                <a:moveTo>
                  <a:pt x="16247" y="8880"/>
                </a:moveTo>
                <a:cubicBezTo>
                  <a:pt x="16276" y="8829"/>
                  <a:pt x="16307" y="8771"/>
                  <a:pt x="16371" y="8756"/>
                </a:cubicBezTo>
                <a:cubicBezTo>
                  <a:pt x="16448" y="8738"/>
                  <a:pt x="16530" y="8762"/>
                  <a:pt x="16594" y="8806"/>
                </a:cubicBezTo>
                <a:cubicBezTo>
                  <a:pt x="16651" y="8845"/>
                  <a:pt x="16615" y="8936"/>
                  <a:pt x="16594" y="8979"/>
                </a:cubicBezTo>
                <a:cubicBezTo>
                  <a:pt x="16565" y="9039"/>
                  <a:pt x="16535" y="9100"/>
                  <a:pt x="16495" y="9153"/>
                </a:cubicBezTo>
                <a:cubicBezTo>
                  <a:pt x="16464" y="9195"/>
                  <a:pt x="16431" y="9239"/>
                  <a:pt x="16396" y="9277"/>
                </a:cubicBezTo>
                <a:cubicBezTo>
                  <a:pt x="16376" y="9299"/>
                  <a:pt x="16303" y="9373"/>
                  <a:pt x="16297" y="9401"/>
                </a:cubicBezTo>
                <a:cubicBezTo>
                  <a:pt x="16275" y="9507"/>
                  <a:pt x="16338" y="9522"/>
                  <a:pt x="16421" y="9525"/>
                </a:cubicBezTo>
                <a:cubicBezTo>
                  <a:pt x="16502" y="9528"/>
                  <a:pt x="16542" y="9521"/>
                  <a:pt x="16619" y="9500"/>
                </a:cubicBezTo>
              </a:path>
              <a:path w="5904" h="2729">
                <a:moveTo>
                  <a:pt x="16867" y="9029"/>
                </a:moveTo>
                <a:cubicBezTo>
                  <a:pt x="16914" y="9076"/>
                  <a:pt x="16929" y="9124"/>
                  <a:pt x="16966" y="9178"/>
                </a:cubicBezTo>
                <a:cubicBezTo>
                  <a:pt x="17000" y="9228"/>
                  <a:pt x="17039" y="9291"/>
                  <a:pt x="17090" y="9327"/>
                </a:cubicBezTo>
                <a:cubicBezTo>
                  <a:pt x="17144" y="9365"/>
                  <a:pt x="17256" y="9456"/>
                  <a:pt x="17314" y="9475"/>
                </a:cubicBezTo>
                <a:cubicBezTo>
                  <a:pt x="17387" y="9499"/>
                  <a:pt x="17393" y="9490"/>
                  <a:pt x="17462" y="9451"/>
                </a:cubicBezTo>
              </a:path>
              <a:path w="5904" h="2729">
                <a:moveTo>
                  <a:pt x="17338" y="8930"/>
                </a:moveTo>
                <a:cubicBezTo>
                  <a:pt x="17272" y="8911"/>
                  <a:pt x="17233" y="8932"/>
                  <a:pt x="17165" y="8979"/>
                </a:cubicBezTo>
                <a:cubicBezTo>
                  <a:pt x="17106" y="9020"/>
                  <a:pt x="17060" y="9078"/>
                  <a:pt x="17016" y="9128"/>
                </a:cubicBezTo>
                <a:cubicBezTo>
                  <a:pt x="16966" y="9185"/>
                  <a:pt x="16936" y="9243"/>
                  <a:pt x="16892" y="9302"/>
                </a:cubicBezTo>
                <a:cubicBezTo>
                  <a:pt x="16864" y="9339"/>
                  <a:pt x="16827" y="9332"/>
                  <a:pt x="16867" y="9351"/>
                </a:cubicBezTo>
              </a:path>
              <a:path w="5904" h="2729">
                <a:moveTo>
                  <a:pt x="17983" y="8706"/>
                </a:moveTo>
                <a:cubicBezTo>
                  <a:pt x="17983" y="8769"/>
                  <a:pt x="17953" y="8920"/>
                  <a:pt x="17959" y="8979"/>
                </a:cubicBezTo>
                <a:cubicBezTo>
                  <a:pt x="17967" y="9049"/>
                  <a:pt x="17979" y="9101"/>
                  <a:pt x="17983" y="9178"/>
                </a:cubicBezTo>
                <a:cubicBezTo>
                  <a:pt x="17986" y="9236"/>
                  <a:pt x="17998" y="9308"/>
                  <a:pt x="18033" y="9351"/>
                </a:cubicBezTo>
                <a:cubicBezTo>
                  <a:pt x="18041" y="9359"/>
                  <a:pt x="18050" y="9368"/>
                  <a:pt x="18058" y="9376"/>
                </a:cubicBezTo>
              </a:path>
              <a:path w="5904" h="2729">
                <a:moveTo>
                  <a:pt x="17835" y="9029"/>
                </a:moveTo>
                <a:cubicBezTo>
                  <a:pt x="18000" y="9029"/>
                  <a:pt x="18166" y="9029"/>
                  <a:pt x="18331" y="9029"/>
                </a:cubicBezTo>
              </a:path>
              <a:path w="5904" h="2729">
                <a:moveTo>
                  <a:pt x="18604" y="8954"/>
                </a:moveTo>
                <a:cubicBezTo>
                  <a:pt x="18695" y="8918"/>
                  <a:pt x="18691" y="8941"/>
                  <a:pt x="18703" y="8855"/>
                </a:cubicBezTo>
                <a:cubicBezTo>
                  <a:pt x="18647" y="8799"/>
                  <a:pt x="18605" y="8787"/>
                  <a:pt x="18529" y="8830"/>
                </a:cubicBezTo>
                <a:cubicBezTo>
                  <a:pt x="18457" y="8871"/>
                  <a:pt x="18494" y="8904"/>
                  <a:pt x="18504" y="8954"/>
                </a:cubicBezTo>
                <a:cubicBezTo>
                  <a:pt x="18523" y="9047"/>
                  <a:pt x="18572" y="9089"/>
                  <a:pt x="18628" y="9178"/>
                </a:cubicBezTo>
                <a:cubicBezTo>
                  <a:pt x="18672" y="9249"/>
                  <a:pt x="18720" y="9314"/>
                  <a:pt x="18777" y="9376"/>
                </a:cubicBezTo>
                <a:cubicBezTo>
                  <a:pt x="18830" y="9434"/>
                  <a:pt x="18894" y="9558"/>
                  <a:pt x="18852" y="9624"/>
                </a:cubicBezTo>
                <a:cubicBezTo>
                  <a:pt x="18844" y="9632"/>
                  <a:pt x="18835" y="9641"/>
                  <a:pt x="18827" y="9649"/>
                </a:cubicBezTo>
                <a:cubicBezTo>
                  <a:pt x="18767" y="9640"/>
                  <a:pt x="18730" y="9613"/>
                  <a:pt x="18678" y="9575"/>
                </a:cubicBezTo>
                <a:cubicBezTo>
                  <a:pt x="18661" y="9562"/>
                  <a:pt x="18583" y="9472"/>
                  <a:pt x="18579" y="9451"/>
                </a:cubicBezTo>
                <a:cubicBezTo>
                  <a:pt x="18566" y="9390"/>
                  <a:pt x="18550" y="9341"/>
                  <a:pt x="18579" y="9277"/>
                </a:cubicBezTo>
                <a:cubicBezTo>
                  <a:pt x="18601" y="9230"/>
                  <a:pt x="18632" y="9173"/>
                  <a:pt x="18653" y="9128"/>
                </a:cubicBezTo>
                <a:cubicBezTo>
                  <a:pt x="18679" y="9072"/>
                  <a:pt x="18727" y="9022"/>
                  <a:pt x="18752" y="8979"/>
                </a:cubicBezTo>
                <a:cubicBezTo>
                  <a:pt x="18781" y="8930"/>
                  <a:pt x="18848" y="8873"/>
                  <a:pt x="18827" y="8806"/>
                </a:cubicBezTo>
                <a:cubicBezTo>
                  <a:pt x="18797" y="8776"/>
                  <a:pt x="18783" y="8765"/>
                  <a:pt x="18752" y="87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3"/>
          <p:cNvSpPr/>
          <p:nvPr/>
        </p:nvSpPr>
        <p:spPr>
          <a:xfrm>
            <a:off x="5537160" y="3483000"/>
            <a:ext cx="1197000" cy="938160"/>
          </a:xfrm>
          <a:custGeom>
            <a:avLst/>
            <a:gdLst/>
            <a:ahLst/>
            <a:rect l="l" t="t" r="r" b="b"/>
            <a:pathLst>
              <a:path w="3325" h="2605">
                <a:moveTo>
                  <a:pt x="15776" y="10096"/>
                </a:moveTo>
                <a:cubicBezTo>
                  <a:pt x="15875" y="10096"/>
                  <a:pt x="15974" y="10096"/>
                  <a:pt x="16073" y="10096"/>
                </a:cubicBezTo>
              </a:path>
              <a:path w="3325" h="2605">
                <a:moveTo>
                  <a:pt x="16371" y="9922"/>
                </a:moveTo>
                <a:cubicBezTo>
                  <a:pt x="16467" y="9903"/>
                  <a:pt x="16537" y="9878"/>
                  <a:pt x="16619" y="9922"/>
                </a:cubicBezTo>
                <a:cubicBezTo>
                  <a:pt x="16663" y="9944"/>
                  <a:pt x="16674" y="9947"/>
                  <a:pt x="16694" y="9971"/>
                </a:cubicBezTo>
                <a:cubicBezTo>
                  <a:pt x="16665" y="10029"/>
                  <a:pt x="16627" y="10068"/>
                  <a:pt x="16594" y="10120"/>
                </a:cubicBezTo>
                <a:cubicBezTo>
                  <a:pt x="16555" y="10182"/>
                  <a:pt x="16500" y="10215"/>
                  <a:pt x="16446" y="10269"/>
                </a:cubicBezTo>
                <a:cubicBezTo>
                  <a:pt x="16405" y="10310"/>
                  <a:pt x="16359" y="10359"/>
                  <a:pt x="16346" y="10418"/>
                </a:cubicBezTo>
                <a:cubicBezTo>
                  <a:pt x="16321" y="10529"/>
                  <a:pt x="16368" y="10516"/>
                  <a:pt x="16446" y="10542"/>
                </a:cubicBezTo>
                <a:cubicBezTo>
                  <a:pt x="16530" y="10570"/>
                  <a:pt x="16559" y="10553"/>
                  <a:pt x="16644" y="10542"/>
                </a:cubicBezTo>
              </a:path>
              <a:path w="3325" h="2605">
                <a:moveTo>
                  <a:pt x="16768" y="10071"/>
                </a:moveTo>
                <a:cubicBezTo>
                  <a:pt x="16796" y="10117"/>
                  <a:pt x="16813" y="10168"/>
                  <a:pt x="16842" y="10220"/>
                </a:cubicBezTo>
                <a:cubicBezTo>
                  <a:pt x="16892" y="10309"/>
                  <a:pt x="16951" y="10391"/>
                  <a:pt x="17016" y="10468"/>
                </a:cubicBezTo>
                <a:cubicBezTo>
                  <a:pt x="17048" y="10506"/>
                  <a:pt x="17142" y="10579"/>
                  <a:pt x="17190" y="10592"/>
                </a:cubicBezTo>
                <a:cubicBezTo>
                  <a:pt x="17239" y="10592"/>
                  <a:pt x="17256" y="10592"/>
                  <a:pt x="17239" y="10542"/>
                </a:cubicBezTo>
              </a:path>
              <a:path w="3325" h="2605">
                <a:moveTo>
                  <a:pt x="17140" y="10096"/>
                </a:moveTo>
                <a:cubicBezTo>
                  <a:pt x="17060" y="10125"/>
                  <a:pt x="16993" y="10156"/>
                  <a:pt x="16942" y="10220"/>
                </a:cubicBezTo>
                <a:cubicBezTo>
                  <a:pt x="16894" y="10280"/>
                  <a:pt x="16817" y="10312"/>
                  <a:pt x="16768" y="10368"/>
                </a:cubicBezTo>
                <a:cubicBezTo>
                  <a:pt x="16718" y="10425"/>
                  <a:pt x="16681" y="10446"/>
                  <a:pt x="16619" y="10492"/>
                </a:cubicBezTo>
                <a:cubicBezTo>
                  <a:pt x="16589" y="10522"/>
                  <a:pt x="16575" y="10527"/>
                  <a:pt x="16545" y="10492"/>
                </a:cubicBezTo>
              </a:path>
              <a:path w="3325" h="2605">
                <a:moveTo>
                  <a:pt x="17711" y="10220"/>
                </a:moveTo>
                <a:cubicBezTo>
                  <a:pt x="17827" y="10220"/>
                  <a:pt x="17942" y="10220"/>
                  <a:pt x="18058" y="10220"/>
                </a:cubicBezTo>
              </a:path>
              <a:path w="3325" h="2605">
                <a:moveTo>
                  <a:pt x="18579" y="9971"/>
                </a:moveTo>
                <a:cubicBezTo>
                  <a:pt x="18579" y="10200"/>
                  <a:pt x="18557" y="10447"/>
                  <a:pt x="18604" y="10666"/>
                </a:cubicBezTo>
                <a:cubicBezTo>
                  <a:pt x="18604" y="10674"/>
                  <a:pt x="18604" y="10683"/>
                  <a:pt x="18604" y="10691"/>
                </a:cubicBezTo>
              </a:path>
              <a:path w="3325" h="2605">
                <a:moveTo>
                  <a:pt x="15900" y="9947"/>
                </a:moveTo>
                <a:cubicBezTo>
                  <a:pt x="15924" y="10018"/>
                  <a:pt x="15900" y="10103"/>
                  <a:pt x="15925" y="10170"/>
                </a:cubicBezTo>
                <a:cubicBezTo>
                  <a:pt x="15964" y="10210"/>
                  <a:pt x="15972" y="10240"/>
                  <a:pt x="15949" y="10294"/>
                </a:cubicBezTo>
              </a:path>
              <a:path w="3325" h="2605">
                <a:moveTo>
                  <a:pt x="15999" y="9773"/>
                </a:moveTo>
                <a:cubicBezTo>
                  <a:pt x="15967" y="9718"/>
                  <a:pt x="15935" y="9683"/>
                  <a:pt x="15875" y="9674"/>
                </a:cubicBezTo>
                <a:cubicBezTo>
                  <a:pt x="15790" y="9661"/>
                  <a:pt x="15671" y="9663"/>
                  <a:pt x="15602" y="9699"/>
                </a:cubicBezTo>
                <a:cubicBezTo>
                  <a:pt x="15544" y="9730"/>
                  <a:pt x="15499" y="9751"/>
                  <a:pt x="15453" y="9798"/>
                </a:cubicBezTo>
                <a:cubicBezTo>
                  <a:pt x="15405" y="9847"/>
                  <a:pt x="15383" y="9905"/>
                  <a:pt x="15379" y="9971"/>
                </a:cubicBezTo>
                <a:cubicBezTo>
                  <a:pt x="15375" y="10038"/>
                  <a:pt x="15421" y="10066"/>
                  <a:pt x="15453" y="10120"/>
                </a:cubicBezTo>
                <a:cubicBezTo>
                  <a:pt x="15496" y="10192"/>
                  <a:pt x="15537" y="10219"/>
                  <a:pt x="15602" y="10269"/>
                </a:cubicBezTo>
                <a:cubicBezTo>
                  <a:pt x="15647" y="10304"/>
                  <a:pt x="15717" y="10358"/>
                  <a:pt x="15776" y="10368"/>
                </a:cubicBezTo>
                <a:cubicBezTo>
                  <a:pt x="15871" y="10384"/>
                  <a:pt x="16017" y="10387"/>
                  <a:pt x="16098" y="10344"/>
                </a:cubicBezTo>
                <a:cubicBezTo>
                  <a:pt x="16151" y="10316"/>
                  <a:pt x="16180" y="10285"/>
                  <a:pt x="16222" y="10244"/>
                </a:cubicBezTo>
                <a:cubicBezTo>
                  <a:pt x="16259" y="10208"/>
                  <a:pt x="16265" y="10096"/>
                  <a:pt x="16247" y="10046"/>
                </a:cubicBezTo>
                <a:cubicBezTo>
                  <a:pt x="16219" y="9968"/>
                  <a:pt x="16174" y="9882"/>
                  <a:pt x="16098" y="9823"/>
                </a:cubicBezTo>
                <a:cubicBezTo>
                  <a:pt x="16040" y="9779"/>
                  <a:pt x="16000" y="9764"/>
                  <a:pt x="15949" y="9723"/>
                </a:cubicBezTo>
                <a:cubicBezTo>
                  <a:pt x="15941" y="9715"/>
                  <a:pt x="15933" y="9707"/>
                  <a:pt x="15925" y="9699"/>
                </a:cubicBezTo>
              </a:path>
              <a:path w="3325" h="2605">
                <a:moveTo>
                  <a:pt x="17835" y="9947"/>
                </a:moveTo>
                <a:cubicBezTo>
                  <a:pt x="17835" y="10059"/>
                  <a:pt x="17842" y="10163"/>
                  <a:pt x="17859" y="10269"/>
                </a:cubicBezTo>
                <a:cubicBezTo>
                  <a:pt x="17869" y="10333"/>
                  <a:pt x="17853" y="10347"/>
                  <a:pt x="17909" y="10319"/>
                </a:cubicBezTo>
              </a:path>
              <a:path w="3325" h="2605">
                <a:moveTo>
                  <a:pt x="17959" y="9823"/>
                </a:moveTo>
                <a:cubicBezTo>
                  <a:pt x="17896" y="9787"/>
                  <a:pt x="17860" y="9752"/>
                  <a:pt x="17785" y="9748"/>
                </a:cubicBezTo>
                <a:cubicBezTo>
                  <a:pt x="17717" y="9744"/>
                  <a:pt x="17665" y="9762"/>
                  <a:pt x="17611" y="9773"/>
                </a:cubicBezTo>
                <a:cubicBezTo>
                  <a:pt x="17542" y="9787"/>
                  <a:pt x="17513" y="9795"/>
                  <a:pt x="17462" y="9847"/>
                </a:cubicBezTo>
                <a:cubicBezTo>
                  <a:pt x="17407" y="9902"/>
                  <a:pt x="17374" y="9993"/>
                  <a:pt x="17388" y="10071"/>
                </a:cubicBezTo>
                <a:cubicBezTo>
                  <a:pt x="17403" y="10153"/>
                  <a:pt x="17457" y="10234"/>
                  <a:pt x="17512" y="10294"/>
                </a:cubicBezTo>
                <a:cubicBezTo>
                  <a:pt x="17550" y="10335"/>
                  <a:pt x="17632" y="10403"/>
                  <a:pt x="17686" y="10418"/>
                </a:cubicBezTo>
                <a:cubicBezTo>
                  <a:pt x="17745" y="10435"/>
                  <a:pt x="17792" y="10443"/>
                  <a:pt x="17859" y="10443"/>
                </a:cubicBezTo>
                <a:cubicBezTo>
                  <a:pt x="17941" y="10443"/>
                  <a:pt x="17998" y="10398"/>
                  <a:pt x="18058" y="10344"/>
                </a:cubicBezTo>
                <a:cubicBezTo>
                  <a:pt x="18093" y="10312"/>
                  <a:pt x="18104" y="10241"/>
                  <a:pt x="18107" y="10195"/>
                </a:cubicBezTo>
                <a:cubicBezTo>
                  <a:pt x="18112" y="10111"/>
                  <a:pt x="18089" y="10068"/>
                  <a:pt x="18058" y="9996"/>
                </a:cubicBezTo>
                <a:cubicBezTo>
                  <a:pt x="18027" y="9924"/>
                  <a:pt x="18013" y="9900"/>
                  <a:pt x="17959" y="9847"/>
                </a:cubicBezTo>
                <a:cubicBezTo>
                  <a:pt x="17894" y="9782"/>
                  <a:pt x="17821" y="9798"/>
                  <a:pt x="17735" y="9798"/>
                </a:cubicBezTo>
              </a:path>
              <a:path w="3325" h="2605">
                <a:moveTo>
                  <a:pt x="18678" y="11237"/>
                </a:moveTo>
                <a:cubicBezTo>
                  <a:pt x="18678" y="11157"/>
                  <a:pt x="18697" y="11058"/>
                  <a:pt x="18653" y="10988"/>
                </a:cubicBezTo>
                <a:cubicBezTo>
                  <a:pt x="18621" y="10938"/>
                  <a:pt x="18533" y="10903"/>
                  <a:pt x="18479" y="10914"/>
                </a:cubicBezTo>
                <a:cubicBezTo>
                  <a:pt x="18401" y="10930"/>
                  <a:pt x="18327" y="10988"/>
                  <a:pt x="18281" y="11038"/>
                </a:cubicBezTo>
                <a:cubicBezTo>
                  <a:pt x="18228" y="11096"/>
                  <a:pt x="18207" y="11147"/>
                  <a:pt x="18231" y="11237"/>
                </a:cubicBezTo>
                <a:cubicBezTo>
                  <a:pt x="18239" y="11265"/>
                  <a:pt x="18334" y="11330"/>
                  <a:pt x="18355" y="11336"/>
                </a:cubicBezTo>
                <a:cubicBezTo>
                  <a:pt x="18418" y="11353"/>
                  <a:pt x="18499" y="11336"/>
                  <a:pt x="18554" y="11311"/>
                </a:cubicBezTo>
                <a:cubicBezTo>
                  <a:pt x="18597" y="11292"/>
                  <a:pt x="18651" y="11254"/>
                  <a:pt x="18678" y="11212"/>
                </a:cubicBezTo>
                <a:cubicBezTo>
                  <a:pt x="18686" y="11195"/>
                  <a:pt x="18695" y="11179"/>
                  <a:pt x="18703" y="11162"/>
                </a:cubicBezTo>
                <a:cubicBezTo>
                  <a:pt x="18703" y="11270"/>
                  <a:pt x="18695" y="11360"/>
                  <a:pt x="18678" y="11460"/>
                </a:cubicBezTo>
                <a:cubicBezTo>
                  <a:pt x="18658" y="11580"/>
                  <a:pt x="18670" y="11712"/>
                  <a:pt x="18653" y="11832"/>
                </a:cubicBezTo>
                <a:cubicBezTo>
                  <a:pt x="18639" y="11928"/>
                  <a:pt x="18639" y="12034"/>
                  <a:pt x="18628" y="12129"/>
                </a:cubicBezTo>
                <a:cubicBezTo>
                  <a:pt x="18626" y="12147"/>
                  <a:pt x="18606" y="12335"/>
                  <a:pt x="18628" y="12254"/>
                </a:cubicBezTo>
                <a:cubicBezTo>
                  <a:pt x="18628" y="12246"/>
                  <a:pt x="18628" y="12237"/>
                  <a:pt x="18628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4"/>
          <p:cNvSpPr/>
          <p:nvPr/>
        </p:nvSpPr>
        <p:spPr>
          <a:xfrm>
            <a:off x="5483160" y="3894120"/>
            <a:ext cx="1544760" cy="88920"/>
          </a:xfrm>
          <a:custGeom>
            <a:avLst/>
            <a:gdLst/>
            <a:ahLst/>
            <a:rect l="l" t="t" r="r" b="b"/>
            <a:pathLst>
              <a:path w="4292" h="249">
                <a:moveTo>
                  <a:pt x="19521" y="10815"/>
                </a:moveTo>
                <a:cubicBezTo>
                  <a:pt x="19454" y="10827"/>
                  <a:pt x="19379" y="10840"/>
                  <a:pt x="19298" y="10840"/>
                </a:cubicBezTo>
                <a:cubicBezTo>
                  <a:pt x="19187" y="10840"/>
                  <a:pt x="19079" y="10824"/>
                  <a:pt x="18976" y="10815"/>
                </a:cubicBezTo>
                <a:cubicBezTo>
                  <a:pt x="18674" y="10789"/>
                  <a:pt x="18353" y="10816"/>
                  <a:pt x="18058" y="10840"/>
                </a:cubicBezTo>
                <a:cubicBezTo>
                  <a:pt x="17844" y="10858"/>
                  <a:pt x="17621" y="10838"/>
                  <a:pt x="17413" y="10815"/>
                </a:cubicBezTo>
                <a:cubicBezTo>
                  <a:pt x="17202" y="10791"/>
                  <a:pt x="16974" y="10818"/>
                  <a:pt x="16768" y="10840"/>
                </a:cubicBezTo>
                <a:cubicBezTo>
                  <a:pt x="16604" y="10858"/>
                  <a:pt x="16434" y="10847"/>
                  <a:pt x="16272" y="10864"/>
                </a:cubicBezTo>
                <a:cubicBezTo>
                  <a:pt x="16164" y="10876"/>
                  <a:pt x="16056" y="10872"/>
                  <a:pt x="15949" y="10889"/>
                </a:cubicBezTo>
                <a:cubicBezTo>
                  <a:pt x="15868" y="10902"/>
                  <a:pt x="15784" y="10924"/>
                  <a:pt x="15701" y="10939"/>
                </a:cubicBezTo>
                <a:cubicBezTo>
                  <a:pt x="15621" y="10953"/>
                  <a:pt x="15534" y="10970"/>
                  <a:pt x="15453" y="10988"/>
                </a:cubicBezTo>
                <a:cubicBezTo>
                  <a:pt x="15388" y="11002"/>
                  <a:pt x="15320" y="11022"/>
                  <a:pt x="15255" y="11038"/>
                </a:cubicBezTo>
                <a:cubicBezTo>
                  <a:pt x="15212" y="11049"/>
                  <a:pt x="15255" y="11070"/>
                  <a:pt x="15255" y="109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25"/>
          <p:cNvSpPr/>
          <p:nvPr/>
        </p:nvSpPr>
        <p:spPr>
          <a:xfrm>
            <a:off x="955800" y="645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654" y="17934"/>
                </a:moveTo>
                <a:lnTo>
                  <a:pt x="2654" y="17934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362320" y="1066680"/>
          <a:ext cx="48006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800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Ink 8"/>
          <p:cNvSpPr/>
          <p:nvPr/>
        </p:nvSpPr>
        <p:spPr>
          <a:xfrm>
            <a:off x="4037040" y="2009880"/>
            <a:ext cx="758880" cy="419040"/>
          </a:xfrm>
          <a:custGeom>
            <a:avLst/>
            <a:gdLst/>
            <a:ahLst/>
            <a:rect l="l" t="t" r="r" b="b"/>
            <a:pathLst>
              <a:path w="2109" h="1167">
                <a:moveTo>
                  <a:pt x="11212" y="6028"/>
                </a:moveTo>
                <a:cubicBezTo>
                  <a:pt x="11257" y="6106"/>
                  <a:pt x="11313" y="6173"/>
                  <a:pt x="11361" y="6251"/>
                </a:cubicBezTo>
                <a:cubicBezTo>
                  <a:pt x="11412" y="6336"/>
                  <a:pt x="11458" y="6418"/>
                  <a:pt x="11509" y="6499"/>
                </a:cubicBezTo>
                <a:cubicBezTo>
                  <a:pt x="11551" y="6565"/>
                  <a:pt x="11576" y="6615"/>
                  <a:pt x="11633" y="6672"/>
                </a:cubicBezTo>
                <a:cubicBezTo>
                  <a:pt x="11662" y="6701"/>
                  <a:pt x="11671" y="6713"/>
                  <a:pt x="11708" y="6722"/>
                </a:cubicBezTo>
              </a:path>
              <a:path w="2109" h="1167">
                <a:moveTo>
                  <a:pt x="11633" y="5953"/>
                </a:moveTo>
                <a:cubicBezTo>
                  <a:pt x="11593" y="6065"/>
                  <a:pt x="11526" y="6167"/>
                  <a:pt x="11485" y="6276"/>
                </a:cubicBezTo>
                <a:cubicBezTo>
                  <a:pt x="11447" y="6378"/>
                  <a:pt x="11404" y="6472"/>
                  <a:pt x="11361" y="6573"/>
                </a:cubicBezTo>
                <a:cubicBezTo>
                  <a:pt x="11335" y="6633"/>
                  <a:pt x="11271" y="6811"/>
                  <a:pt x="11286" y="6747"/>
                </a:cubicBezTo>
                <a:cubicBezTo>
                  <a:pt x="11294" y="6706"/>
                  <a:pt x="11303" y="6664"/>
                  <a:pt x="11311" y="6623"/>
                </a:cubicBezTo>
              </a:path>
              <a:path w="2109" h="1167">
                <a:moveTo>
                  <a:pt x="11757" y="5606"/>
                </a:moveTo>
                <a:cubicBezTo>
                  <a:pt x="11879" y="5584"/>
                  <a:pt x="11907" y="5599"/>
                  <a:pt x="11857" y="5730"/>
                </a:cubicBezTo>
                <a:cubicBezTo>
                  <a:pt x="11840" y="5774"/>
                  <a:pt x="11733" y="5847"/>
                  <a:pt x="11733" y="5879"/>
                </a:cubicBezTo>
                <a:cubicBezTo>
                  <a:pt x="11741" y="5887"/>
                  <a:pt x="11749" y="5896"/>
                  <a:pt x="11757" y="5904"/>
                </a:cubicBezTo>
                <a:cubicBezTo>
                  <a:pt x="11797" y="5919"/>
                  <a:pt x="11898" y="5919"/>
                  <a:pt x="11956" y="5904"/>
                </a:cubicBezTo>
                <a:cubicBezTo>
                  <a:pt x="12015" y="5888"/>
                  <a:pt x="12069" y="5866"/>
                  <a:pt x="12129" y="5854"/>
                </a:cubicBezTo>
              </a:path>
              <a:path w="2109" h="1167">
                <a:moveTo>
                  <a:pt x="12229" y="6474"/>
                </a:moveTo>
                <a:cubicBezTo>
                  <a:pt x="12311" y="6474"/>
                  <a:pt x="12375" y="6453"/>
                  <a:pt x="12452" y="6449"/>
                </a:cubicBezTo>
                <a:cubicBezTo>
                  <a:pt x="12469" y="6449"/>
                  <a:pt x="12485" y="6449"/>
                  <a:pt x="12502" y="6449"/>
                </a:cubicBezTo>
              </a:path>
              <a:path w="2109" h="1167">
                <a:moveTo>
                  <a:pt x="12874" y="6003"/>
                </a:moveTo>
                <a:cubicBezTo>
                  <a:pt x="12926" y="5950"/>
                  <a:pt x="12985" y="5880"/>
                  <a:pt x="13072" y="5904"/>
                </a:cubicBezTo>
                <a:cubicBezTo>
                  <a:pt x="13144" y="5924"/>
                  <a:pt x="13122" y="6025"/>
                  <a:pt x="13122" y="6077"/>
                </a:cubicBezTo>
                <a:cubicBezTo>
                  <a:pt x="13122" y="6154"/>
                  <a:pt x="13080" y="6230"/>
                  <a:pt x="13047" y="6300"/>
                </a:cubicBezTo>
                <a:cubicBezTo>
                  <a:pt x="13008" y="6382"/>
                  <a:pt x="12961" y="6444"/>
                  <a:pt x="12923" y="6524"/>
                </a:cubicBezTo>
                <a:cubicBezTo>
                  <a:pt x="12902" y="6567"/>
                  <a:pt x="12835" y="6633"/>
                  <a:pt x="12824" y="6672"/>
                </a:cubicBezTo>
                <a:cubicBezTo>
                  <a:pt x="12794" y="6774"/>
                  <a:pt x="12914" y="6747"/>
                  <a:pt x="12973" y="6747"/>
                </a:cubicBezTo>
                <a:cubicBezTo>
                  <a:pt x="13070" y="6747"/>
                  <a:pt x="13162" y="6738"/>
                  <a:pt x="13246" y="6722"/>
                </a:cubicBezTo>
                <a:cubicBezTo>
                  <a:pt x="13290" y="6722"/>
                  <a:pt x="13304" y="6725"/>
                  <a:pt x="13320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9"/>
          <p:cNvSpPr/>
          <p:nvPr/>
        </p:nvSpPr>
        <p:spPr>
          <a:xfrm>
            <a:off x="2232000" y="2401920"/>
            <a:ext cx="4929120" cy="563400"/>
          </a:xfrm>
          <a:custGeom>
            <a:avLst/>
            <a:gdLst/>
            <a:ahLst/>
            <a:rect l="l" t="t" r="r" b="b"/>
            <a:pathLst>
              <a:path w="13693" h="1564">
                <a:moveTo>
                  <a:pt x="6226" y="7243"/>
                </a:moveTo>
                <a:cubicBezTo>
                  <a:pt x="6269" y="7297"/>
                  <a:pt x="6274" y="7340"/>
                  <a:pt x="6300" y="7392"/>
                </a:cubicBezTo>
                <a:cubicBezTo>
                  <a:pt x="6328" y="7449"/>
                  <a:pt x="6376" y="7502"/>
                  <a:pt x="6400" y="7565"/>
                </a:cubicBezTo>
                <a:cubicBezTo>
                  <a:pt x="6435" y="7655"/>
                  <a:pt x="6484" y="7741"/>
                  <a:pt x="6548" y="7813"/>
                </a:cubicBezTo>
                <a:cubicBezTo>
                  <a:pt x="6607" y="7879"/>
                  <a:pt x="6653" y="7958"/>
                  <a:pt x="6697" y="8037"/>
                </a:cubicBezTo>
                <a:cubicBezTo>
                  <a:pt x="6732" y="8100"/>
                  <a:pt x="6726" y="8290"/>
                  <a:pt x="6772" y="8235"/>
                </a:cubicBezTo>
                <a:cubicBezTo>
                  <a:pt x="6780" y="8210"/>
                  <a:pt x="6788" y="8186"/>
                  <a:pt x="6796" y="8161"/>
                </a:cubicBezTo>
              </a:path>
              <a:path w="13693" h="1564">
                <a:moveTo>
                  <a:pt x="6623" y="7193"/>
                </a:moveTo>
                <a:cubicBezTo>
                  <a:pt x="6560" y="7299"/>
                  <a:pt x="6492" y="7401"/>
                  <a:pt x="6449" y="7516"/>
                </a:cubicBezTo>
                <a:cubicBezTo>
                  <a:pt x="6416" y="7604"/>
                  <a:pt x="6402" y="7709"/>
                  <a:pt x="6350" y="7789"/>
                </a:cubicBezTo>
                <a:cubicBezTo>
                  <a:pt x="6306" y="7857"/>
                  <a:pt x="6270" y="7957"/>
                  <a:pt x="6226" y="8012"/>
                </a:cubicBezTo>
                <a:cubicBezTo>
                  <a:pt x="6203" y="8035"/>
                  <a:pt x="6195" y="8046"/>
                  <a:pt x="6201" y="8012"/>
                </a:cubicBezTo>
              </a:path>
              <a:path w="13693" h="1564">
                <a:moveTo>
                  <a:pt x="6648" y="6821"/>
                </a:moveTo>
                <a:cubicBezTo>
                  <a:pt x="6696" y="6803"/>
                  <a:pt x="6787" y="6777"/>
                  <a:pt x="6821" y="6846"/>
                </a:cubicBezTo>
                <a:cubicBezTo>
                  <a:pt x="6851" y="6908"/>
                  <a:pt x="6809" y="6996"/>
                  <a:pt x="6772" y="7045"/>
                </a:cubicBezTo>
                <a:cubicBezTo>
                  <a:pt x="6728" y="7103"/>
                  <a:pt x="6707" y="7116"/>
                  <a:pt x="6697" y="7193"/>
                </a:cubicBezTo>
                <a:cubicBezTo>
                  <a:pt x="6782" y="7204"/>
                  <a:pt x="6813" y="7224"/>
                  <a:pt x="6896" y="7193"/>
                </a:cubicBezTo>
              </a:path>
              <a:path w="13693" h="1564">
                <a:moveTo>
                  <a:pt x="7342" y="7417"/>
                </a:moveTo>
                <a:cubicBezTo>
                  <a:pt x="7362" y="7507"/>
                  <a:pt x="7367" y="7574"/>
                  <a:pt x="7367" y="7665"/>
                </a:cubicBezTo>
                <a:cubicBezTo>
                  <a:pt x="7367" y="7747"/>
                  <a:pt x="7388" y="7791"/>
                  <a:pt x="7392" y="7863"/>
                </a:cubicBezTo>
                <a:cubicBezTo>
                  <a:pt x="7392" y="7905"/>
                  <a:pt x="7392" y="7913"/>
                  <a:pt x="7392" y="7938"/>
                </a:cubicBezTo>
              </a:path>
              <a:path w="13693" h="1564">
                <a:moveTo>
                  <a:pt x="7144" y="7689"/>
                </a:moveTo>
                <a:cubicBezTo>
                  <a:pt x="7200" y="7681"/>
                  <a:pt x="7254" y="7648"/>
                  <a:pt x="7317" y="7665"/>
                </a:cubicBezTo>
                <a:cubicBezTo>
                  <a:pt x="7379" y="7682"/>
                  <a:pt x="7424" y="7689"/>
                  <a:pt x="7491" y="7689"/>
                </a:cubicBezTo>
              </a:path>
              <a:path w="13693" h="1564">
                <a:moveTo>
                  <a:pt x="7938" y="7466"/>
                </a:moveTo>
                <a:cubicBezTo>
                  <a:pt x="7873" y="7615"/>
                  <a:pt x="7838" y="7665"/>
                  <a:pt x="7838" y="7813"/>
                </a:cubicBezTo>
                <a:cubicBezTo>
                  <a:pt x="7838" y="7882"/>
                  <a:pt x="7854" y="7990"/>
                  <a:pt x="7913" y="8037"/>
                </a:cubicBezTo>
                <a:cubicBezTo>
                  <a:pt x="7967" y="8080"/>
                  <a:pt x="8033" y="8056"/>
                  <a:pt x="8086" y="8037"/>
                </a:cubicBezTo>
                <a:cubicBezTo>
                  <a:pt x="8176" y="8005"/>
                  <a:pt x="8204" y="7956"/>
                  <a:pt x="8260" y="7888"/>
                </a:cubicBezTo>
                <a:cubicBezTo>
                  <a:pt x="8319" y="7817"/>
                  <a:pt x="8357" y="7766"/>
                  <a:pt x="8334" y="7665"/>
                </a:cubicBezTo>
                <a:cubicBezTo>
                  <a:pt x="8314" y="7579"/>
                  <a:pt x="8259" y="7493"/>
                  <a:pt x="8186" y="7441"/>
                </a:cubicBezTo>
                <a:cubicBezTo>
                  <a:pt x="8114" y="7390"/>
                  <a:pt x="8046" y="7392"/>
                  <a:pt x="7962" y="7392"/>
                </a:cubicBezTo>
                <a:cubicBezTo>
                  <a:pt x="7886" y="7392"/>
                  <a:pt x="7857" y="7411"/>
                  <a:pt x="7838" y="7466"/>
                </a:cubicBezTo>
              </a:path>
              <a:path w="13693" h="1564">
                <a:moveTo>
                  <a:pt x="8582" y="7565"/>
                </a:moveTo>
                <a:cubicBezTo>
                  <a:pt x="8616" y="7658"/>
                  <a:pt x="8653" y="7709"/>
                  <a:pt x="8706" y="7789"/>
                </a:cubicBezTo>
                <a:cubicBezTo>
                  <a:pt x="8758" y="7867"/>
                  <a:pt x="8823" y="7877"/>
                  <a:pt x="8880" y="7938"/>
                </a:cubicBezTo>
                <a:cubicBezTo>
                  <a:pt x="8931" y="7992"/>
                  <a:pt x="8951" y="8001"/>
                  <a:pt x="9029" y="8012"/>
                </a:cubicBezTo>
              </a:path>
              <a:path w="13693" h="1564">
                <a:moveTo>
                  <a:pt x="8830" y="7417"/>
                </a:moveTo>
                <a:cubicBezTo>
                  <a:pt x="8744" y="7511"/>
                  <a:pt x="8667" y="7601"/>
                  <a:pt x="8607" y="7714"/>
                </a:cubicBezTo>
                <a:cubicBezTo>
                  <a:pt x="8575" y="7774"/>
                  <a:pt x="8553" y="7838"/>
                  <a:pt x="8508" y="7888"/>
                </a:cubicBezTo>
                <a:cubicBezTo>
                  <a:pt x="8478" y="7922"/>
                  <a:pt x="8481" y="7949"/>
                  <a:pt x="8458" y="7987"/>
                </a:cubicBezTo>
              </a:path>
              <a:path w="13693" h="1564">
                <a:moveTo>
                  <a:pt x="9227" y="7665"/>
                </a:moveTo>
                <a:cubicBezTo>
                  <a:pt x="9334" y="7686"/>
                  <a:pt x="9420" y="7714"/>
                  <a:pt x="9525" y="7714"/>
                </a:cubicBezTo>
                <a:cubicBezTo>
                  <a:pt x="9542" y="7714"/>
                  <a:pt x="9558" y="7714"/>
                  <a:pt x="9575" y="7714"/>
                </a:cubicBezTo>
              </a:path>
              <a:path w="13693" h="1564">
                <a:moveTo>
                  <a:pt x="9723" y="7243"/>
                </a:moveTo>
                <a:cubicBezTo>
                  <a:pt x="9716" y="7353"/>
                  <a:pt x="9699" y="7453"/>
                  <a:pt x="9699" y="7565"/>
                </a:cubicBezTo>
                <a:cubicBezTo>
                  <a:pt x="9699" y="7687"/>
                  <a:pt x="9707" y="7795"/>
                  <a:pt x="9723" y="7913"/>
                </a:cubicBezTo>
                <a:cubicBezTo>
                  <a:pt x="9731" y="7973"/>
                  <a:pt x="9700" y="8025"/>
                  <a:pt x="9723" y="8037"/>
                </a:cubicBezTo>
              </a:path>
              <a:path w="13693" h="1564">
                <a:moveTo>
                  <a:pt x="10393" y="7342"/>
                </a:moveTo>
                <a:cubicBezTo>
                  <a:pt x="10415" y="7578"/>
                  <a:pt x="10429" y="7831"/>
                  <a:pt x="10443" y="8062"/>
                </a:cubicBezTo>
                <a:cubicBezTo>
                  <a:pt x="10443" y="8111"/>
                  <a:pt x="10443" y="8128"/>
                  <a:pt x="10443" y="8161"/>
                </a:cubicBezTo>
                <a:cubicBezTo>
                  <a:pt x="10436" y="8108"/>
                  <a:pt x="10424" y="8027"/>
                  <a:pt x="10418" y="7962"/>
                </a:cubicBezTo>
                <a:cubicBezTo>
                  <a:pt x="10409" y="7869"/>
                  <a:pt x="10397" y="7784"/>
                  <a:pt x="10393" y="7689"/>
                </a:cubicBezTo>
                <a:cubicBezTo>
                  <a:pt x="10384" y="7493"/>
                  <a:pt x="10305" y="7004"/>
                  <a:pt x="10418" y="6846"/>
                </a:cubicBezTo>
                <a:cubicBezTo>
                  <a:pt x="10463" y="6783"/>
                  <a:pt x="10492" y="6786"/>
                  <a:pt x="10567" y="6772"/>
                </a:cubicBezTo>
                <a:cubicBezTo>
                  <a:pt x="10592" y="6767"/>
                  <a:pt x="10722" y="6793"/>
                  <a:pt x="10765" y="6796"/>
                </a:cubicBezTo>
                <a:cubicBezTo>
                  <a:pt x="10856" y="6803"/>
                  <a:pt x="10946" y="6812"/>
                  <a:pt x="11038" y="6821"/>
                </a:cubicBezTo>
                <a:cubicBezTo>
                  <a:pt x="11146" y="6831"/>
                  <a:pt x="11251" y="6837"/>
                  <a:pt x="11361" y="6846"/>
                </a:cubicBezTo>
                <a:cubicBezTo>
                  <a:pt x="11526" y="6860"/>
                  <a:pt x="11691" y="6890"/>
                  <a:pt x="11857" y="6896"/>
                </a:cubicBezTo>
                <a:cubicBezTo>
                  <a:pt x="12096" y="6905"/>
                  <a:pt x="12340" y="6913"/>
                  <a:pt x="12576" y="6921"/>
                </a:cubicBezTo>
                <a:cubicBezTo>
                  <a:pt x="13484" y="6951"/>
                  <a:pt x="14382" y="6896"/>
                  <a:pt x="15280" y="6821"/>
                </a:cubicBezTo>
                <a:cubicBezTo>
                  <a:pt x="15478" y="6804"/>
                  <a:pt x="15677" y="6788"/>
                  <a:pt x="15875" y="6772"/>
                </a:cubicBezTo>
                <a:cubicBezTo>
                  <a:pt x="16071" y="6756"/>
                  <a:pt x="16274" y="6729"/>
                  <a:pt x="16470" y="6722"/>
                </a:cubicBezTo>
                <a:cubicBezTo>
                  <a:pt x="16662" y="6715"/>
                  <a:pt x="16850" y="6702"/>
                  <a:pt x="17041" y="6697"/>
                </a:cubicBezTo>
                <a:cubicBezTo>
                  <a:pt x="17248" y="6691"/>
                  <a:pt x="17456" y="6668"/>
                  <a:pt x="17661" y="6672"/>
                </a:cubicBezTo>
                <a:cubicBezTo>
                  <a:pt x="17861" y="6676"/>
                  <a:pt x="18055" y="6695"/>
                  <a:pt x="18256" y="6697"/>
                </a:cubicBezTo>
                <a:cubicBezTo>
                  <a:pt x="18449" y="6699"/>
                  <a:pt x="18635" y="6717"/>
                  <a:pt x="18827" y="6722"/>
                </a:cubicBezTo>
                <a:cubicBezTo>
                  <a:pt x="18992" y="6727"/>
                  <a:pt x="19161" y="6751"/>
                  <a:pt x="19323" y="6747"/>
                </a:cubicBezTo>
                <a:cubicBezTo>
                  <a:pt x="19400" y="6745"/>
                  <a:pt x="19473" y="6726"/>
                  <a:pt x="19546" y="6722"/>
                </a:cubicBezTo>
              </a:path>
              <a:path w="13693" h="1564">
                <a:moveTo>
                  <a:pt x="11112" y="7392"/>
                </a:moveTo>
                <a:cubicBezTo>
                  <a:pt x="11169" y="7513"/>
                  <a:pt x="11236" y="7602"/>
                  <a:pt x="11311" y="7714"/>
                </a:cubicBezTo>
                <a:cubicBezTo>
                  <a:pt x="11373" y="7807"/>
                  <a:pt x="11436" y="7902"/>
                  <a:pt x="11509" y="7987"/>
                </a:cubicBezTo>
                <a:cubicBezTo>
                  <a:pt x="11550" y="8035"/>
                  <a:pt x="11657" y="8184"/>
                  <a:pt x="11708" y="8210"/>
                </a:cubicBezTo>
                <a:cubicBezTo>
                  <a:pt x="11708" y="8202"/>
                  <a:pt x="11708" y="8194"/>
                  <a:pt x="11708" y="8186"/>
                </a:cubicBezTo>
              </a:path>
              <a:path w="13693" h="1564">
                <a:moveTo>
                  <a:pt x="11509" y="7541"/>
                </a:moveTo>
                <a:cubicBezTo>
                  <a:pt x="11445" y="7691"/>
                  <a:pt x="11368" y="7836"/>
                  <a:pt x="11311" y="7987"/>
                </a:cubicBezTo>
                <a:cubicBezTo>
                  <a:pt x="11284" y="8058"/>
                  <a:pt x="11264" y="8129"/>
                  <a:pt x="11212" y="8186"/>
                </a:cubicBezTo>
                <a:cubicBezTo>
                  <a:pt x="11165" y="8238"/>
                  <a:pt x="11200" y="8106"/>
                  <a:pt x="11212" y="8037"/>
                </a:cubicBezTo>
              </a:path>
              <a:path w="13693" h="1564">
                <a:moveTo>
                  <a:pt x="11757" y="7169"/>
                </a:moveTo>
                <a:cubicBezTo>
                  <a:pt x="11789" y="7220"/>
                  <a:pt x="11797" y="7266"/>
                  <a:pt x="11757" y="7317"/>
                </a:cubicBezTo>
                <a:cubicBezTo>
                  <a:pt x="11680" y="7415"/>
                  <a:pt x="11774" y="7394"/>
                  <a:pt x="11832" y="7417"/>
                </a:cubicBezTo>
                <a:cubicBezTo>
                  <a:pt x="11892" y="7440"/>
                  <a:pt x="11920" y="7452"/>
                  <a:pt x="11981" y="7417"/>
                </a:cubicBezTo>
              </a:path>
              <a:path w="13693" h="1564">
                <a:moveTo>
                  <a:pt x="12080" y="7020"/>
                </a:moveTo>
                <a:cubicBezTo>
                  <a:pt x="12031" y="7105"/>
                  <a:pt x="12030" y="7171"/>
                  <a:pt x="12030" y="7268"/>
                </a:cubicBezTo>
                <a:cubicBezTo>
                  <a:pt x="12030" y="7381"/>
                  <a:pt x="12019" y="7484"/>
                  <a:pt x="12005" y="7590"/>
                </a:cubicBezTo>
                <a:cubicBezTo>
                  <a:pt x="12005" y="7615"/>
                  <a:pt x="12005" y="7640"/>
                  <a:pt x="12005" y="7665"/>
                </a:cubicBezTo>
              </a:path>
              <a:path w="13693" h="1564">
                <a:moveTo>
                  <a:pt x="12675" y="7491"/>
                </a:moveTo>
                <a:cubicBezTo>
                  <a:pt x="12680" y="7580"/>
                  <a:pt x="12677" y="7702"/>
                  <a:pt x="12700" y="7789"/>
                </a:cubicBezTo>
                <a:cubicBezTo>
                  <a:pt x="12714" y="7841"/>
                  <a:pt x="12728" y="7918"/>
                  <a:pt x="12750" y="7962"/>
                </a:cubicBezTo>
                <a:cubicBezTo>
                  <a:pt x="12758" y="7970"/>
                  <a:pt x="12766" y="7979"/>
                  <a:pt x="12774" y="7987"/>
                </a:cubicBezTo>
              </a:path>
              <a:path w="13693" h="1564">
                <a:moveTo>
                  <a:pt x="12502" y="7739"/>
                </a:moveTo>
                <a:cubicBezTo>
                  <a:pt x="12612" y="7739"/>
                  <a:pt x="12722" y="7756"/>
                  <a:pt x="12824" y="7764"/>
                </a:cubicBezTo>
                <a:cubicBezTo>
                  <a:pt x="12874" y="7764"/>
                  <a:pt x="12923" y="7764"/>
                  <a:pt x="12973" y="7764"/>
                </a:cubicBezTo>
              </a:path>
              <a:path w="13693" h="1564">
                <a:moveTo>
                  <a:pt x="13444" y="7541"/>
                </a:moveTo>
                <a:cubicBezTo>
                  <a:pt x="13402" y="7643"/>
                  <a:pt x="13377" y="7738"/>
                  <a:pt x="13345" y="7838"/>
                </a:cubicBezTo>
                <a:cubicBezTo>
                  <a:pt x="13315" y="7932"/>
                  <a:pt x="13314" y="8005"/>
                  <a:pt x="13395" y="8086"/>
                </a:cubicBezTo>
                <a:cubicBezTo>
                  <a:pt x="13457" y="8149"/>
                  <a:pt x="13612" y="8180"/>
                  <a:pt x="13692" y="8161"/>
                </a:cubicBezTo>
                <a:cubicBezTo>
                  <a:pt x="13785" y="8139"/>
                  <a:pt x="13915" y="8050"/>
                  <a:pt x="13965" y="7962"/>
                </a:cubicBezTo>
                <a:cubicBezTo>
                  <a:pt x="14003" y="7895"/>
                  <a:pt x="14004" y="7762"/>
                  <a:pt x="13990" y="7689"/>
                </a:cubicBezTo>
                <a:cubicBezTo>
                  <a:pt x="13971" y="7587"/>
                  <a:pt x="13921" y="7544"/>
                  <a:pt x="13841" y="7491"/>
                </a:cubicBezTo>
                <a:cubicBezTo>
                  <a:pt x="13757" y="7436"/>
                  <a:pt x="13687" y="7414"/>
                  <a:pt x="13593" y="7441"/>
                </a:cubicBezTo>
                <a:cubicBezTo>
                  <a:pt x="13533" y="7459"/>
                  <a:pt x="13462" y="7499"/>
                  <a:pt x="13444" y="7565"/>
                </a:cubicBezTo>
                <a:cubicBezTo>
                  <a:pt x="13422" y="7646"/>
                  <a:pt x="13488" y="7695"/>
                  <a:pt x="13519" y="7739"/>
                </a:cubicBezTo>
                <a:cubicBezTo>
                  <a:pt x="13527" y="7756"/>
                  <a:pt x="13535" y="7772"/>
                  <a:pt x="13543" y="7789"/>
                </a:cubicBezTo>
              </a:path>
              <a:path w="13693" h="1564">
                <a:moveTo>
                  <a:pt x="14362" y="7640"/>
                </a:moveTo>
                <a:cubicBezTo>
                  <a:pt x="14374" y="7714"/>
                  <a:pt x="14371" y="7878"/>
                  <a:pt x="14436" y="7938"/>
                </a:cubicBezTo>
                <a:cubicBezTo>
                  <a:pt x="14485" y="7983"/>
                  <a:pt x="14595" y="8094"/>
                  <a:pt x="14660" y="8111"/>
                </a:cubicBezTo>
                <a:cubicBezTo>
                  <a:pt x="14709" y="8111"/>
                  <a:pt x="14726" y="8111"/>
                  <a:pt x="14759" y="8111"/>
                </a:cubicBezTo>
              </a:path>
              <a:path w="13693" h="1564">
                <a:moveTo>
                  <a:pt x="14585" y="7615"/>
                </a:moveTo>
                <a:cubicBezTo>
                  <a:pt x="14543" y="7717"/>
                  <a:pt x="14518" y="7813"/>
                  <a:pt x="14486" y="7913"/>
                </a:cubicBezTo>
                <a:cubicBezTo>
                  <a:pt x="14468" y="7968"/>
                  <a:pt x="14415" y="8062"/>
                  <a:pt x="14387" y="8111"/>
                </a:cubicBezTo>
                <a:cubicBezTo>
                  <a:pt x="14364" y="8134"/>
                  <a:pt x="14356" y="8145"/>
                  <a:pt x="14362" y="8111"/>
                </a:cubicBezTo>
              </a:path>
              <a:path w="13693" h="1564">
                <a:moveTo>
                  <a:pt x="14883" y="7020"/>
                </a:moveTo>
                <a:cubicBezTo>
                  <a:pt x="14937" y="7012"/>
                  <a:pt x="15031" y="6981"/>
                  <a:pt x="15056" y="7069"/>
                </a:cubicBezTo>
                <a:cubicBezTo>
                  <a:pt x="15074" y="7135"/>
                  <a:pt x="15022" y="7178"/>
                  <a:pt x="14982" y="7218"/>
                </a:cubicBezTo>
                <a:cubicBezTo>
                  <a:pt x="14957" y="7243"/>
                  <a:pt x="14949" y="7251"/>
                  <a:pt x="14932" y="7268"/>
                </a:cubicBezTo>
                <a:cubicBezTo>
                  <a:pt x="15015" y="7277"/>
                  <a:pt x="15062" y="7300"/>
                  <a:pt x="15131" y="7342"/>
                </a:cubicBezTo>
                <a:cubicBezTo>
                  <a:pt x="15193" y="7380"/>
                  <a:pt x="15234" y="7397"/>
                  <a:pt x="15180" y="7466"/>
                </a:cubicBezTo>
                <a:cubicBezTo>
                  <a:pt x="15152" y="7502"/>
                  <a:pt x="15027" y="7513"/>
                  <a:pt x="14982" y="7516"/>
                </a:cubicBezTo>
                <a:cubicBezTo>
                  <a:pt x="14965" y="7516"/>
                  <a:pt x="14949" y="7516"/>
                  <a:pt x="14932" y="7516"/>
                </a:cubicBezTo>
              </a:path>
              <a:path w="13693" h="1564">
                <a:moveTo>
                  <a:pt x="15429" y="7764"/>
                </a:moveTo>
                <a:cubicBezTo>
                  <a:pt x="15521" y="7764"/>
                  <a:pt x="15588" y="7785"/>
                  <a:pt x="15677" y="7789"/>
                </a:cubicBezTo>
                <a:cubicBezTo>
                  <a:pt x="15735" y="7789"/>
                  <a:pt x="15760" y="7789"/>
                  <a:pt x="15801" y="7789"/>
                </a:cubicBezTo>
              </a:path>
              <a:path w="13693" h="1564">
                <a:moveTo>
                  <a:pt x="16024" y="7317"/>
                </a:moveTo>
                <a:cubicBezTo>
                  <a:pt x="16056" y="7236"/>
                  <a:pt x="16059" y="7198"/>
                  <a:pt x="16148" y="7193"/>
                </a:cubicBezTo>
                <a:cubicBezTo>
                  <a:pt x="16238" y="7188"/>
                  <a:pt x="16278" y="7222"/>
                  <a:pt x="16321" y="7293"/>
                </a:cubicBezTo>
                <a:cubicBezTo>
                  <a:pt x="16348" y="7337"/>
                  <a:pt x="16366" y="7440"/>
                  <a:pt x="16346" y="7491"/>
                </a:cubicBezTo>
                <a:cubicBezTo>
                  <a:pt x="16318" y="7564"/>
                  <a:pt x="16255" y="7574"/>
                  <a:pt x="16197" y="7615"/>
                </a:cubicBezTo>
                <a:cubicBezTo>
                  <a:pt x="16153" y="7646"/>
                  <a:pt x="16130" y="7640"/>
                  <a:pt x="16073" y="7640"/>
                </a:cubicBezTo>
                <a:cubicBezTo>
                  <a:pt x="16160" y="7611"/>
                  <a:pt x="16212" y="7607"/>
                  <a:pt x="16297" y="7640"/>
                </a:cubicBezTo>
                <a:cubicBezTo>
                  <a:pt x="16422" y="7689"/>
                  <a:pt x="16512" y="7747"/>
                  <a:pt x="16520" y="7888"/>
                </a:cubicBezTo>
                <a:cubicBezTo>
                  <a:pt x="16524" y="7967"/>
                  <a:pt x="16486" y="8024"/>
                  <a:pt x="16421" y="8062"/>
                </a:cubicBezTo>
                <a:cubicBezTo>
                  <a:pt x="16348" y="8104"/>
                  <a:pt x="16290" y="8092"/>
                  <a:pt x="16222" y="8086"/>
                </a:cubicBezTo>
                <a:cubicBezTo>
                  <a:pt x="16176" y="8082"/>
                  <a:pt x="16092" y="8077"/>
                  <a:pt x="16073" y="8012"/>
                </a:cubicBezTo>
                <a:cubicBezTo>
                  <a:pt x="16073" y="7995"/>
                  <a:pt x="16073" y="7979"/>
                  <a:pt x="16073" y="7962"/>
                </a:cubicBezTo>
              </a:path>
              <a:path w="13693" h="1564">
                <a:moveTo>
                  <a:pt x="16644" y="7590"/>
                </a:moveTo>
                <a:cubicBezTo>
                  <a:pt x="16690" y="7663"/>
                  <a:pt x="16729" y="7736"/>
                  <a:pt x="16768" y="7813"/>
                </a:cubicBezTo>
                <a:cubicBezTo>
                  <a:pt x="16809" y="7895"/>
                  <a:pt x="16868" y="7939"/>
                  <a:pt x="16942" y="7987"/>
                </a:cubicBezTo>
                <a:cubicBezTo>
                  <a:pt x="16989" y="8018"/>
                  <a:pt x="17086" y="8097"/>
                  <a:pt x="17140" y="8111"/>
                </a:cubicBezTo>
                <a:cubicBezTo>
                  <a:pt x="17181" y="8111"/>
                  <a:pt x="17189" y="8111"/>
                  <a:pt x="17214" y="8111"/>
                </a:cubicBezTo>
              </a:path>
              <a:path w="13693" h="1564">
                <a:moveTo>
                  <a:pt x="16867" y="7565"/>
                </a:moveTo>
                <a:cubicBezTo>
                  <a:pt x="16787" y="7686"/>
                  <a:pt x="16730" y="7786"/>
                  <a:pt x="16669" y="7913"/>
                </a:cubicBezTo>
                <a:cubicBezTo>
                  <a:pt x="16639" y="7976"/>
                  <a:pt x="16628" y="8043"/>
                  <a:pt x="16619" y="8111"/>
                </a:cubicBezTo>
              </a:path>
              <a:path w="13693" h="1564">
                <a:moveTo>
                  <a:pt x="17066" y="6995"/>
                </a:moveTo>
                <a:cubicBezTo>
                  <a:pt x="17180" y="6955"/>
                  <a:pt x="17223" y="6911"/>
                  <a:pt x="17314" y="6995"/>
                </a:cubicBezTo>
                <a:cubicBezTo>
                  <a:pt x="17379" y="7055"/>
                  <a:pt x="17363" y="7097"/>
                  <a:pt x="17338" y="7169"/>
                </a:cubicBezTo>
                <a:cubicBezTo>
                  <a:pt x="17312" y="7245"/>
                  <a:pt x="17293" y="7264"/>
                  <a:pt x="17239" y="7317"/>
                </a:cubicBezTo>
                <a:cubicBezTo>
                  <a:pt x="17231" y="7325"/>
                  <a:pt x="17222" y="7334"/>
                  <a:pt x="17214" y="7342"/>
                </a:cubicBezTo>
                <a:cubicBezTo>
                  <a:pt x="17259" y="7387"/>
                  <a:pt x="17293" y="7424"/>
                  <a:pt x="17363" y="7417"/>
                </a:cubicBezTo>
                <a:cubicBezTo>
                  <a:pt x="17413" y="7409"/>
                  <a:pt x="17462" y="7400"/>
                  <a:pt x="17512" y="7392"/>
                </a:cubicBezTo>
              </a:path>
              <a:path w="13693" h="1564">
                <a:moveTo>
                  <a:pt x="18256" y="7317"/>
                </a:moveTo>
                <a:cubicBezTo>
                  <a:pt x="18256" y="7432"/>
                  <a:pt x="18266" y="7529"/>
                  <a:pt x="18281" y="7640"/>
                </a:cubicBezTo>
                <a:cubicBezTo>
                  <a:pt x="18291" y="7710"/>
                  <a:pt x="18309" y="7778"/>
                  <a:pt x="18331" y="7838"/>
                </a:cubicBezTo>
                <a:cubicBezTo>
                  <a:pt x="18350" y="7896"/>
                  <a:pt x="18358" y="7903"/>
                  <a:pt x="18355" y="7938"/>
                </a:cubicBezTo>
              </a:path>
              <a:path w="13693" h="1564">
                <a:moveTo>
                  <a:pt x="17934" y="7640"/>
                </a:moveTo>
                <a:cubicBezTo>
                  <a:pt x="18052" y="7616"/>
                  <a:pt x="18165" y="7635"/>
                  <a:pt x="18281" y="7615"/>
                </a:cubicBezTo>
                <a:cubicBezTo>
                  <a:pt x="18386" y="7580"/>
                  <a:pt x="18443" y="7567"/>
                  <a:pt x="18529" y="7565"/>
                </a:cubicBezTo>
              </a:path>
              <a:path w="13693" h="1564">
                <a:moveTo>
                  <a:pt x="18951" y="7169"/>
                </a:moveTo>
                <a:cubicBezTo>
                  <a:pt x="19094" y="7104"/>
                  <a:pt x="19132" y="7078"/>
                  <a:pt x="19273" y="7119"/>
                </a:cubicBezTo>
                <a:cubicBezTo>
                  <a:pt x="19345" y="7140"/>
                  <a:pt x="19411" y="7182"/>
                  <a:pt x="19447" y="7243"/>
                </a:cubicBezTo>
                <a:cubicBezTo>
                  <a:pt x="19476" y="7292"/>
                  <a:pt x="19488" y="7384"/>
                  <a:pt x="19472" y="7441"/>
                </a:cubicBezTo>
                <a:cubicBezTo>
                  <a:pt x="19446" y="7533"/>
                  <a:pt x="19379" y="7618"/>
                  <a:pt x="19323" y="7689"/>
                </a:cubicBezTo>
                <a:cubicBezTo>
                  <a:pt x="19257" y="7773"/>
                  <a:pt x="19209" y="7853"/>
                  <a:pt x="19149" y="7938"/>
                </a:cubicBezTo>
                <a:cubicBezTo>
                  <a:pt x="19110" y="7994"/>
                  <a:pt x="19084" y="8021"/>
                  <a:pt x="19075" y="8086"/>
                </a:cubicBezTo>
                <a:cubicBezTo>
                  <a:pt x="19152" y="8138"/>
                  <a:pt x="19206" y="8136"/>
                  <a:pt x="19298" y="8136"/>
                </a:cubicBezTo>
                <a:cubicBezTo>
                  <a:pt x="19435" y="8136"/>
                  <a:pt x="19565" y="8127"/>
                  <a:pt x="19695" y="8111"/>
                </a:cubicBezTo>
                <a:cubicBezTo>
                  <a:pt x="19717" y="8108"/>
                  <a:pt x="19893" y="8101"/>
                  <a:pt x="19893" y="8062"/>
                </a:cubicBezTo>
                <a:cubicBezTo>
                  <a:pt x="19885" y="8054"/>
                  <a:pt x="19877" y="8045"/>
                  <a:pt x="19869" y="8037"/>
                </a:cubicBezTo>
              </a:path>
              <a:path w="13693" h="1564">
                <a:moveTo>
                  <a:pt x="17338" y="7640"/>
                </a:moveTo>
                <a:cubicBezTo>
                  <a:pt x="17357" y="7710"/>
                  <a:pt x="17366" y="7776"/>
                  <a:pt x="17388" y="7838"/>
                </a:cubicBezTo>
                <a:cubicBezTo>
                  <a:pt x="17396" y="7855"/>
                  <a:pt x="17405" y="7871"/>
                  <a:pt x="17413" y="7888"/>
                </a:cubicBezTo>
              </a:path>
              <a:path w="13693" h="1564">
                <a:moveTo>
                  <a:pt x="17214" y="7739"/>
                </a:moveTo>
                <a:cubicBezTo>
                  <a:pt x="17286" y="7739"/>
                  <a:pt x="17324" y="7723"/>
                  <a:pt x="17388" y="7714"/>
                </a:cubicBezTo>
              </a:path>
              <a:path w="13693" h="1564">
                <a:moveTo>
                  <a:pt x="17537" y="7590"/>
                </a:moveTo>
                <a:cubicBezTo>
                  <a:pt x="17525" y="7670"/>
                  <a:pt x="17481" y="7793"/>
                  <a:pt x="17537" y="7863"/>
                </a:cubicBezTo>
                <a:cubicBezTo>
                  <a:pt x="17587" y="7926"/>
                  <a:pt x="17630" y="7909"/>
                  <a:pt x="17686" y="7863"/>
                </a:cubicBezTo>
                <a:cubicBezTo>
                  <a:pt x="17779" y="7785"/>
                  <a:pt x="17751" y="7734"/>
                  <a:pt x="17735" y="7640"/>
                </a:cubicBezTo>
                <a:cubicBezTo>
                  <a:pt x="17723" y="7568"/>
                  <a:pt x="17713" y="7543"/>
                  <a:pt x="17661" y="7491"/>
                </a:cubicBezTo>
                <a:cubicBezTo>
                  <a:pt x="17608" y="7438"/>
                  <a:pt x="17588" y="7441"/>
                  <a:pt x="17512" y="7441"/>
                </a:cubicBezTo>
              </a:path>
              <a:path w="13693" h="1564">
                <a:moveTo>
                  <a:pt x="17760" y="7565"/>
                </a:moveTo>
                <a:cubicBezTo>
                  <a:pt x="17808" y="7680"/>
                  <a:pt x="17826" y="7730"/>
                  <a:pt x="17909" y="7813"/>
                </a:cubicBezTo>
                <a:cubicBezTo>
                  <a:pt x="17958" y="7861"/>
                  <a:pt x="17961" y="7914"/>
                  <a:pt x="18033" y="7938"/>
                </a:cubicBezTo>
                <a:cubicBezTo>
                  <a:pt x="18041" y="7938"/>
                  <a:pt x="18050" y="7938"/>
                  <a:pt x="18058" y="7938"/>
                </a:cubicBezTo>
              </a:path>
              <a:path w="13693" h="1564">
                <a:moveTo>
                  <a:pt x="17983" y="7590"/>
                </a:moveTo>
                <a:cubicBezTo>
                  <a:pt x="17901" y="7695"/>
                  <a:pt x="17828" y="7794"/>
                  <a:pt x="17735" y="7888"/>
                </a:cubicBezTo>
                <a:cubicBezTo>
                  <a:pt x="17727" y="7896"/>
                  <a:pt x="17719" y="7905"/>
                  <a:pt x="17711" y="79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0"/>
          <p:cNvSpPr/>
          <p:nvPr/>
        </p:nvSpPr>
        <p:spPr>
          <a:xfrm>
            <a:off x="3571920" y="296388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0170" y="8533"/>
                </a:moveTo>
                <a:cubicBezTo>
                  <a:pt x="10286" y="8533"/>
                  <a:pt x="10401" y="8533"/>
                  <a:pt x="10517" y="8533"/>
                </a:cubicBezTo>
              </a:path>
              <a:path w="745" h="497">
                <a:moveTo>
                  <a:pt x="10468" y="8285"/>
                </a:moveTo>
                <a:cubicBezTo>
                  <a:pt x="10346" y="8259"/>
                  <a:pt x="10308" y="8257"/>
                  <a:pt x="10195" y="8310"/>
                </a:cubicBezTo>
                <a:cubicBezTo>
                  <a:pt x="10117" y="8346"/>
                  <a:pt x="10079" y="8388"/>
                  <a:pt x="10021" y="8434"/>
                </a:cubicBezTo>
                <a:cubicBezTo>
                  <a:pt x="9963" y="8480"/>
                  <a:pt x="9926" y="8503"/>
                  <a:pt x="9922" y="8582"/>
                </a:cubicBezTo>
                <a:cubicBezTo>
                  <a:pt x="9917" y="8699"/>
                  <a:pt x="9985" y="8713"/>
                  <a:pt x="10096" y="8731"/>
                </a:cubicBezTo>
                <a:cubicBezTo>
                  <a:pt x="10188" y="8746"/>
                  <a:pt x="10307" y="8738"/>
                  <a:pt x="10393" y="8706"/>
                </a:cubicBezTo>
                <a:cubicBezTo>
                  <a:pt x="10472" y="8676"/>
                  <a:pt x="10562" y="8652"/>
                  <a:pt x="10616" y="8582"/>
                </a:cubicBezTo>
                <a:cubicBezTo>
                  <a:pt x="10650" y="8537"/>
                  <a:pt x="10689" y="8469"/>
                  <a:pt x="10666" y="8409"/>
                </a:cubicBezTo>
                <a:cubicBezTo>
                  <a:pt x="10656" y="8384"/>
                  <a:pt x="10623" y="8276"/>
                  <a:pt x="10592" y="8260"/>
                </a:cubicBezTo>
                <a:cubicBezTo>
                  <a:pt x="10533" y="8230"/>
                  <a:pt x="10480" y="8237"/>
                  <a:pt x="10418" y="82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11"/>
          <p:cNvSpPr/>
          <p:nvPr/>
        </p:nvSpPr>
        <p:spPr>
          <a:xfrm>
            <a:off x="4330800" y="2973240"/>
            <a:ext cx="295200" cy="15264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12254" y="8508"/>
                </a:moveTo>
                <a:cubicBezTo>
                  <a:pt x="12333" y="8518"/>
                  <a:pt x="12393" y="8533"/>
                  <a:pt x="12477" y="8533"/>
                </a:cubicBezTo>
                <a:cubicBezTo>
                  <a:pt x="12526" y="8533"/>
                  <a:pt x="12543" y="8533"/>
                  <a:pt x="12576" y="8533"/>
                </a:cubicBezTo>
              </a:path>
              <a:path w="820" h="423">
                <a:moveTo>
                  <a:pt x="12675" y="8409"/>
                </a:moveTo>
                <a:cubicBezTo>
                  <a:pt x="12624" y="8338"/>
                  <a:pt x="12604" y="8331"/>
                  <a:pt x="12526" y="8310"/>
                </a:cubicBezTo>
                <a:cubicBezTo>
                  <a:pt x="12461" y="8292"/>
                  <a:pt x="12373" y="8265"/>
                  <a:pt x="12303" y="8285"/>
                </a:cubicBezTo>
                <a:cubicBezTo>
                  <a:pt x="12238" y="8303"/>
                  <a:pt x="12163" y="8318"/>
                  <a:pt x="12105" y="8359"/>
                </a:cubicBezTo>
                <a:cubicBezTo>
                  <a:pt x="12046" y="8400"/>
                  <a:pt x="12007" y="8425"/>
                  <a:pt x="12030" y="8508"/>
                </a:cubicBezTo>
                <a:cubicBezTo>
                  <a:pt x="12049" y="8575"/>
                  <a:pt x="12135" y="8645"/>
                  <a:pt x="12204" y="8657"/>
                </a:cubicBezTo>
                <a:cubicBezTo>
                  <a:pt x="12303" y="8674"/>
                  <a:pt x="12400" y="8682"/>
                  <a:pt x="12502" y="8682"/>
                </a:cubicBezTo>
                <a:cubicBezTo>
                  <a:pt x="12570" y="8682"/>
                  <a:pt x="12693" y="8671"/>
                  <a:pt x="12750" y="8632"/>
                </a:cubicBezTo>
                <a:cubicBezTo>
                  <a:pt x="12827" y="8579"/>
                  <a:pt x="12865" y="8504"/>
                  <a:pt x="12849" y="8409"/>
                </a:cubicBezTo>
                <a:cubicBezTo>
                  <a:pt x="12841" y="8359"/>
                  <a:pt x="12772" y="8296"/>
                  <a:pt x="12725" y="8285"/>
                </a:cubicBezTo>
                <a:cubicBezTo>
                  <a:pt x="12652" y="8268"/>
                  <a:pt x="12622" y="8262"/>
                  <a:pt x="12551" y="8310"/>
                </a:cubicBezTo>
                <a:cubicBezTo>
                  <a:pt x="12543" y="8318"/>
                  <a:pt x="12534" y="8326"/>
                  <a:pt x="12526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2"/>
          <p:cNvSpPr/>
          <p:nvPr/>
        </p:nvSpPr>
        <p:spPr>
          <a:xfrm>
            <a:off x="3956040" y="3017880"/>
            <a:ext cx="2044800" cy="509400"/>
          </a:xfrm>
          <a:custGeom>
            <a:avLst/>
            <a:gdLst/>
            <a:ahLst/>
            <a:rect l="l" t="t" r="r" b="b"/>
            <a:pathLst>
              <a:path w="5682" h="1415">
                <a:moveTo>
                  <a:pt x="10988" y="8806"/>
                </a:moveTo>
                <a:cubicBezTo>
                  <a:pt x="11043" y="8860"/>
                  <a:pt x="11056" y="8881"/>
                  <a:pt x="11088" y="8954"/>
                </a:cubicBezTo>
                <a:cubicBezTo>
                  <a:pt x="11125" y="9037"/>
                  <a:pt x="11172" y="9103"/>
                  <a:pt x="11212" y="9178"/>
                </a:cubicBezTo>
                <a:cubicBezTo>
                  <a:pt x="11263" y="9275"/>
                  <a:pt x="11317" y="9300"/>
                  <a:pt x="11385" y="9376"/>
                </a:cubicBezTo>
                <a:cubicBezTo>
                  <a:pt x="11457" y="9456"/>
                  <a:pt x="11498" y="9465"/>
                  <a:pt x="11584" y="9525"/>
                </a:cubicBezTo>
                <a:cubicBezTo>
                  <a:pt x="11614" y="9555"/>
                  <a:pt x="11628" y="9560"/>
                  <a:pt x="11658" y="9525"/>
                </a:cubicBezTo>
              </a:path>
              <a:path w="5682" h="1415">
                <a:moveTo>
                  <a:pt x="11460" y="8657"/>
                </a:moveTo>
                <a:cubicBezTo>
                  <a:pt x="11419" y="8780"/>
                  <a:pt x="11361" y="8886"/>
                  <a:pt x="11311" y="9004"/>
                </a:cubicBezTo>
                <a:cubicBezTo>
                  <a:pt x="11270" y="9099"/>
                  <a:pt x="11235" y="9185"/>
                  <a:pt x="11187" y="9277"/>
                </a:cubicBezTo>
                <a:cubicBezTo>
                  <a:pt x="11162" y="9324"/>
                  <a:pt x="11035" y="9410"/>
                  <a:pt x="11088" y="9401"/>
                </a:cubicBezTo>
                <a:cubicBezTo>
                  <a:pt x="11104" y="9393"/>
                  <a:pt x="11121" y="9384"/>
                  <a:pt x="11137" y="9376"/>
                </a:cubicBezTo>
              </a:path>
              <a:path w="5682" h="1415">
                <a:moveTo>
                  <a:pt x="11757" y="8533"/>
                </a:moveTo>
                <a:cubicBezTo>
                  <a:pt x="11741" y="8577"/>
                  <a:pt x="11668" y="8685"/>
                  <a:pt x="11683" y="8731"/>
                </a:cubicBezTo>
                <a:cubicBezTo>
                  <a:pt x="11704" y="8794"/>
                  <a:pt x="11783" y="8781"/>
                  <a:pt x="11832" y="8781"/>
                </a:cubicBezTo>
                <a:cubicBezTo>
                  <a:pt x="11840" y="8781"/>
                  <a:pt x="11849" y="8781"/>
                  <a:pt x="11857" y="8781"/>
                </a:cubicBezTo>
              </a:path>
              <a:path w="5682" h="1415">
                <a:moveTo>
                  <a:pt x="11906" y="8384"/>
                </a:moveTo>
                <a:cubicBezTo>
                  <a:pt x="11843" y="8479"/>
                  <a:pt x="11760" y="8598"/>
                  <a:pt x="11733" y="8706"/>
                </a:cubicBezTo>
                <a:cubicBezTo>
                  <a:pt x="11715" y="8780"/>
                  <a:pt x="11721" y="8918"/>
                  <a:pt x="11757" y="8979"/>
                </a:cubicBezTo>
              </a:path>
              <a:path w="5682" h="1415">
                <a:moveTo>
                  <a:pt x="12179" y="9079"/>
                </a:moveTo>
                <a:cubicBezTo>
                  <a:pt x="12179" y="9158"/>
                  <a:pt x="12170" y="9278"/>
                  <a:pt x="12204" y="9351"/>
                </a:cubicBezTo>
                <a:cubicBezTo>
                  <a:pt x="12234" y="9416"/>
                  <a:pt x="12265" y="9355"/>
                  <a:pt x="12278" y="9451"/>
                </a:cubicBezTo>
              </a:path>
              <a:path w="5682" h="1415">
                <a:moveTo>
                  <a:pt x="12080" y="9128"/>
                </a:moveTo>
                <a:cubicBezTo>
                  <a:pt x="12079" y="9057"/>
                  <a:pt x="12158" y="9119"/>
                  <a:pt x="12229" y="9128"/>
                </a:cubicBezTo>
                <a:cubicBezTo>
                  <a:pt x="12298" y="9137"/>
                  <a:pt x="12360" y="9111"/>
                  <a:pt x="12427" y="9103"/>
                </a:cubicBezTo>
              </a:path>
              <a:path w="5682" h="1415">
                <a:moveTo>
                  <a:pt x="12874" y="8781"/>
                </a:moveTo>
                <a:cubicBezTo>
                  <a:pt x="12846" y="8855"/>
                  <a:pt x="12832" y="8928"/>
                  <a:pt x="12799" y="9004"/>
                </a:cubicBezTo>
                <a:cubicBezTo>
                  <a:pt x="12766" y="9081"/>
                  <a:pt x="12732" y="9138"/>
                  <a:pt x="12750" y="9227"/>
                </a:cubicBezTo>
                <a:cubicBezTo>
                  <a:pt x="12775" y="9349"/>
                  <a:pt x="12797" y="9341"/>
                  <a:pt x="12874" y="9401"/>
                </a:cubicBezTo>
                <a:cubicBezTo>
                  <a:pt x="12918" y="9435"/>
                  <a:pt x="13005" y="9488"/>
                  <a:pt x="13072" y="9451"/>
                </a:cubicBezTo>
                <a:cubicBezTo>
                  <a:pt x="13128" y="9420"/>
                  <a:pt x="13255" y="9339"/>
                  <a:pt x="13271" y="9277"/>
                </a:cubicBezTo>
                <a:cubicBezTo>
                  <a:pt x="13290" y="9206"/>
                  <a:pt x="13271" y="9095"/>
                  <a:pt x="13246" y="9029"/>
                </a:cubicBezTo>
                <a:cubicBezTo>
                  <a:pt x="13212" y="8940"/>
                  <a:pt x="13165" y="8911"/>
                  <a:pt x="13097" y="8855"/>
                </a:cubicBezTo>
                <a:cubicBezTo>
                  <a:pt x="13025" y="8795"/>
                  <a:pt x="12986" y="8791"/>
                  <a:pt x="12898" y="8830"/>
                </a:cubicBezTo>
                <a:cubicBezTo>
                  <a:pt x="12847" y="8853"/>
                  <a:pt x="12836" y="8858"/>
                  <a:pt x="12824" y="8905"/>
                </a:cubicBezTo>
              </a:path>
              <a:path w="5682" h="1415">
                <a:moveTo>
                  <a:pt x="13469" y="9004"/>
                </a:moveTo>
                <a:cubicBezTo>
                  <a:pt x="13494" y="9099"/>
                  <a:pt x="13514" y="9243"/>
                  <a:pt x="13568" y="9327"/>
                </a:cubicBezTo>
                <a:cubicBezTo>
                  <a:pt x="13607" y="9388"/>
                  <a:pt x="13711" y="9478"/>
                  <a:pt x="13767" y="9525"/>
                </a:cubicBezTo>
                <a:cubicBezTo>
                  <a:pt x="13830" y="9577"/>
                  <a:pt x="13866" y="9590"/>
                  <a:pt x="13940" y="9599"/>
                </a:cubicBezTo>
              </a:path>
              <a:path w="5682" h="1415">
                <a:moveTo>
                  <a:pt x="13717" y="9079"/>
                </a:moveTo>
                <a:cubicBezTo>
                  <a:pt x="13670" y="9159"/>
                  <a:pt x="13553" y="9305"/>
                  <a:pt x="13519" y="9401"/>
                </a:cubicBezTo>
                <a:cubicBezTo>
                  <a:pt x="13498" y="9483"/>
                  <a:pt x="13490" y="9499"/>
                  <a:pt x="13494" y="9550"/>
                </a:cubicBezTo>
              </a:path>
              <a:path w="5682" h="1415">
                <a:moveTo>
                  <a:pt x="13990" y="8582"/>
                </a:moveTo>
                <a:cubicBezTo>
                  <a:pt x="14057" y="8570"/>
                  <a:pt x="14191" y="8557"/>
                  <a:pt x="14163" y="8682"/>
                </a:cubicBezTo>
                <a:cubicBezTo>
                  <a:pt x="14157" y="8709"/>
                  <a:pt x="14085" y="8760"/>
                  <a:pt x="14064" y="8781"/>
                </a:cubicBezTo>
                <a:cubicBezTo>
                  <a:pt x="14110" y="8788"/>
                  <a:pt x="14186" y="8805"/>
                  <a:pt x="14213" y="8855"/>
                </a:cubicBezTo>
                <a:cubicBezTo>
                  <a:pt x="14235" y="8920"/>
                  <a:pt x="14243" y="8935"/>
                  <a:pt x="14238" y="8979"/>
                </a:cubicBezTo>
                <a:cubicBezTo>
                  <a:pt x="14156" y="8979"/>
                  <a:pt x="14089" y="8986"/>
                  <a:pt x="14015" y="8954"/>
                </a:cubicBezTo>
                <a:cubicBezTo>
                  <a:pt x="13964" y="8932"/>
                  <a:pt x="13915" y="8905"/>
                  <a:pt x="13866" y="8880"/>
                </a:cubicBezTo>
              </a:path>
              <a:path w="5682" h="1415">
                <a:moveTo>
                  <a:pt x="14684" y="9178"/>
                </a:moveTo>
                <a:cubicBezTo>
                  <a:pt x="14833" y="9178"/>
                  <a:pt x="14982" y="9178"/>
                  <a:pt x="15131" y="9178"/>
                </a:cubicBezTo>
              </a:path>
              <a:path w="5682" h="1415">
                <a:moveTo>
                  <a:pt x="15602" y="8830"/>
                </a:moveTo>
                <a:cubicBezTo>
                  <a:pt x="15636" y="8956"/>
                  <a:pt x="15606" y="9039"/>
                  <a:pt x="15602" y="9178"/>
                </a:cubicBezTo>
                <a:cubicBezTo>
                  <a:pt x="15599" y="9300"/>
                  <a:pt x="15614" y="9408"/>
                  <a:pt x="15627" y="9525"/>
                </a:cubicBezTo>
                <a:cubicBezTo>
                  <a:pt x="15627" y="9586"/>
                  <a:pt x="15618" y="9602"/>
                  <a:pt x="15652" y="9624"/>
                </a:cubicBezTo>
              </a:path>
              <a:path w="5682" h="1415">
                <a:moveTo>
                  <a:pt x="15900" y="9203"/>
                </a:moveTo>
                <a:cubicBezTo>
                  <a:pt x="15926" y="9275"/>
                  <a:pt x="15956" y="9388"/>
                  <a:pt x="15999" y="9451"/>
                </a:cubicBezTo>
                <a:cubicBezTo>
                  <a:pt x="16055" y="9534"/>
                  <a:pt x="16121" y="9584"/>
                  <a:pt x="16197" y="9649"/>
                </a:cubicBezTo>
                <a:cubicBezTo>
                  <a:pt x="16249" y="9694"/>
                  <a:pt x="16284" y="9717"/>
                  <a:pt x="16346" y="9748"/>
                </a:cubicBezTo>
              </a:path>
              <a:path w="5682" h="1415">
                <a:moveTo>
                  <a:pt x="16297" y="9079"/>
                </a:moveTo>
                <a:cubicBezTo>
                  <a:pt x="16229" y="9165"/>
                  <a:pt x="16095" y="9299"/>
                  <a:pt x="16049" y="9401"/>
                </a:cubicBezTo>
                <a:cubicBezTo>
                  <a:pt x="16009" y="9491"/>
                  <a:pt x="15965" y="9625"/>
                  <a:pt x="15949" y="9723"/>
                </a:cubicBezTo>
                <a:cubicBezTo>
                  <a:pt x="15949" y="9765"/>
                  <a:pt x="15949" y="9773"/>
                  <a:pt x="15949" y="9798"/>
                </a:cubicBezTo>
              </a:path>
              <a:path w="5682" h="1415">
                <a:moveTo>
                  <a:pt x="16520" y="8657"/>
                </a:moveTo>
                <a:cubicBezTo>
                  <a:pt x="16579" y="8705"/>
                  <a:pt x="16594" y="8751"/>
                  <a:pt x="16545" y="8830"/>
                </a:cubicBezTo>
                <a:cubicBezTo>
                  <a:pt x="16520" y="8870"/>
                  <a:pt x="16457" y="8895"/>
                  <a:pt x="16421" y="8930"/>
                </a:cubicBezTo>
                <a:cubicBezTo>
                  <a:pt x="16413" y="8938"/>
                  <a:pt x="16404" y="8946"/>
                  <a:pt x="16396" y="8954"/>
                </a:cubicBezTo>
                <a:cubicBezTo>
                  <a:pt x="16437" y="8995"/>
                  <a:pt x="16486" y="9024"/>
                  <a:pt x="16545" y="9029"/>
                </a:cubicBezTo>
                <a:cubicBezTo>
                  <a:pt x="16586" y="9029"/>
                  <a:pt x="16628" y="9029"/>
                  <a:pt x="16669" y="9029"/>
                </a:cubicBezTo>
              </a:path>
              <a:path w="5682" h="1415">
                <a:moveTo>
                  <a:pt x="14982" y="8954"/>
                </a:moveTo>
                <a:cubicBezTo>
                  <a:pt x="14982" y="9043"/>
                  <a:pt x="14992" y="9128"/>
                  <a:pt x="15007" y="9203"/>
                </a:cubicBezTo>
                <a:cubicBezTo>
                  <a:pt x="15017" y="9254"/>
                  <a:pt x="15025" y="9299"/>
                  <a:pt x="15032" y="9351"/>
                </a:cubicBezTo>
              </a:path>
              <a:path w="5682" h="1415">
                <a:moveTo>
                  <a:pt x="15007" y="8756"/>
                </a:moveTo>
                <a:cubicBezTo>
                  <a:pt x="14896" y="8756"/>
                  <a:pt x="14855" y="8759"/>
                  <a:pt x="14759" y="8806"/>
                </a:cubicBezTo>
                <a:cubicBezTo>
                  <a:pt x="14703" y="8834"/>
                  <a:pt x="14646" y="8877"/>
                  <a:pt x="14610" y="8930"/>
                </a:cubicBezTo>
                <a:cubicBezTo>
                  <a:pt x="14568" y="8993"/>
                  <a:pt x="14575" y="9114"/>
                  <a:pt x="14610" y="9178"/>
                </a:cubicBezTo>
                <a:cubicBezTo>
                  <a:pt x="14648" y="9247"/>
                  <a:pt x="14711" y="9299"/>
                  <a:pt x="14784" y="9327"/>
                </a:cubicBezTo>
                <a:cubicBezTo>
                  <a:pt x="14893" y="9369"/>
                  <a:pt x="14925" y="9364"/>
                  <a:pt x="15032" y="9351"/>
                </a:cubicBezTo>
                <a:cubicBezTo>
                  <a:pt x="15125" y="9339"/>
                  <a:pt x="15181" y="9310"/>
                  <a:pt x="15230" y="9227"/>
                </a:cubicBezTo>
                <a:cubicBezTo>
                  <a:pt x="15273" y="9154"/>
                  <a:pt x="15261" y="9098"/>
                  <a:pt x="15255" y="9029"/>
                </a:cubicBezTo>
                <a:cubicBezTo>
                  <a:pt x="15250" y="8974"/>
                  <a:pt x="15242" y="8888"/>
                  <a:pt x="15180" y="8855"/>
                </a:cubicBezTo>
                <a:cubicBezTo>
                  <a:pt x="15111" y="8818"/>
                  <a:pt x="15097" y="8846"/>
                  <a:pt x="15081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3"/>
          <p:cNvSpPr/>
          <p:nvPr/>
        </p:nvSpPr>
        <p:spPr>
          <a:xfrm>
            <a:off x="5313240" y="3571920"/>
            <a:ext cx="2000520" cy="349200"/>
          </a:xfrm>
          <a:custGeom>
            <a:avLst/>
            <a:gdLst/>
            <a:ahLst/>
            <a:rect l="l" t="t" r="r" b="b"/>
            <a:pathLst>
              <a:path w="5557" h="968">
                <a:moveTo>
                  <a:pt x="14759" y="10269"/>
                </a:moveTo>
                <a:cubicBezTo>
                  <a:pt x="14845" y="10293"/>
                  <a:pt x="14922" y="10276"/>
                  <a:pt x="15007" y="10294"/>
                </a:cubicBezTo>
                <a:cubicBezTo>
                  <a:pt x="15091" y="10312"/>
                  <a:pt x="15100" y="10304"/>
                  <a:pt x="15180" y="10294"/>
                </a:cubicBezTo>
              </a:path>
              <a:path w="5557" h="968">
                <a:moveTo>
                  <a:pt x="15503" y="10096"/>
                </a:moveTo>
                <a:cubicBezTo>
                  <a:pt x="15570" y="10045"/>
                  <a:pt x="15657" y="10018"/>
                  <a:pt x="15751" y="10046"/>
                </a:cubicBezTo>
                <a:cubicBezTo>
                  <a:pt x="15813" y="10064"/>
                  <a:pt x="15834" y="10171"/>
                  <a:pt x="15825" y="10220"/>
                </a:cubicBezTo>
                <a:cubicBezTo>
                  <a:pt x="15810" y="10299"/>
                  <a:pt x="15750" y="10384"/>
                  <a:pt x="15701" y="10443"/>
                </a:cubicBezTo>
                <a:cubicBezTo>
                  <a:pt x="15665" y="10486"/>
                  <a:pt x="15588" y="10556"/>
                  <a:pt x="15577" y="10616"/>
                </a:cubicBezTo>
                <a:cubicBezTo>
                  <a:pt x="15556" y="10730"/>
                  <a:pt x="15596" y="10761"/>
                  <a:pt x="15677" y="10790"/>
                </a:cubicBezTo>
                <a:cubicBezTo>
                  <a:pt x="15763" y="10821"/>
                  <a:pt x="15809" y="10800"/>
                  <a:pt x="15900" y="10790"/>
                </a:cubicBezTo>
              </a:path>
              <a:path w="5557" h="968">
                <a:moveTo>
                  <a:pt x="16098" y="10368"/>
                </a:moveTo>
                <a:cubicBezTo>
                  <a:pt x="16168" y="10458"/>
                  <a:pt x="16226" y="10553"/>
                  <a:pt x="16297" y="10641"/>
                </a:cubicBezTo>
                <a:cubicBezTo>
                  <a:pt x="16360" y="10720"/>
                  <a:pt x="16447" y="10773"/>
                  <a:pt x="16520" y="10840"/>
                </a:cubicBezTo>
                <a:cubicBezTo>
                  <a:pt x="16552" y="10870"/>
                  <a:pt x="16577" y="10881"/>
                  <a:pt x="16619" y="10889"/>
                </a:cubicBezTo>
              </a:path>
              <a:path w="5557" h="968">
                <a:moveTo>
                  <a:pt x="16545" y="10294"/>
                </a:moveTo>
                <a:cubicBezTo>
                  <a:pt x="16537" y="10286"/>
                  <a:pt x="16528" y="10277"/>
                  <a:pt x="16520" y="10269"/>
                </a:cubicBezTo>
                <a:cubicBezTo>
                  <a:pt x="16483" y="10342"/>
                  <a:pt x="16441" y="10429"/>
                  <a:pt x="16396" y="10492"/>
                </a:cubicBezTo>
                <a:cubicBezTo>
                  <a:pt x="16338" y="10573"/>
                  <a:pt x="16274" y="10655"/>
                  <a:pt x="16222" y="10740"/>
                </a:cubicBezTo>
                <a:cubicBezTo>
                  <a:pt x="16214" y="10757"/>
                  <a:pt x="16205" y="10773"/>
                  <a:pt x="16197" y="10790"/>
                </a:cubicBezTo>
              </a:path>
              <a:path w="5557" h="968">
                <a:moveTo>
                  <a:pt x="16694" y="9922"/>
                </a:moveTo>
                <a:cubicBezTo>
                  <a:pt x="16788" y="9922"/>
                  <a:pt x="16809" y="9901"/>
                  <a:pt x="16842" y="9947"/>
                </a:cubicBezTo>
                <a:cubicBezTo>
                  <a:pt x="16859" y="9997"/>
                  <a:pt x="16858" y="10070"/>
                  <a:pt x="16818" y="10120"/>
                </a:cubicBezTo>
                <a:cubicBezTo>
                  <a:pt x="16788" y="10157"/>
                  <a:pt x="16733" y="10214"/>
                  <a:pt x="16818" y="10244"/>
                </a:cubicBezTo>
                <a:cubicBezTo>
                  <a:pt x="16869" y="10262"/>
                  <a:pt x="16962" y="10244"/>
                  <a:pt x="17016" y="10244"/>
                </a:cubicBezTo>
              </a:path>
              <a:path w="5557" h="968">
                <a:moveTo>
                  <a:pt x="17214" y="10492"/>
                </a:moveTo>
                <a:cubicBezTo>
                  <a:pt x="17314" y="10498"/>
                  <a:pt x="17462" y="10548"/>
                  <a:pt x="17562" y="10517"/>
                </a:cubicBezTo>
                <a:cubicBezTo>
                  <a:pt x="17570" y="10509"/>
                  <a:pt x="17579" y="10500"/>
                  <a:pt x="17587" y="10492"/>
                </a:cubicBezTo>
              </a:path>
              <a:path w="5557" h="968">
                <a:moveTo>
                  <a:pt x="17438" y="10145"/>
                </a:moveTo>
                <a:cubicBezTo>
                  <a:pt x="17423" y="10267"/>
                  <a:pt x="17389" y="10440"/>
                  <a:pt x="17413" y="10567"/>
                </a:cubicBezTo>
                <a:cubicBezTo>
                  <a:pt x="17422" y="10616"/>
                  <a:pt x="17433" y="10689"/>
                  <a:pt x="17438" y="10691"/>
                </a:cubicBezTo>
              </a:path>
              <a:path w="5557" h="968">
                <a:moveTo>
                  <a:pt x="17810" y="10170"/>
                </a:moveTo>
                <a:cubicBezTo>
                  <a:pt x="17787" y="10274"/>
                  <a:pt x="17739" y="10386"/>
                  <a:pt x="17735" y="10492"/>
                </a:cubicBezTo>
                <a:cubicBezTo>
                  <a:pt x="17732" y="10556"/>
                  <a:pt x="17759" y="10668"/>
                  <a:pt x="17810" y="10716"/>
                </a:cubicBezTo>
                <a:cubicBezTo>
                  <a:pt x="17850" y="10753"/>
                  <a:pt x="17950" y="10820"/>
                  <a:pt x="18008" y="10815"/>
                </a:cubicBezTo>
                <a:cubicBezTo>
                  <a:pt x="18112" y="10806"/>
                  <a:pt x="18142" y="10747"/>
                  <a:pt x="18182" y="10666"/>
                </a:cubicBezTo>
                <a:cubicBezTo>
                  <a:pt x="18218" y="10594"/>
                  <a:pt x="18222" y="10474"/>
                  <a:pt x="18207" y="10393"/>
                </a:cubicBezTo>
                <a:cubicBezTo>
                  <a:pt x="18186" y="10280"/>
                  <a:pt x="18112" y="10214"/>
                  <a:pt x="18033" y="10145"/>
                </a:cubicBezTo>
                <a:cubicBezTo>
                  <a:pt x="17979" y="10098"/>
                  <a:pt x="17941" y="10073"/>
                  <a:pt x="17884" y="10096"/>
                </a:cubicBezTo>
              </a:path>
              <a:path w="5557" h="968">
                <a:moveTo>
                  <a:pt x="18331" y="10244"/>
                </a:moveTo>
                <a:cubicBezTo>
                  <a:pt x="18383" y="10362"/>
                  <a:pt x="18432" y="10465"/>
                  <a:pt x="18504" y="10567"/>
                </a:cubicBezTo>
                <a:cubicBezTo>
                  <a:pt x="18576" y="10668"/>
                  <a:pt x="18681" y="10772"/>
                  <a:pt x="18802" y="10815"/>
                </a:cubicBezTo>
                <a:cubicBezTo>
                  <a:pt x="18810" y="10815"/>
                  <a:pt x="18819" y="10815"/>
                  <a:pt x="18827" y="10815"/>
                </a:cubicBezTo>
              </a:path>
              <a:path w="5557" h="968">
                <a:moveTo>
                  <a:pt x="18579" y="10244"/>
                </a:moveTo>
                <a:cubicBezTo>
                  <a:pt x="18508" y="10334"/>
                  <a:pt x="18419" y="10423"/>
                  <a:pt x="18355" y="10517"/>
                </a:cubicBezTo>
                <a:cubicBezTo>
                  <a:pt x="18320" y="10568"/>
                  <a:pt x="18234" y="10644"/>
                  <a:pt x="18256" y="10716"/>
                </a:cubicBezTo>
                <a:cubicBezTo>
                  <a:pt x="18264" y="10724"/>
                  <a:pt x="18273" y="10732"/>
                  <a:pt x="18281" y="10740"/>
                </a:cubicBezTo>
              </a:path>
              <a:path w="5557" h="968">
                <a:moveTo>
                  <a:pt x="19149" y="10170"/>
                </a:moveTo>
                <a:cubicBezTo>
                  <a:pt x="19157" y="10265"/>
                  <a:pt x="19185" y="10353"/>
                  <a:pt x="19199" y="10443"/>
                </a:cubicBezTo>
                <a:cubicBezTo>
                  <a:pt x="19211" y="10515"/>
                  <a:pt x="19194" y="10599"/>
                  <a:pt x="19224" y="10666"/>
                </a:cubicBezTo>
                <a:cubicBezTo>
                  <a:pt x="19247" y="10718"/>
                  <a:pt x="19255" y="10712"/>
                  <a:pt x="19224" y="10765"/>
                </a:cubicBezTo>
              </a:path>
              <a:path w="5557" h="968">
                <a:moveTo>
                  <a:pt x="18951" y="10492"/>
                </a:moveTo>
                <a:cubicBezTo>
                  <a:pt x="19035" y="10524"/>
                  <a:pt x="19086" y="10525"/>
                  <a:pt x="19174" y="10492"/>
                </a:cubicBezTo>
                <a:cubicBezTo>
                  <a:pt x="19191" y="10484"/>
                  <a:pt x="19207" y="10476"/>
                  <a:pt x="19224" y="10468"/>
                </a:cubicBezTo>
              </a:path>
              <a:path w="5557" h="968">
                <a:moveTo>
                  <a:pt x="19571" y="10096"/>
                </a:moveTo>
                <a:cubicBezTo>
                  <a:pt x="19647" y="10019"/>
                  <a:pt x="19660" y="10004"/>
                  <a:pt x="19769" y="10046"/>
                </a:cubicBezTo>
                <a:cubicBezTo>
                  <a:pt x="19853" y="10078"/>
                  <a:pt x="19865" y="10163"/>
                  <a:pt x="19869" y="10244"/>
                </a:cubicBezTo>
                <a:cubicBezTo>
                  <a:pt x="19873" y="10327"/>
                  <a:pt x="19837" y="10352"/>
                  <a:pt x="19819" y="10418"/>
                </a:cubicBezTo>
                <a:cubicBezTo>
                  <a:pt x="19803" y="10478"/>
                  <a:pt x="19792" y="10514"/>
                  <a:pt x="19745" y="10567"/>
                </a:cubicBezTo>
                <a:cubicBezTo>
                  <a:pt x="19722" y="10593"/>
                  <a:pt x="19695" y="10616"/>
                  <a:pt x="19670" y="10641"/>
                </a:cubicBezTo>
                <a:cubicBezTo>
                  <a:pt x="19717" y="10669"/>
                  <a:pt x="19762" y="10688"/>
                  <a:pt x="19819" y="10691"/>
                </a:cubicBezTo>
                <a:cubicBezTo>
                  <a:pt x="19984" y="10699"/>
                  <a:pt x="20150" y="10691"/>
                  <a:pt x="20315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4"/>
          <p:cNvSpPr/>
          <p:nvPr/>
        </p:nvSpPr>
        <p:spPr>
          <a:xfrm>
            <a:off x="5375160" y="3946680"/>
            <a:ext cx="1849680" cy="474480"/>
          </a:xfrm>
          <a:custGeom>
            <a:avLst/>
            <a:gdLst/>
            <a:ahLst/>
            <a:rect l="l" t="t" r="r" b="b"/>
            <a:pathLst>
              <a:path w="5136" h="1315">
                <a:moveTo>
                  <a:pt x="15032" y="11559"/>
                </a:moveTo>
                <a:cubicBezTo>
                  <a:pt x="15097" y="11568"/>
                  <a:pt x="15160" y="11570"/>
                  <a:pt x="15230" y="11584"/>
                </a:cubicBezTo>
                <a:cubicBezTo>
                  <a:pt x="15334" y="11604"/>
                  <a:pt x="15324" y="11613"/>
                  <a:pt x="15429" y="11584"/>
                </a:cubicBezTo>
              </a:path>
              <a:path w="5136" h="1315">
                <a:moveTo>
                  <a:pt x="15701" y="11212"/>
                </a:moveTo>
                <a:cubicBezTo>
                  <a:pt x="15761" y="11178"/>
                  <a:pt x="15786" y="11155"/>
                  <a:pt x="15850" y="11187"/>
                </a:cubicBezTo>
                <a:cubicBezTo>
                  <a:pt x="15919" y="11222"/>
                  <a:pt x="15900" y="11290"/>
                  <a:pt x="15875" y="11336"/>
                </a:cubicBezTo>
                <a:cubicBezTo>
                  <a:pt x="15835" y="11409"/>
                  <a:pt x="15818" y="11438"/>
                  <a:pt x="15776" y="11509"/>
                </a:cubicBezTo>
                <a:cubicBezTo>
                  <a:pt x="15752" y="11549"/>
                  <a:pt x="15688" y="11616"/>
                  <a:pt x="15677" y="11658"/>
                </a:cubicBezTo>
                <a:cubicBezTo>
                  <a:pt x="15653" y="11750"/>
                  <a:pt x="15724" y="11831"/>
                  <a:pt x="15776" y="11881"/>
                </a:cubicBezTo>
                <a:cubicBezTo>
                  <a:pt x="15848" y="11949"/>
                  <a:pt x="15877" y="11956"/>
                  <a:pt x="15974" y="11956"/>
                </a:cubicBezTo>
              </a:path>
              <a:path w="5136" h="1315">
                <a:moveTo>
                  <a:pt x="16098" y="11410"/>
                </a:moveTo>
                <a:cubicBezTo>
                  <a:pt x="16131" y="11500"/>
                  <a:pt x="16181" y="11554"/>
                  <a:pt x="16222" y="11633"/>
                </a:cubicBezTo>
                <a:cubicBezTo>
                  <a:pt x="16272" y="11729"/>
                  <a:pt x="16315" y="11786"/>
                  <a:pt x="16396" y="11857"/>
                </a:cubicBezTo>
                <a:cubicBezTo>
                  <a:pt x="16440" y="11896"/>
                  <a:pt x="16466" y="11943"/>
                  <a:pt x="16520" y="11956"/>
                </a:cubicBezTo>
              </a:path>
              <a:path w="5136" h="1315">
                <a:moveTo>
                  <a:pt x="16421" y="11311"/>
                </a:moveTo>
                <a:cubicBezTo>
                  <a:pt x="16338" y="11417"/>
                  <a:pt x="16253" y="11526"/>
                  <a:pt x="16173" y="11633"/>
                </a:cubicBezTo>
                <a:cubicBezTo>
                  <a:pt x="16110" y="11718"/>
                  <a:pt x="16098" y="11780"/>
                  <a:pt x="16098" y="11881"/>
                </a:cubicBezTo>
                <a:cubicBezTo>
                  <a:pt x="16098" y="11926"/>
                  <a:pt x="16095" y="11946"/>
                  <a:pt x="16123" y="11906"/>
                </a:cubicBezTo>
              </a:path>
              <a:path w="5136" h="1315">
                <a:moveTo>
                  <a:pt x="16470" y="10988"/>
                </a:moveTo>
                <a:cubicBezTo>
                  <a:pt x="16568" y="10975"/>
                  <a:pt x="16637" y="10945"/>
                  <a:pt x="16644" y="11063"/>
                </a:cubicBezTo>
                <a:cubicBezTo>
                  <a:pt x="16647" y="11117"/>
                  <a:pt x="16602" y="11191"/>
                  <a:pt x="16570" y="11237"/>
                </a:cubicBezTo>
                <a:cubicBezTo>
                  <a:pt x="16536" y="11286"/>
                  <a:pt x="16536" y="11324"/>
                  <a:pt x="16594" y="11361"/>
                </a:cubicBezTo>
                <a:cubicBezTo>
                  <a:pt x="16648" y="11395"/>
                  <a:pt x="16756" y="11397"/>
                  <a:pt x="16818" y="11385"/>
                </a:cubicBezTo>
                <a:cubicBezTo>
                  <a:pt x="16843" y="11377"/>
                  <a:pt x="16867" y="11369"/>
                  <a:pt x="16892" y="11361"/>
                </a:cubicBezTo>
              </a:path>
              <a:path w="5136" h="1315">
                <a:moveTo>
                  <a:pt x="17115" y="11658"/>
                </a:moveTo>
                <a:cubicBezTo>
                  <a:pt x="17232" y="11629"/>
                  <a:pt x="17297" y="11642"/>
                  <a:pt x="17413" y="11658"/>
                </a:cubicBezTo>
                <a:cubicBezTo>
                  <a:pt x="17429" y="11658"/>
                  <a:pt x="17446" y="11658"/>
                  <a:pt x="17462" y="11658"/>
                </a:cubicBezTo>
              </a:path>
              <a:path w="5136" h="1315">
                <a:moveTo>
                  <a:pt x="17388" y="11385"/>
                </a:moveTo>
                <a:cubicBezTo>
                  <a:pt x="17361" y="11483"/>
                  <a:pt x="17363" y="11579"/>
                  <a:pt x="17363" y="11683"/>
                </a:cubicBezTo>
                <a:cubicBezTo>
                  <a:pt x="17363" y="11807"/>
                  <a:pt x="17363" y="11832"/>
                  <a:pt x="17363" y="11906"/>
                </a:cubicBezTo>
              </a:path>
              <a:path w="5136" h="1315">
                <a:moveTo>
                  <a:pt x="17686" y="11410"/>
                </a:moveTo>
                <a:cubicBezTo>
                  <a:pt x="17652" y="11562"/>
                  <a:pt x="17626" y="11681"/>
                  <a:pt x="17636" y="11832"/>
                </a:cubicBezTo>
                <a:cubicBezTo>
                  <a:pt x="17642" y="11928"/>
                  <a:pt x="17703" y="11996"/>
                  <a:pt x="17785" y="12055"/>
                </a:cubicBezTo>
                <a:cubicBezTo>
                  <a:pt x="17856" y="12106"/>
                  <a:pt x="17906" y="12114"/>
                  <a:pt x="17983" y="12080"/>
                </a:cubicBezTo>
                <a:cubicBezTo>
                  <a:pt x="18055" y="12048"/>
                  <a:pt x="18101" y="11954"/>
                  <a:pt x="18132" y="11881"/>
                </a:cubicBezTo>
                <a:cubicBezTo>
                  <a:pt x="18180" y="11767"/>
                  <a:pt x="18169" y="11624"/>
                  <a:pt x="18132" y="11509"/>
                </a:cubicBezTo>
                <a:cubicBezTo>
                  <a:pt x="18111" y="11444"/>
                  <a:pt x="18026" y="11355"/>
                  <a:pt x="17959" y="11336"/>
                </a:cubicBezTo>
                <a:cubicBezTo>
                  <a:pt x="17926" y="11327"/>
                  <a:pt x="17760" y="11361"/>
                  <a:pt x="17760" y="11410"/>
                </a:cubicBezTo>
                <a:cubicBezTo>
                  <a:pt x="17780" y="11471"/>
                  <a:pt x="17778" y="11486"/>
                  <a:pt x="17810" y="11509"/>
                </a:cubicBezTo>
              </a:path>
              <a:path w="5136" h="1315">
                <a:moveTo>
                  <a:pt x="18405" y="11683"/>
                </a:moveTo>
                <a:cubicBezTo>
                  <a:pt x="18444" y="11800"/>
                  <a:pt x="18447" y="11914"/>
                  <a:pt x="18529" y="12005"/>
                </a:cubicBezTo>
                <a:cubicBezTo>
                  <a:pt x="18579" y="12055"/>
                  <a:pt x="18595" y="12071"/>
                  <a:pt x="18628" y="12105"/>
                </a:cubicBezTo>
              </a:path>
              <a:path w="5136" h="1315">
                <a:moveTo>
                  <a:pt x="18678" y="11633"/>
                </a:moveTo>
                <a:cubicBezTo>
                  <a:pt x="18525" y="11695"/>
                  <a:pt x="18365" y="11764"/>
                  <a:pt x="18231" y="11857"/>
                </a:cubicBezTo>
                <a:cubicBezTo>
                  <a:pt x="18190" y="11898"/>
                  <a:pt x="18182" y="11906"/>
                  <a:pt x="18157" y="11931"/>
                </a:cubicBezTo>
              </a:path>
              <a:path w="5136" h="1315">
                <a:moveTo>
                  <a:pt x="19124" y="11708"/>
                </a:moveTo>
                <a:cubicBezTo>
                  <a:pt x="19124" y="11818"/>
                  <a:pt x="19112" y="11925"/>
                  <a:pt x="19149" y="12030"/>
                </a:cubicBezTo>
                <a:cubicBezTo>
                  <a:pt x="19168" y="12083"/>
                  <a:pt x="19179" y="12126"/>
                  <a:pt x="19199" y="12179"/>
                </a:cubicBezTo>
              </a:path>
              <a:path w="5136" h="1315">
                <a:moveTo>
                  <a:pt x="19000" y="11881"/>
                </a:moveTo>
                <a:cubicBezTo>
                  <a:pt x="19091" y="11881"/>
                  <a:pt x="19182" y="11881"/>
                  <a:pt x="19273" y="11881"/>
                </a:cubicBezTo>
              </a:path>
              <a:path w="5136" h="1315">
                <a:moveTo>
                  <a:pt x="19645" y="11534"/>
                </a:moveTo>
                <a:cubicBezTo>
                  <a:pt x="19690" y="11526"/>
                  <a:pt x="19848" y="11501"/>
                  <a:pt x="19869" y="11584"/>
                </a:cubicBezTo>
                <a:cubicBezTo>
                  <a:pt x="19899" y="11705"/>
                  <a:pt x="19852" y="11746"/>
                  <a:pt x="19794" y="11832"/>
                </a:cubicBezTo>
                <a:cubicBezTo>
                  <a:pt x="19763" y="11877"/>
                  <a:pt x="19705" y="11951"/>
                  <a:pt x="19695" y="12005"/>
                </a:cubicBezTo>
                <a:cubicBezTo>
                  <a:pt x="19683" y="12076"/>
                  <a:pt x="19679" y="12161"/>
                  <a:pt x="19745" y="12204"/>
                </a:cubicBezTo>
                <a:cubicBezTo>
                  <a:pt x="19813" y="12248"/>
                  <a:pt x="19888" y="12275"/>
                  <a:pt x="19968" y="12278"/>
                </a:cubicBezTo>
                <a:cubicBezTo>
                  <a:pt x="20001" y="12278"/>
                  <a:pt x="20034" y="12278"/>
                  <a:pt x="20067" y="12278"/>
                </a:cubicBezTo>
              </a:path>
              <a:path w="5136" h="1315">
                <a:moveTo>
                  <a:pt x="15280" y="11435"/>
                </a:moveTo>
                <a:cubicBezTo>
                  <a:pt x="15302" y="11563"/>
                  <a:pt x="15285" y="11595"/>
                  <a:pt x="15280" y="11708"/>
                </a:cubicBezTo>
                <a:cubicBezTo>
                  <a:pt x="15280" y="11765"/>
                  <a:pt x="15263" y="11790"/>
                  <a:pt x="15304" y="11782"/>
                </a:cubicBezTo>
              </a:path>
              <a:path w="5136" h="1315">
                <a:moveTo>
                  <a:pt x="15329" y="11261"/>
                </a:moveTo>
                <a:cubicBezTo>
                  <a:pt x="15262" y="11142"/>
                  <a:pt x="15198" y="11171"/>
                  <a:pt x="15081" y="11261"/>
                </a:cubicBezTo>
                <a:cubicBezTo>
                  <a:pt x="15025" y="11304"/>
                  <a:pt x="14946" y="11391"/>
                  <a:pt x="14932" y="11460"/>
                </a:cubicBezTo>
                <a:cubicBezTo>
                  <a:pt x="14918" y="11525"/>
                  <a:pt x="14919" y="11653"/>
                  <a:pt x="14957" y="11708"/>
                </a:cubicBezTo>
                <a:cubicBezTo>
                  <a:pt x="15001" y="11771"/>
                  <a:pt x="15086" y="11851"/>
                  <a:pt x="15156" y="11881"/>
                </a:cubicBezTo>
                <a:cubicBezTo>
                  <a:pt x="15246" y="11920"/>
                  <a:pt x="15318" y="11911"/>
                  <a:pt x="15404" y="11881"/>
                </a:cubicBezTo>
                <a:cubicBezTo>
                  <a:pt x="15495" y="11850"/>
                  <a:pt x="15570" y="11780"/>
                  <a:pt x="15602" y="11683"/>
                </a:cubicBezTo>
                <a:cubicBezTo>
                  <a:pt x="15629" y="11601"/>
                  <a:pt x="15636" y="11515"/>
                  <a:pt x="15602" y="11435"/>
                </a:cubicBezTo>
                <a:cubicBezTo>
                  <a:pt x="15569" y="11357"/>
                  <a:pt x="15537" y="11339"/>
                  <a:pt x="15478" y="11286"/>
                </a:cubicBezTo>
                <a:cubicBezTo>
                  <a:pt x="15456" y="11264"/>
                  <a:pt x="15447" y="11259"/>
                  <a:pt x="15453" y="112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5"/>
          <p:cNvSpPr/>
          <p:nvPr/>
        </p:nvSpPr>
        <p:spPr>
          <a:xfrm>
            <a:off x="6742080" y="4000680"/>
            <a:ext cx="250920" cy="169560"/>
          </a:xfrm>
          <a:custGeom>
            <a:avLst/>
            <a:gdLst/>
            <a:ahLst/>
            <a:rect l="l" t="t" r="r" b="b"/>
            <a:pathLst>
              <a:path w="695" h="473">
                <a:moveTo>
                  <a:pt x="18876" y="11410"/>
                </a:moveTo>
                <a:cubicBezTo>
                  <a:pt x="18950" y="11410"/>
                  <a:pt x="19004" y="11432"/>
                  <a:pt x="19075" y="11435"/>
                </a:cubicBezTo>
                <a:cubicBezTo>
                  <a:pt x="19100" y="11435"/>
                  <a:pt x="19124" y="11435"/>
                  <a:pt x="19149" y="11435"/>
                </a:cubicBezTo>
              </a:path>
              <a:path w="695" h="473">
                <a:moveTo>
                  <a:pt x="19174" y="11212"/>
                </a:moveTo>
                <a:cubicBezTo>
                  <a:pt x="19063" y="11151"/>
                  <a:pt x="19009" y="11127"/>
                  <a:pt x="18876" y="11162"/>
                </a:cubicBezTo>
                <a:cubicBezTo>
                  <a:pt x="18791" y="11184"/>
                  <a:pt x="18710" y="11243"/>
                  <a:pt x="18728" y="11336"/>
                </a:cubicBezTo>
                <a:cubicBezTo>
                  <a:pt x="18739" y="11393"/>
                  <a:pt x="18832" y="11455"/>
                  <a:pt x="18876" y="11485"/>
                </a:cubicBezTo>
                <a:cubicBezTo>
                  <a:pt x="18957" y="11540"/>
                  <a:pt x="19025" y="11580"/>
                  <a:pt x="19124" y="11584"/>
                </a:cubicBezTo>
                <a:cubicBezTo>
                  <a:pt x="19222" y="11588"/>
                  <a:pt x="19278" y="11550"/>
                  <a:pt x="19348" y="11485"/>
                </a:cubicBezTo>
                <a:cubicBezTo>
                  <a:pt x="19384" y="11451"/>
                  <a:pt x="19414" y="11403"/>
                  <a:pt x="19422" y="11361"/>
                </a:cubicBezTo>
                <a:cubicBezTo>
                  <a:pt x="19439" y="11276"/>
                  <a:pt x="19374" y="11232"/>
                  <a:pt x="19323" y="11187"/>
                </a:cubicBezTo>
                <a:cubicBezTo>
                  <a:pt x="19271" y="11141"/>
                  <a:pt x="19179" y="11095"/>
                  <a:pt x="19100" y="11112"/>
                </a:cubicBezTo>
                <a:cubicBezTo>
                  <a:pt x="19083" y="11120"/>
                  <a:pt x="19067" y="11129"/>
                  <a:pt x="1905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6"/>
          <p:cNvSpPr/>
          <p:nvPr/>
        </p:nvSpPr>
        <p:spPr>
          <a:xfrm>
            <a:off x="7027920" y="4527720"/>
            <a:ext cx="241200" cy="330120"/>
          </a:xfrm>
          <a:custGeom>
            <a:avLst/>
            <a:gdLst/>
            <a:ahLst/>
            <a:rect l="l" t="t" r="r" b="b"/>
            <a:pathLst>
              <a:path w="671" h="919">
                <a:moveTo>
                  <a:pt x="19621" y="12700"/>
                </a:moveTo>
                <a:cubicBezTo>
                  <a:pt x="19584" y="12765"/>
                  <a:pt x="19576" y="12807"/>
                  <a:pt x="19546" y="12874"/>
                </a:cubicBezTo>
                <a:cubicBezTo>
                  <a:pt x="19506" y="12963"/>
                  <a:pt x="19516" y="13035"/>
                  <a:pt x="19546" y="13122"/>
                </a:cubicBezTo>
                <a:cubicBezTo>
                  <a:pt x="19570" y="13191"/>
                  <a:pt x="19599" y="13286"/>
                  <a:pt x="19645" y="13345"/>
                </a:cubicBezTo>
                <a:cubicBezTo>
                  <a:pt x="19677" y="13387"/>
                  <a:pt x="19746" y="13480"/>
                  <a:pt x="19794" y="13494"/>
                </a:cubicBezTo>
                <a:cubicBezTo>
                  <a:pt x="19852" y="13511"/>
                  <a:pt x="19923" y="13493"/>
                  <a:pt x="19968" y="13469"/>
                </a:cubicBezTo>
                <a:cubicBezTo>
                  <a:pt x="20106" y="13394"/>
                  <a:pt x="20155" y="13279"/>
                  <a:pt x="20191" y="13122"/>
                </a:cubicBezTo>
                <a:cubicBezTo>
                  <a:pt x="20213" y="13028"/>
                  <a:pt x="20185" y="12857"/>
                  <a:pt x="20141" y="12774"/>
                </a:cubicBezTo>
                <a:cubicBezTo>
                  <a:pt x="20094" y="12687"/>
                  <a:pt x="19995" y="12592"/>
                  <a:pt x="19893" y="12576"/>
                </a:cubicBezTo>
                <a:cubicBezTo>
                  <a:pt x="19778" y="12558"/>
                  <a:pt x="19686" y="12577"/>
                  <a:pt x="19596" y="12650"/>
                </a:cubicBezTo>
                <a:cubicBezTo>
                  <a:pt x="19549" y="12697"/>
                  <a:pt x="19535" y="12709"/>
                  <a:pt x="19521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7"/>
          <p:cNvSpPr/>
          <p:nvPr/>
        </p:nvSpPr>
        <p:spPr>
          <a:xfrm>
            <a:off x="3606840" y="3500280"/>
            <a:ext cx="2617920" cy="36720"/>
          </a:xfrm>
          <a:custGeom>
            <a:avLst/>
            <a:gdLst/>
            <a:ahLst/>
            <a:rect l="l" t="t" r="r" b="b"/>
            <a:pathLst>
              <a:path w="7269" h="101">
                <a:moveTo>
                  <a:pt x="17289" y="9748"/>
                </a:moveTo>
                <a:cubicBezTo>
                  <a:pt x="17091" y="9774"/>
                  <a:pt x="16871" y="9793"/>
                  <a:pt x="16669" y="9773"/>
                </a:cubicBezTo>
                <a:cubicBezTo>
                  <a:pt x="16582" y="9764"/>
                  <a:pt x="16510" y="9749"/>
                  <a:pt x="16421" y="9748"/>
                </a:cubicBezTo>
                <a:cubicBezTo>
                  <a:pt x="15687" y="9736"/>
                  <a:pt x="14940" y="9733"/>
                  <a:pt x="14213" y="9773"/>
                </a:cubicBezTo>
                <a:cubicBezTo>
                  <a:pt x="14089" y="9780"/>
                  <a:pt x="13960" y="9791"/>
                  <a:pt x="13841" y="9798"/>
                </a:cubicBezTo>
                <a:cubicBezTo>
                  <a:pt x="13693" y="9806"/>
                  <a:pt x="13538" y="9816"/>
                  <a:pt x="13395" y="9823"/>
                </a:cubicBezTo>
                <a:cubicBezTo>
                  <a:pt x="12877" y="9850"/>
                  <a:pt x="12344" y="9823"/>
                  <a:pt x="11832" y="9798"/>
                </a:cubicBezTo>
                <a:cubicBezTo>
                  <a:pt x="11576" y="9786"/>
                  <a:pt x="11316" y="9786"/>
                  <a:pt x="11063" y="9773"/>
                </a:cubicBezTo>
                <a:cubicBezTo>
                  <a:pt x="10766" y="9758"/>
                  <a:pt x="10462" y="9765"/>
                  <a:pt x="10170" y="9748"/>
                </a:cubicBezTo>
                <a:cubicBezTo>
                  <a:pt x="10109" y="9745"/>
                  <a:pt x="10105" y="9740"/>
                  <a:pt x="10046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8"/>
          <p:cNvSpPr/>
          <p:nvPr/>
        </p:nvSpPr>
        <p:spPr>
          <a:xfrm>
            <a:off x="5303880" y="4402080"/>
            <a:ext cx="2179440" cy="98640"/>
          </a:xfrm>
          <a:custGeom>
            <a:avLst/>
            <a:gdLst/>
            <a:ahLst/>
            <a:rect l="l" t="t" r="r" b="b"/>
            <a:pathLst>
              <a:path w="6053" h="274">
                <a:moveTo>
                  <a:pt x="20786" y="12402"/>
                </a:moveTo>
                <a:cubicBezTo>
                  <a:pt x="20692" y="12483"/>
                  <a:pt x="20743" y="12495"/>
                  <a:pt x="20588" y="12502"/>
                </a:cubicBezTo>
                <a:cubicBezTo>
                  <a:pt x="20377" y="12512"/>
                  <a:pt x="20152" y="12506"/>
                  <a:pt x="19943" y="12477"/>
                </a:cubicBezTo>
                <a:cubicBezTo>
                  <a:pt x="19760" y="12452"/>
                  <a:pt x="19583" y="12452"/>
                  <a:pt x="19397" y="12452"/>
                </a:cubicBezTo>
                <a:cubicBezTo>
                  <a:pt x="19130" y="12452"/>
                  <a:pt x="18869" y="12440"/>
                  <a:pt x="18604" y="12427"/>
                </a:cubicBezTo>
                <a:cubicBezTo>
                  <a:pt x="18356" y="12415"/>
                  <a:pt x="18106" y="12413"/>
                  <a:pt x="17859" y="12402"/>
                </a:cubicBezTo>
                <a:cubicBezTo>
                  <a:pt x="17471" y="12385"/>
                  <a:pt x="17080" y="12344"/>
                  <a:pt x="16694" y="12303"/>
                </a:cubicBezTo>
                <a:cubicBezTo>
                  <a:pt x="16357" y="12267"/>
                  <a:pt x="16041" y="12254"/>
                  <a:pt x="15701" y="12254"/>
                </a:cubicBezTo>
                <a:cubicBezTo>
                  <a:pt x="15508" y="12254"/>
                  <a:pt x="15317" y="12245"/>
                  <a:pt x="15131" y="12254"/>
                </a:cubicBezTo>
                <a:cubicBezTo>
                  <a:pt x="15031" y="12259"/>
                  <a:pt x="14880" y="12284"/>
                  <a:pt x="14784" y="12278"/>
                </a:cubicBezTo>
                <a:cubicBezTo>
                  <a:pt x="14743" y="12278"/>
                  <a:pt x="14726" y="12287"/>
                  <a:pt x="14734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 170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-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5"/>
          <p:cNvSpPr/>
          <p:nvPr/>
        </p:nvSpPr>
        <p:spPr>
          <a:xfrm>
            <a:off x="5143680" y="1731960"/>
            <a:ext cx="3714480" cy="598320"/>
          </a:xfrm>
          <a:custGeom>
            <a:avLst/>
            <a:gdLst/>
            <a:ahLst/>
            <a:rect l="l" t="t" r="r" b="b"/>
            <a:pathLst>
              <a:path w="10319" h="1663">
                <a:moveTo>
                  <a:pt x="14288" y="5631"/>
                </a:moveTo>
                <a:cubicBezTo>
                  <a:pt x="14296" y="5639"/>
                  <a:pt x="14304" y="5647"/>
                  <a:pt x="14312" y="5655"/>
                </a:cubicBezTo>
                <a:cubicBezTo>
                  <a:pt x="14356" y="5624"/>
                  <a:pt x="14379" y="5631"/>
                  <a:pt x="14436" y="5631"/>
                </a:cubicBezTo>
                <a:cubicBezTo>
                  <a:pt x="14565" y="5631"/>
                  <a:pt x="14686" y="5625"/>
                  <a:pt x="14808" y="5606"/>
                </a:cubicBezTo>
                <a:cubicBezTo>
                  <a:pt x="14854" y="5599"/>
                  <a:pt x="14910" y="5606"/>
                  <a:pt x="14957" y="5606"/>
                </a:cubicBezTo>
                <a:cubicBezTo>
                  <a:pt x="14949" y="5631"/>
                  <a:pt x="14948" y="5651"/>
                  <a:pt x="14932" y="5680"/>
                </a:cubicBezTo>
                <a:cubicBezTo>
                  <a:pt x="14904" y="5731"/>
                  <a:pt x="14929" y="5775"/>
                  <a:pt x="14908" y="5829"/>
                </a:cubicBezTo>
                <a:cubicBezTo>
                  <a:pt x="14886" y="5887"/>
                  <a:pt x="14883" y="5933"/>
                  <a:pt x="14883" y="6003"/>
                </a:cubicBezTo>
                <a:cubicBezTo>
                  <a:pt x="14883" y="6062"/>
                  <a:pt x="14872" y="6168"/>
                  <a:pt x="14858" y="6226"/>
                </a:cubicBezTo>
                <a:cubicBezTo>
                  <a:pt x="14846" y="6275"/>
                  <a:pt x="14833" y="6297"/>
                  <a:pt x="14833" y="6350"/>
                </a:cubicBezTo>
              </a:path>
              <a:path w="10319" h="1663">
                <a:moveTo>
                  <a:pt x="15106" y="6350"/>
                </a:moveTo>
                <a:cubicBezTo>
                  <a:pt x="15063" y="6393"/>
                  <a:pt x="15118" y="6368"/>
                  <a:pt x="15081" y="6350"/>
                </a:cubicBezTo>
              </a:path>
              <a:path w="10319" h="1663">
                <a:moveTo>
                  <a:pt x="15726" y="5705"/>
                </a:moveTo>
                <a:cubicBezTo>
                  <a:pt x="15761" y="5717"/>
                  <a:pt x="15759" y="5740"/>
                  <a:pt x="15776" y="5779"/>
                </a:cubicBezTo>
                <a:cubicBezTo>
                  <a:pt x="15806" y="5849"/>
                  <a:pt x="15826" y="5909"/>
                  <a:pt x="15850" y="5978"/>
                </a:cubicBezTo>
                <a:cubicBezTo>
                  <a:pt x="15885" y="6076"/>
                  <a:pt x="15943" y="6107"/>
                  <a:pt x="15999" y="6176"/>
                </a:cubicBezTo>
                <a:cubicBezTo>
                  <a:pt x="16032" y="6218"/>
                  <a:pt x="16100" y="6284"/>
                  <a:pt x="16123" y="6325"/>
                </a:cubicBezTo>
                <a:cubicBezTo>
                  <a:pt x="16135" y="6346"/>
                  <a:pt x="16142" y="6375"/>
                  <a:pt x="16148" y="6400"/>
                </a:cubicBezTo>
                <a:cubicBezTo>
                  <a:pt x="16115" y="6400"/>
                  <a:pt x="16106" y="6392"/>
                  <a:pt x="16123" y="6350"/>
                </a:cubicBezTo>
              </a:path>
              <a:path w="10319" h="1663">
                <a:moveTo>
                  <a:pt x="16272" y="5680"/>
                </a:moveTo>
                <a:cubicBezTo>
                  <a:pt x="16225" y="5727"/>
                  <a:pt x="16189" y="5780"/>
                  <a:pt x="16148" y="5829"/>
                </a:cubicBezTo>
                <a:cubicBezTo>
                  <a:pt x="16085" y="5905"/>
                  <a:pt x="16028" y="5990"/>
                  <a:pt x="15974" y="6077"/>
                </a:cubicBezTo>
                <a:cubicBezTo>
                  <a:pt x="15924" y="6158"/>
                  <a:pt x="15852" y="6223"/>
                  <a:pt x="15801" y="6300"/>
                </a:cubicBezTo>
                <a:cubicBezTo>
                  <a:pt x="15776" y="6338"/>
                  <a:pt x="15763" y="6395"/>
                  <a:pt x="15726" y="6400"/>
                </a:cubicBezTo>
                <a:cubicBezTo>
                  <a:pt x="15701" y="6400"/>
                  <a:pt x="15693" y="6400"/>
                  <a:pt x="15726" y="6400"/>
                </a:cubicBezTo>
              </a:path>
              <a:path w="10319" h="1663">
                <a:moveTo>
                  <a:pt x="16768" y="5631"/>
                </a:moveTo>
                <a:cubicBezTo>
                  <a:pt x="16761" y="5729"/>
                  <a:pt x="16743" y="5805"/>
                  <a:pt x="16743" y="5904"/>
                </a:cubicBezTo>
                <a:cubicBezTo>
                  <a:pt x="16743" y="6017"/>
                  <a:pt x="16731" y="6177"/>
                  <a:pt x="16768" y="6251"/>
                </a:cubicBezTo>
                <a:cubicBezTo>
                  <a:pt x="16768" y="6286"/>
                  <a:pt x="16763" y="6285"/>
                  <a:pt x="16743" y="6226"/>
                </a:cubicBezTo>
              </a:path>
              <a:path w="10319" h="1663">
                <a:moveTo>
                  <a:pt x="16495" y="5978"/>
                </a:moveTo>
                <a:cubicBezTo>
                  <a:pt x="16555" y="5978"/>
                  <a:pt x="16588" y="5993"/>
                  <a:pt x="16644" y="6003"/>
                </a:cubicBezTo>
                <a:cubicBezTo>
                  <a:pt x="16730" y="6018"/>
                  <a:pt x="16829" y="6003"/>
                  <a:pt x="16917" y="6003"/>
                </a:cubicBezTo>
              </a:path>
              <a:path w="10319" h="1663">
                <a:moveTo>
                  <a:pt x="17314" y="5705"/>
                </a:moveTo>
                <a:cubicBezTo>
                  <a:pt x="17356" y="5655"/>
                  <a:pt x="17417" y="5605"/>
                  <a:pt x="17487" y="5581"/>
                </a:cubicBezTo>
                <a:cubicBezTo>
                  <a:pt x="17527" y="5567"/>
                  <a:pt x="17559" y="5626"/>
                  <a:pt x="17562" y="5655"/>
                </a:cubicBezTo>
                <a:cubicBezTo>
                  <a:pt x="17570" y="5728"/>
                  <a:pt x="17547" y="5743"/>
                  <a:pt x="17487" y="5779"/>
                </a:cubicBezTo>
                <a:cubicBezTo>
                  <a:pt x="17415" y="5822"/>
                  <a:pt x="17377" y="5864"/>
                  <a:pt x="17289" y="5879"/>
                </a:cubicBezTo>
                <a:cubicBezTo>
                  <a:pt x="17339" y="5849"/>
                  <a:pt x="17376" y="5854"/>
                  <a:pt x="17438" y="5854"/>
                </a:cubicBezTo>
                <a:cubicBezTo>
                  <a:pt x="17461" y="5854"/>
                  <a:pt x="17598" y="5893"/>
                  <a:pt x="17611" y="5904"/>
                </a:cubicBezTo>
                <a:cubicBezTo>
                  <a:pt x="17629" y="5919"/>
                  <a:pt x="17727" y="5998"/>
                  <a:pt x="17735" y="6028"/>
                </a:cubicBezTo>
                <a:cubicBezTo>
                  <a:pt x="17747" y="6070"/>
                  <a:pt x="17738" y="6123"/>
                  <a:pt x="17711" y="6152"/>
                </a:cubicBezTo>
                <a:cubicBezTo>
                  <a:pt x="17671" y="6195"/>
                  <a:pt x="17574" y="6237"/>
                  <a:pt x="17512" y="6251"/>
                </a:cubicBezTo>
                <a:cubicBezTo>
                  <a:pt x="17480" y="6258"/>
                  <a:pt x="17423" y="6288"/>
                  <a:pt x="17388" y="6276"/>
                </a:cubicBezTo>
                <a:cubicBezTo>
                  <a:pt x="17318" y="6251"/>
                  <a:pt x="17331" y="6244"/>
                  <a:pt x="17363" y="6201"/>
                </a:cubicBezTo>
              </a:path>
              <a:path w="10319" h="1663">
                <a:moveTo>
                  <a:pt x="18182" y="5631"/>
                </a:moveTo>
                <a:cubicBezTo>
                  <a:pt x="18195" y="5775"/>
                  <a:pt x="18187" y="5883"/>
                  <a:pt x="18182" y="6028"/>
                </a:cubicBezTo>
                <a:cubicBezTo>
                  <a:pt x="18179" y="6118"/>
                  <a:pt x="18172" y="6192"/>
                  <a:pt x="18157" y="6276"/>
                </a:cubicBezTo>
                <a:cubicBezTo>
                  <a:pt x="18146" y="6339"/>
                  <a:pt x="18141" y="6389"/>
                  <a:pt x="18132" y="6449"/>
                </a:cubicBezTo>
                <a:cubicBezTo>
                  <a:pt x="18132" y="6457"/>
                  <a:pt x="18132" y="6466"/>
                  <a:pt x="18132" y="6474"/>
                </a:cubicBezTo>
                <a:cubicBezTo>
                  <a:pt x="18132" y="6469"/>
                  <a:pt x="18102" y="6397"/>
                  <a:pt x="18107" y="6350"/>
                </a:cubicBezTo>
                <a:cubicBezTo>
                  <a:pt x="18116" y="6257"/>
                  <a:pt x="18141" y="6169"/>
                  <a:pt x="18157" y="6077"/>
                </a:cubicBezTo>
                <a:cubicBezTo>
                  <a:pt x="18175" y="5971"/>
                  <a:pt x="18197" y="5860"/>
                  <a:pt x="18231" y="5755"/>
                </a:cubicBezTo>
                <a:cubicBezTo>
                  <a:pt x="18262" y="5661"/>
                  <a:pt x="18283" y="5578"/>
                  <a:pt x="18306" y="5482"/>
                </a:cubicBezTo>
                <a:cubicBezTo>
                  <a:pt x="18336" y="5355"/>
                  <a:pt x="18370" y="5211"/>
                  <a:pt x="18380" y="5085"/>
                </a:cubicBezTo>
                <a:cubicBezTo>
                  <a:pt x="18384" y="5036"/>
                  <a:pt x="18365" y="4941"/>
                  <a:pt x="18405" y="4911"/>
                </a:cubicBezTo>
                <a:cubicBezTo>
                  <a:pt x="18422" y="4898"/>
                  <a:pt x="18535" y="4889"/>
                  <a:pt x="18554" y="4887"/>
                </a:cubicBezTo>
                <a:cubicBezTo>
                  <a:pt x="18766" y="4860"/>
                  <a:pt x="18987" y="4881"/>
                  <a:pt x="19199" y="4862"/>
                </a:cubicBezTo>
                <a:cubicBezTo>
                  <a:pt x="19349" y="4848"/>
                  <a:pt x="19494" y="4839"/>
                  <a:pt x="19645" y="4837"/>
                </a:cubicBezTo>
                <a:cubicBezTo>
                  <a:pt x="19805" y="4835"/>
                  <a:pt x="19958" y="4816"/>
                  <a:pt x="20117" y="4812"/>
                </a:cubicBezTo>
                <a:cubicBezTo>
                  <a:pt x="20940" y="4794"/>
                  <a:pt x="21777" y="4790"/>
                  <a:pt x="22597" y="4837"/>
                </a:cubicBezTo>
                <a:cubicBezTo>
                  <a:pt x="22775" y="4847"/>
                  <a:pt x="22942" y="4838"/>
                  <a:pt x="23118" y="4862"/>
                </a:cubicBezTo>
                <a:cubicBezTo>
                  <a:pt x="23241" y="4879"/>
                  <a:pt x="23366" y="4874"/>
                  <a:pt x="23490" y="4887"/>
                </a:cubicBezTo>
                <a:cubicBezTo>
                  <a:pt x="23592" y="4898"/>
                  <a:pt x="23587" y="4907"/>
                  <a:pt x="23688" y="4887"/>
                </a:cubicBezTo>
              </a:path>
              <a:path w="10319" h="1663">
                <a:moveTo>
                  <a:pt x="18628" y="5482"/>
                </a:moveTo>
                <a:cubicBezTo>
                  <a:pt x="18643" y="5431"/>
                  <a:pt x="18646" y="5419"/>
                  <a:pt x="18703" y="5383"/>
                </a:cubicBezTo>
                <a:cubicBezTo>
                  <a:pt x="18746" y="5355"/>
                  <a:pt x="18850" y="5319"/>
                  <a:pt x="18901" y="5308"/>
                </a:cubicBezTo>
                <a:cubicBezTo>
                  <a:pt x="18971" y="5292"/>
                  <a:pt x="19038" y="5308"/>
                  <a:pt x="19100" y="5333"/>
                </a:cubicBezTo>
                <a:cubicBezTo>
                  <a:pt x="19133" y="5346"/>
                  <a:pt x="19177" y="5359"/>
                  <a:pt x="19174" y="5407"/>
                </a:cubicBezTo>
                <a:cubicBezTo>
                  <a:pt x="19170" y="5481"/>
                  <a:pt x="19090" y="5633"/>
                  <a:pt x="19050" y="5705"/>
                </a:cubicBezTo>
                <a:cubicBezTo>
                  <a:pt x="18997" y="5803"/>
                  <a:pt x="18954" y="5906"/>
                  <a:pt x="18901" y="6003"/>
                </a:cubicBezTo>
                <a:cubicBezTo>
                  <a:pt x="18858" y="6081"/>
                  <a:pt x="18805" y="6156"/>
                  <a:pt x="18752" y="6226"/>
                </a:cubicBezTo>
                <a:cubicBezTo>
                  <a:pt x="18727" y="6259"/>
                  <a:pt x="18704" y="6292"/>
                  <a:pt x="18678" y="6325"/>
                </a:cubicBezTo>
                <a:cubicBezTo>
                  <a:pt x="18708" y="6307"/>
                  <a:pt x="18705" y="6302"/>
                  <a:pt x="18752" y="6300"/>
                </a:cubicBezTo>
                <a:cubicBezTo>
                  <a:pt x="18822" y="6297"/>
                  <a:pt x="18886" y="6321"/>
                  <a:pt x="18951" y="6350"/>
                </a:cubicBezTo>
                <a:cubicBezTo>
                  <a:pt x="19012" y="6378"/>
                  <a:pt x="19056" y="6415"/>
                  <a:pt x="19124" y="6424"/>
                </a:cubicBezTo>
                <a:cubicBezTo>
                  <a:pt x="19177" y="6431"/>
                  <a:pt x="19209" y="6428"/>
                  <a:pt x="19248" y="6400"/>
                </a:cubicBezTo>
                <a:cubicBezTo>
                  <a:pt x="19293" y="6368"/>
                  <a:pt x="19321" y="6322"/>
                  <a:pt x="19348" y="6276"/>
                </a:cubicBezTo>
              </a:path>
              <a:path w="10319" h="1663">
                <a:moveTo>
                  <a:pt x="19372" y="5804"/>
                </a:moveTo>
                <a:cubicBezTo>
                  <a:pt x="19434" y="5875"/>
                  <a:pt x="19443" y="5918"/>
                  <a:pt x="19472" y="6003"/>
                </a:cubicBezTo>
                <a:cubicBezTo>
                  <a:pt x="19502" y="6091"/>
                  <a:pt x="19555" y="6165"/>
                  <a:pt x="19596" y="6251"/>
                </a:cubicBezTo>
                <a:cubicBezTo>
                  <a:pt x="19614" y="6289"/>
                  <a:pt x="19682" y="6379"/>
                  <a:pt x="19720" y="6400"/>
                </a:cubicBezTo>
                <a:cubicBezTo>
                  <a:pt x="19793" y="6441"/>
                  <a:pt x="19767" y="6401"/>
                  <a:pt x="19745" y="6325"/>
                </a:cubicBezTo>
              </a:path>
              <a:path w="10319" h="1663">
                <a:moveTo>
                  <a:pt x="19670" y="5804"/>
                </a:moveTo>
                <a:cubicBezTo>
                  <a:pt x="19617" y="5918"/>
                  <a:pt x="19547" y="6012"/>
                  <a:pt x="19496" y="6127"/>
                </a:cubicBezTo>
                <a:cubicBezTo>
                  <a:pt x="19458" y="6212"/>
                  <a:pt x="19428" y="6276"/>
                  <a:pt x="19372" y="6350"/>
                </a:cubicBezTo>
                <a:cubicBezTo>
                  <a:pt x="19348" y="6382"/>
                  <a:pt x="19279" y="6484"/>
                  <a:pt x="19323" y="6375"/>
                </a:cubicBezTo>
              </a:path>
              <a:path w="10319" h="1663">
                <a:moveTo>
                  <a:pt x="19844" y="5283"/>
                </a:moveTo>
                <a:cubicBezTo>
                  <a:pt x="19901" y="5257"/>
                  <a:pt x="19972" y="5211"/>
                  <a:pt x="20042" y="5234"/>
                </a:cubicBezTo>
                <a:cubicBezTo>
                  <a:pt x="20119" y="5260"/>
                  <a:pt x="20117" y="5287"/>
                  <a:pt x="20117" y="5358"/>
                </a:cubicBezTo>
                <a:cubicBezTo>
                  <a:pt x="20117" y="5434"/>
                  <a:pt x="20078" y="5471"/>
                  <a:pt x="20042" y="5531"/>
                </a:cubicBezTo>
                <a:cubicBezTo>
                  <a:pt x="20019" y="5570"/>
                  <a:pt x="19960" y="5617"/>
                  <a:pt x="19943" y="5655"/>
                </a:cubicBezTo>
                <a:cubicBezTo>
                  <a:pt x="19943" y="5663"/>
                  <a:pt x="19943" y="5672"/>
                  <a:pt x="19943" y="5680"/>
                </a:cubicBezTo>
                <a:cubicBezTo>
                  <a:pt x="20010" y="5680"/>
                  <a:pt x="20056" y="5666"/>
                  <a:pt x="20117" y="5655"/>
                </a:cubicBezTo>
                <a:cubicBezTo>
                  <a:pt x="20133" y="5655"/>
                  <a:pt x="20150" y="5655"/>
                  <a:pt x="20166" y="5655"/>
                </a:cubicBezTo>
              </a:path>
              <a:path w="10319" h="1663">
                <a:moveTo>
                  <a:pt x="20687" y="5680"/>
                </a:moveTo>
                <a:cubicBezTo>
                  <a:pt x="20647" y="5693"/>
                  <a:pt x="20662" y="5728"/>
                  <a:pt x="20662" y="5779"/>
                </a:cubicBezTo>
                <a:cubicBezTo>
                  <a:pt x="20662" y="5891"/>
                  <a:pt x="20655" y="6005"/>
                  <a:pt x="20687" y="6102"/>
                </a:cubicBezTo>
                <a:cubicBezTo>
                  <a:pt x="20693" y="6121"/>
                  <a:pt x="20687" y="6156"/>
                  <a:pt x="20687" y="6176"/>
                </a:cubicBezTo>
              </a:path>
              <a:path w="10319" h="1663">
                <a:moveTo>
                  <a:pt x="20464" y="5928"/>
                </a:moveTo>
                <a:cubicBezTo>
                  <a:pt x="20550" y="5948"/>
                  <a:pt x="20601" y="5953"/>
                  <a:pt x="20687" y="5953"/>
                </a:cubicBezTo>
                <a:cubicBezTo>
                  <a:pt x="20712" y="5953"/>
                  <a:pt x="20829" y="5980"/>
                  <a:pt x="20836" y="5978"/>
                </a:cubicBezTo>
                <a:cubicBezTo>
                  <a:pt x="20844" y="5970"/>
                  <a:pt x="20853" y="5961"/>
                  <a:pt x="20861" y="5953"/>
                </a:cubicBezTo>
              </a:path>
              <a:path w="10319" h="1663">
                <a:moveTo>
                  <a:pt x="21282" y="5482"/>
                </a:moveTo>
                <a:cubicBezTo>
                  <a:pt x="21295" y="5572"/>
                  <a:pt x="21299" y="5661"/>
                  <a:pt x="21282" y="5755"/>
                </a:cubicBezTo>
                <a:cubicBezTo>
                  <a:pt x="21264" y="5850"/>
                  <a:pt x="21258" y="5930"/>
                  <a:pt x="21258" y="6028"/>
                </a:cubicBezTo>
                <a:cubicBezTo>
                  <a:pt x="21258" y="6133"/>
                  <a:pt x="21262" y="6259"/>
                  <a:pt x="21233" y="6325"/>
                </a:cubicBezTo>
                <a:cubicBezTo>
                  <a:pt x="21214" y="6369"/>
                  <a:pt x="21233" y="6326"/>
                  <a:pt x="21233" y="6300"/>
                </a:cubicBezTo>
              </a:path>
              <a:path w="10319" h="1663">
                <a:moveTo>
                  <a:pt x="21630" y="5631"/>
                </a:moveTo>
                <a:cubicBezTo>
                  <a:pt x="21592" y="5735"/>
                  <a:pt x="21522" y="5842"/>
                  <a:pt x="21506" y="5953"/>
                </a:cubicBezTo>
                <a:cubicBezTo>
                  <a:pt x="21494" y="6036"/>
                  <a:pt x="21461" y="6139"/>
                  <a:pt x="21481" y="6226"/>
                </a:cubicBezTo>
                <a:cubicBezTo>
                  <a:pt x="21495" y="6289"/>
                  <a:pt x="21529" y="6386"/>
                  <a:pt x="21605" y="6400"/>
                </a:cubicBezTo>
                <a:cubicBezTo>
                  <a:pt x="21677" y="6413"/>
                  <a:pt x="21744" y="6391"/>
                  <a:pt x="21803" y="6350"/>
                </a:cubicBezTo>
                <a:cubicBezTo>
                  <a:pt x="21879" y="6297"/>
                  <a:pt x="21893" y="6232"/>
                  <a:pt x="21927" y="6152"/>
                </a:cubicBezTo>
                <a:cubicBezTo>
                  <a:pt x="21958" y="6079"/>
                  <a:pt x="21989" y="5960"/>
                  <a:pt x="21977" y="5879"/>
                </a:cubicBezTo>
                <a:cubicBezTo>
                  <a:pt x="21966" y="5804"/>
                  <a:pt x="21943" y="5721"/>
                  <a:pt x="21903" y="5655"/>
                </a:cubicBezTo>
                <a:cubicBezTo>
                  <a:pt x="21838" y="5548"/>
                  <a:pt x="21814" y="5599"/>
                  <a:pt x="21729" y="5556"/>
                </a:cubicBezTo>
                <a:cubicBezTo>
                  <a:pt x="21710" y="5547"/>
                  <a:pt x="21646" y="5531"/>
                  <a:pt x="21654" y="5556"/>
                </a:cubicBezTo>
                <a:cubicBezTo>
                  <a:pt x="21662" y="5564"/>
                  <a:pt x="21671" y="5573"/>
                  <a:pt x="21679" y="5581"/>
                </a:cubicBezTo>
              </a:path>
              <a:path w="10319" h="1663">
                <a:moveTo>
                  <a:pt x="22200" y="5854"/>
                </a:moveTo>
                <a:cubicBezTo>
                  <a:pt x="22212" y="5903"/>
                  <a:pt x="22227" y="5952"/>
                  <a:pt x="22250" y="6003"/>
                </a:cubicBezTo>
                <a:cubicBezTo>
                  <a:pt x="22280" y="6069"/>
                  <a:pt x="22270" y="6172"/>
                  <a:pt x="22324" y="6226"/>
                </a:cubicBezTo>
                <a:cubicBezTo>
                  <a:pt x="22370" y="6272"/>
                  <a:pt x="22424" y="6303"/>
                  <a:pt x="22448" y="6375"/>
                </a:cubicBezTo>
                <a:cubicBezTo>
                  <a:pt x="22455" y="6396"/>
                  <a:pt x="22473" y="6441"/>
                  <a:pt x="22473" y="6400"/>
                </a:cubicBezTo>
                <a:cubicBezTo>
                  <a:pt x="22473" y="6392"/>
                  <a:pt x="22473" y="6383"/>
                  <a:pt x="22473" y="6375"/>
                </a:cubicBezTo>
              </a:path>
              <a:path w="10319" h="1663">
                <a:moveTo>
                  <a:pt x="22448" y="5953"/>
                </a:moveTo>
                <a:cubicBezTo>
                  <a:pt x="22387" y="6038"/>
                  <a:pt x="22342" y="6126"/>
                  <a:pt x="22275" y="6201"/>
                </a:cubicBezTo>
                <a:cubicBezTo>
                  <a:pt x="22221" y="6262"/>
                  <a:pt x="22167" y="6336"/>
                  <a:pt x="22101" y="6375"/>
                </a:cubicBezTo>
                <a:cubicBezTo>
                  <a:pt x="22082" y="6386"/>
                  <a:pt x="21985" y="6436"/>
                  <a:pt x="21977" y="6449"/>
                </a:cubicBezTo>
                <a:cubicBezTo>
                  <a:pt x="21957" y="6479"/>
                  <a:pt x="21977" y="6462"/>
                  <a:pt x="21977" y="6424"/>
                </a:cubicBezTo>
              </a:path>
              <a:path w="10319" h="1663">
                <a:moveTo>
                  <a:pt x="22944" y="5680"/>
                </a:moveTo>
                <a:cubicBezTo>
                  <a:pt x="22944" y="5757"/>
                  <a:pt x="22935" y="5830"/>
                  <a:pt x="22920" y="5904"/>
                </a:cubicBezTo>
                <a:cubicBezTo>
                  <a:pt x="22900" y="6001"/>
                  <a:pt x="22895" y="6077"/>
                  <a:pt x="22895" y="6176"/>
                </a:cubicBezTo>
                <a:cubicBezTo>
                  <a:pt x="22895" y="6234"/>
                  <a:pt x="22895" y="6292"/>
                  <a:pt x="22895" y="6350"/>
                </a:cubicBezTo>
              </a:path>
              <a:path w="10319" h="1663">
                <a:moveTo>
                  <a:pt x="22671" y="5978"/>
                </a:moveTo>
                <a:cubicBezTo>
                  <a:pt x="22723" y="5998"/>
                  <a:pt x="22790" y="6018"/>
                  <a:pt x="22845" y="6028"/>
                </a:cubicBezTo>
                <a:cubicBezTo>
                  <a:pt x="22936" y="6044"/>
                  <a:pt x="23029" y="6034"/>
                  <a:pt x="23118" y="6052"/>
                </a:cubicBezTo>
                <a:cubicBezTo>
                  <a:pt x="23151" y="6052"/>
                  <a:pt x="23167" y="6052"/>
                  <a:pt x="23192" y="6052"/>
                </a:cubicBezTo>
              </a:path>
              <a:path w="10319" h="1663">
                <a:moveTo>
                  <a:pt x="23713" y="5432"/>
                </a:moveTo>
                <a:cubicBezTo>
                  <a:pt x="23713" y="5555"/>
                  <a:pt x="23692" y="5660"/>
                  <a:pt x="23688" y="5779"/>
                </a:cubicBezTo>
                <a:cubicBezTo>
                  <a:pt x="23681" y="5963"/>
                  <a:pt x="23703" y="6149"/>
                  <a:pt x="23664" y="6325"/>
                </a:cubicBezTo>
                <a:cubicBezTo>
                  <a:pt x="23664" y="6350"/>
                  <a:pt x="23664" y="6358"/>
                  <a:pt x="23664" y="6325"/>
                </a:cubicBezTo>
              </a:path>
              <a:path w="10319" h="1663">
                <a:moveTo>
                  <a:pt x="23986" y="5507"/>
                </a:moveTo>
                <a:cubicBezTo>
                  <a:pt x="24044" y="5487"/>
                  <a:pt x="24205" y="5402"/>
                  <a:pt x="24284" y="5432"/>
                </a:cubicBezTo>
                <a:cubicBezTo>
                  <a:pt x="24308" y="5441"/>
                  <a:pt x="24402" y="5466"/>
                  <a:pt x="24408" y="5507"/>
                </a:cubicBezTo>
                <a:cubicBezTo>
                  <a:pt x="24422" y="5607"/>
                  <a:pt x="24391" y="5646"/>
                  <a:pt x="24358" y="5730"/>
                </a:cubicBezTo>
                <a:cubicBezTo>
                  <a:pt x="24321" y="5823"/>
                  <a:pt x="24262" y="5872"/>
                  <a:pt x="24209" y="5953"/>
                </a:cubicBezTo>
                <a:cubicBezTo>
                  <a:pt x="24163" y="6022"/>
                  <a:pt x="24107" y="6083"/>
                  <a:pt x="24061" y="6152"/>
                </a:cubicBezTo>
                <a:cubicBezTo>
                  <a:pt x="24031" y="6196"/>
                  <a:pt x="24019" y="6240"/>
                  <a:pt x="23986" y="6276"/>
                </a:cubicBezTo>
                <a:cubicBezTo>
                  <a:pt x="23947" y="6319"/>
                  <a:pt x="23956" y="6328"/>
                  <a:pt x="23986" y="6350"/>
                </a:cubicBezTo>
                <a:cubicBezTo>
                  <a:pt x="24047" y="6396"/>
                  <a:pt x="24052" y="6400"/>
                  <a:pt x="24135" y="6400"/>
                </a:cubicBezTo>
                <a:cubicBezTo>
                  <a:pt x="24239" y="6400"/>
                  <a:pt x="24341" y="6407"/>
                  <a:pt x="24433" y="6424"/>
                </a:cubicBezTo>
                <a:cubicBezTo>
                  <a:pt x="24438" y="6425"/>
                  <a:pt x="24641" y="6423"/>
                  <a:pt x="24606" y="6449"/>
                </a:cubicBezTo>
                <a:cubicBezTo>
                  <a:pt x="24598" y="6449"/>
                  <a:pt x="24589" y="6449"/>
                  <a:pt x="24581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6"/>
          <p:cNvSpPr/>
          <p:nvPr/>
        </p:nvSpPr>
        <p:spPr>
          <a:xfrm>
            <a:off x="5214960" y="2571840"/>
            <a:ext cx="3687840" cy="615960"/>
          </a:xfrm>
          <a:custGeom>
            <a:avLst/>
            <a:gdLst/>
            <a:ahLst/>
            <a:rect l="l" t="t" r="r" b="b"/>
            <a:pathLst>
              <a:path w="10245" h="1712">
                <a:moveTo>
                  <a:pt x="14808" y="7913"/>
                </a:moveTo>
                <a:cubicBezTo>
                  <a:pt x="14828" y="7999"/>
                  <a:pt x="14830" y="8045"/>
                  <a:pt x="14883" y="8111"/>
                </a:cubicBezTo>
                <a:cubicBezTo>
                  <a:pt x="14883" y="8043"/>
                  <a:pt x="14881" y="8002"/>
                  <a:pt x="14858" y="7938"/>
                </a:cubicBezTo>
                <a:cubicBezTo>
                  <a:pt x="14837" y="7881"/>
                  <a:pt x="14818" y="7807"/>
                  <a:pt x="14784" y="7764"/>
                </a:cubicBezTo>
                <a:cubicBezTo>
                  <a:pt x="14760" y="7734"/>
                  <a:pt x="14697" y="7726"/>
                  <a:pt x="14660" y="7739"/>
                </a:cubicBezTo>
                <a:cubicBezTo>
                  <a:pt x="14588" y="7765"/>
                  <a:pt x="14545" y="7824"/>
                  <a:pt x="14511" y="7888"/>
                </a:cubicBezTo>
                <a:cubicBezTo>
                  <a:pt x="14477" y="7953"/>
                  <a:pt x="14486" y="8014"/>
                  <a:pt x="14486" y="8086"/>
                </a:cubicBezTo>
                <a:cubicBezTo>
                  <a:pt x="14486" y="8164"/>
                  <a:pt x="14482" y="8215"/>
                  <a:pt x="14560" y="8260"/>
                </a:cubicBezTo>
                <a:cubicBezTo>
                  <a:pt x="14597" y="8281"/>
                  <a:pt x="14637" y="8285"/>
                  <a:pt x="14684" y="8285"/>
                </a:cubicBezTo>
                <a:cubicBezTo>
                  <a:pt x="14739" y="8285"/>
                  <a:pt x="14738" y="8241"/>
                  <a:pt x="14759" y="8210"/>
                </a:cubicBezTo>
                <a:cubicBezTo>
                  <a:pt x="14773" y="8190"/>
                  <a:pt x="14819" y="8111"/>
                  <a:pt x="14808" y="8086"/>
                </a:cubicBezTo>
                <a:cubicBezTo>
                  <a:pt x="14793" y="8053"/>
                  <a:pt x="14784" y="8045"/>
                  <a:pt x="14759" y="8037"/>
                </a:cubicBezTo>
                <a:cubicBezTo>
                  <a:pt x="14759" y="8163"/>
                  <a:pt x="14773" y="8291"/>
                  <a:pt x="14784" y="8409"/>
                </a:cubicBezTo>
                <a:cubicBezTo>
                  <a:pt x="14793" y="8504"/>
                  <a:pt x="14808" y="8587"/>
                  <a:pt x="14808" y="8682"/>
                </a:cubicBezTo>
                <a:cubicBezTo>
                  <a:pt x="14808" y="8715"/>
                  <a:pt x="14755" y="8741"/>
                  <a:pt x="14784" y="8756"/>
                </a:cubicBezTo>
                <a:cubicBezTo>
                  <a:pt x="14808" y="8756"/>
                  <a:pt x="14816" y="8756"/>
                  <a:pt x="14808" y="8731"/>
                </a:cubicBezTo>
              </a:path>
              <a:path w="10245" h="1712">
                <a:moveTo>
                  <a:pt x="15081" y="8632"/>
                </a:moveTo>
                <a:cubicBezTo>
                  <a:pt x="15081" y="8640"/>
                  <a:pt x="15081" y="8649"/>
                  <a:pt x="15081" y="8657"/>
                </a:cubicBezTo>
                <a:cubicBezTo>
                  <a:pt x="15070" y="8625"/>
                  <a:pt x="15056" y="8665"/>
                  <a:pt x="15056" y="8632"/>
                </a:cubicBezTo>
                <a:cubicBezTo>
                  <a:pt x="15056" y="8592"/>
                  <a:pt x="15080" y="8605"/>
                  <a:pt x="15081" y="8607"/>
                </a:cubicBezTo>
                <a:cubicBezTo>
                  <a:pt x="15105" y="8667"/>
                  <a:pt x="15062" y="8559"/>
                  <a:pt x="15081" y="8607"/>
                </a:cubicBezTo>
                <a:cubicBezTo>
                  <a:pt x="15095" y="8641"/>
                  <a:pt x="15065" y="8665"/>
                  <a:pt x="15081" y="8632"/>
                </a:cubicBezTo>
                <a:cubicBezTo>
                  <a:pt x="15096" y="8602"/>
                  <a:pt x="15026" y="8622"/>
                  <a:pt x="15056" y="8607"/>
                </a:cubicBezTo>
                <a:cubicBezTo>
                  <a:pt x="15086" y="8592"/>
                  <a:pt x="15081" y="8665"/>
                  <a:pt x="15081" y="8632"/>
                </a:cubicBezTo>
                <a:cubicBezTo>
                  <a:pt x="15081" y="8610"/>
                  <a:pt x="15094" y="8607"/>
                  <a:pt x="15056" y="8632"/>
                </a:cubicBezTo>
              </a:path>
              <a:path w="10245" h="1712">
                <a:moveTo>
                  <a:pt x="15801" y="7838"/>
                </a:moveTo>
                <a:cubicBezTo>
                  <a:pt x="15777" y="7870"/>
                  <a:pt x="15758" y="7928"/>
                  <a:pt x="15751" y="7962"/>
                </a:cubicBezTo>
                <a:cubicBezTo>
                  <a:pt x="15740" y="8016"/>
                  <a:pt x="15707" y="8055"/>
                  <a:pt x="15701" y="8111"/>
                </a:cubicBezTo>
                <a:cubicBezTo>
                  <a:pt x="15698" y="8144"/>
                  <a:pt x="15690" y="8193"/>
                  <a:pt x="15726" y="8210"/>
                </a:cubicBezTo>
                <a:cubicBezTo>
                  <a:pt x="15754" y="8210"/>
                  <a:pt x="15765" y="8208"/>
                  <a:pt x="15776" y="8186"/>
                </a:cubicBezTo>
                <a:cubicBezTo>
                  <a:pt x="15814" y="8213"/>
                  <a:pt x="15827" y="8210"/>
                  <a:pt x="15875" y="8210"/>
                </a:cubicBezTo>
                <a:cubicBezTo>
                  <a:pt x="15948" y="8210"/>
                  <a:pt x="16013" y="8198"/>
                  <a:pt x="16073" y="8186"/>
                </a:cubicBezTo>
                <a:cubicBezTo>
                  <a:pt x="16139" y="8173"/>
                  <a:pt x="16123" y="8199"/>
                  <a:pt x="16173" y="8161"/>
                </a:cubicBezTo>
              </a:path>
              <a:path w="10245" h="1712">
                <a:moveTo>
                  <a:pt x="16173" y="7590"/>
                </a:moveTo>
                <a:cubicBezTo>
                  <a:pt x="16173" y="7729"/>
                  <a:pt x="16162" y="7851"/>
                  <a:pt x="16148" y="7987"/>
                </a:cubicBezTo>
                <a:cubicBezTo>
                  <a:pt x="16128" y="8188"/>
                  <a:pt x="16155" y="8383"/>
                  <a:pt x="16123" y="8582"/>
                </a:cubicBezTo>
                <a:cubicBezTo>
                  <a:pt x="16113" y="8642"/>
                  <a:pt x="16132" y="8630"/>
                  <a:pt x="16148" y="8582"/>
                </a:cubicBezTo>
                <a:cubicBezTo>
                  <a:pt x="16148" y="8574"/>
                  <a:pt x="16148" y="8566"/>
                  <a:pt x="16148" y="8558"/>
                </a:cubicBezTo>
              </a:path>
              <a:path w="10245" h="1712">
                <a:moveTo>
                  <a:pt x="16371" y="8161"/>
                </a:moveTo>
                <a:cubicBezTo>
                  <a:pt x="16415" y="8249"/>
                  <a:pt x="16446" y="8350"/>
                  <a:pt x="16495" y="8434"/>
                </a:cubicBezTo>
                <a:cubicBezTo>
                  <a:pt x="16542" y="8513"/>
                  <a:pt x="16607" y="8590"/>
                  <a:pt x="16669" y="8657"/>
                </a:cubicBezTo>
                <a:cubicBezTo>
                  <a:pt x="16707" y="8699"/>
                  <a:pt x="16762" y="8775"/>
                  <a:pt x="16818" y="8781"/>
                </a:cubicBezTo>
                <a:cubicBezTo>
                  <a:pt x="16857" y="8785"/>
                  <a:pt x="16842" y="8760"/>
                  <a:pt x="16842" y="8731"/>
                </a:cubicBezTo>
              </a:path>
              <a:path w="10245" h="1712">
                <a:moveTo>
                  <a:pt x="16644" y="8086"/>
                </a:moveTo>
                <a:cubicBezTo>
                  <a:pt x="16618" y="8154"/>
                  <a:pt x="16597" y="8215"/>
                  <a:pt x="16570" y="8285"/>
                </a:cubicBezTo>
                <a:cubicBezTo>
                  <a:pt x="16535" y="8375"/>
                  <a:pt x="16491" y="8448"/>
                  <a:pt x="16446" y="8533"/>
                </a:cubicBezTo>
                <a:cubicBezTo>
                  <a:pt x="16417" y="8587"/>
                  <a:pt x="16367" y="8653"/>
                  <a:pt x="16346" y="8706"/>
                </a:cubicBezTo>
                <a:cubicBezTo>
                  <a:pt x="16323" y="8763"/>
                  <a:pt x="16327" y="8739"/>
                  <a:pt x="16346" y="8706"/>
                </a:cubicBezTo>
                <a:cubicBezTo>
                  <a:pt x="16354" y="8698"/>
                  <a:pt x="16363" y="8690"/>
                  <a:pt x="16371" y="8682"/>
                </a:cubicBezTo>
              </a:path>
              <a:path w="10245" h="1712">
                <a:moveTo>
                  <a:pt x="17115" y="7962"/>
                </a:moveTo>
                <a:cubicBezTo>
                  <a:pt x="17109" y="8104"/>
                  <a:pt x="17095" y="8184"/>
                  <a:pt x="17115" y="8310"/>
                </a:cubicBezTo>
                <a:cubicBezTo>
                  <a:pt x="17123" y="8362"/>
                  <a:pt x="17115" y="8561"/>
                  <a:pt x="17115" y="8533"/>
                </a:cubicBezTo>
              </a:path>
              <a:path w="10245" h="1712">
                <a:moveTo>
                  <a:pt x="16867" y="8235"/>
                </a:moveTo>
                <a:cubicBezTo>
                  <a:pt x="16925" y="8260"/>
                  <a:pt x="16952" y="8260"/>
                  <a:pt x="17016" y="8260"/>
                </a:cubicBezTo>
                <a:cubicBezTo>
                  <a:pt x="17086" y="8260"/>
                  <a:pt x="17141" y="8285"/>
                  <a:pt x="17214" y="8285"/>
                </a:cubicBezTo>
                <a:cubicBezTo>
                  <a:pt x="17278" y="8285"/>
                  <a:pt x="17304" y="8282"/>
                  <a:pt x="17363" y="8260"/>
                </a:cubicBezTo>
              </a:path>
              <a:path w="10245" h="1712">
                <a:moveTo>
                  <a:pt x="17735" y="7789"/>
                </a:moveTo>
                <a:cubicBezTo>
                  <a:pt x="17804" y="7809"/>
                  <a:pt x="17839" y="7813"/>
                  <a:pt x="17909" y="7813"/>
                </a:cubicBezTo>
                <a:cubicBezTo>
                  <a:pt x="17953" y="7813"/>
                  <a:pt x="17969" y="7798"/>
                  <a:pt x="18008" y="7789"/>
                </a:cubicBezTo>
              </a:path>
              <a:path w="10245" h="1712">
                <a:moveTo>
                  <a:pt x="17636" y="7764"/>
                </a:moveTo>
                <a:cubicBezTo>
                  <a:pt x="17622" y="7827"/>
                  <a:pt x="17630" y="7927"/>
                  <a:pt x="17611" y="7987"/>
                </a:cubicBezTo>
                <a:cubicBezTo>
                  <a:pt x="17589" y="8055"/>
                  <a:pt x="17611" y="8045"/>
                  <a:pt x="17611" y="8111"/>
                </a:cubicBezTo>
                <a:cubicBezTo>
                  <a:pt x="17611" y="8119"/>
                  <a:pt x="17611" y="8128"/>
                  <a:pt x="17611" y="8136"/>
                </a:cubicBezTo>
                <a:cubicBezTo>
                  <a:pt x="17629" y="8130"/>
                  <a:pt x="17672" y="8092"/>
                  <a:pt x="17686" y="8062"/>
                </a:cubicBezTo>
                <a:cubicBezTo>
                  <a:pt x="17707" y="8016"/>
                  <a:pt x="17722" y="7991"/>
                  <a:pt x="17785" y="7987"/>
                </a:cubicBezTo>
                <a:cubicBezTo>
                  <a:pt x="17842" y="7983"/>
                  <a:pt x="17876" y="7986"/>
                  <a:pt x="17909" y="8037"/>
                </a:cubicBezTo>
                <a:cubicBezTo>
                  <a:pt x="17949" y="8099"/>
                  <a:pt x="18017" y="8186"/>
                  <a:pt x="18033" y="8260"/>
                </a:cubicBezTo>
                <a:cubicBezTo>
                  <a:pt x="18048" y="8329"/>
                  <a:pt x="18022" y="8401"/>
                  <a:pt x="17983" y="8458"/>
                </a:cubicBezTo>
                <a:cubicBezTo>
                  <a:pt x="17942" y="8519"/>
                  <a:pt x="17924" y="8533"/>
                  <a:pt x="17859" y="8558"/>
                </a:cubicBezTo>
                <a:cubicBezTo>
                  <a:pt x="17790" y="8585"/>
                  <a:pt x="17736" y="8582"/>
                  <a:pt x="17661" y="8582"/>
                </a:cubicBezTo>
                <a:cubicBezTo>
                  <a:pt x="17596" y="8582"/>
                  <a:pt x="17609" y="8544"/>
                  <a:pt x="17636" y="8508"/>
                </a:cubicBezTo>
              </a:path>
              <a:path w="10245" h="1712">
                <a:moveTo>
                  <a:pt x="18455" y="8161"/>
                </a:moveTo>
                <a:cubicBezTo>
                  <a:pt x="18455" y="8353"/>
                  <a:pt x="18451" y="8554"/>
                  <a:pt x="18430" y="8731"/>
                </a:cubicBezTo>
                <a:cubicBezTo>
                  <a:pt x="18428" y="8749"/>
                  <a:pt x="18443" y="8840"/>
                  <a:pt x="18430" y="8781"/>
                </a:cubicBezTo>
                <a:cubicBezTo>
                  <a:pt x="18382" y="8560"/>
                  <a:pt x="18463" y="8322"/>
                  <a:pt x="18479" y="8111"/>
                </a:cubicBezTo>
                <a:cubicBezTo>
                  <a:pt x="18488" y="7984"/>
                  <a:pt x="18501" y="7866"/>
                  <a:pt x="18504" y="7739"/>
                </a:cubicBezTo>
                <a:cubicBezTo>
                  <a:pt x="18506" y="7665"/>
                  <a:pt x="18504" y="7590"/>
                  <a:pt x="18504" y="7516"/>
                </a:cubicBezTo>
                <a:cubicBezTo>
                  <a:pt x="18741" y="7516"/>
                  <a:pt x="18966" y="7496"/>
                  <a:pt x="19199" y="7491"/>
                </a:cubicBezTo>
                <a:cubicBezTo>
                  <a:pt x="19295" y="7489"/>
                  <a:pt x="19377" y="7472"/>
                  <a:pt x="19472" y="7466"/>
                </a:cubicBezTo>
                <a:cubicBezTo>
                  <a:pt x="19584" y="7459"/>
                  <a:pt x="19682" y="7443"/>
                  <a:pt x="19794" y="7441"/>
                </a:cubicBezTo>
                <a:cubicBezTo>
                  <a:pt x="19897" y="7439"/>
                  <a:pt x="19992" y="7432"/>
                  <a:pt x="20092" y="7417"/>
                </a:cubicBezTo>
                <a:cubicBezTo>
                  <a:pt x="20192" y="7402"/>
                  <a:pt x="20288" y="7402"/>
                  <a:pt x="20389" y="7392"/>
                </a:cubicBezTo>
                <a:cubicBezTo>
                  <a:pt x="20494" y="7381"/>
                  <a:pt x="20605" y="7378"/>
                  <a:pt x="20712" y="7367"/>
                </a:cubicBezTo>
                <a:cubicBezTo>
                  <a:pt x="20826" y="7356"/>
                  <a:pt x="20944" y="7354"/>
                  <a:pt x="21059" y="7342"/>
                </a:cubicBezTo>
                <a:cubicBezTo>
                  <a:pt x="21167" y="7331"/>
                  <a:pt x="21269" y="7319"/>
                  <a:pt x="21382" y="7317"/>
                </a:cubicBezTo>
                <a:cubicBezTo>
                  <a:pt x="21516" y="7315"/>
                  <a:pt x="21650" y="7299"/>
                  <a:pt x="21779" y="7293"/>
                </a:cubicBezTo>
                <a:cubicBezTo>
                  <a:pt x="21938" y="7285"/>
                  <a:pt x="22095" y="7283"/>
                  <a:pt x="22250" y="7268"/>
                </a:cubicBezTo>
                <a:cubicBezTo>
                  <a:pt x="22406" y="7253"/>
                  <a:pt x="22566" y="7259"/>
                  <a:pt x="22721" y="7243"/>
                </a:cubicBezTo>
                <a:cubicBezTo>
                  <a:pt x="22823" y="7233"/>
                  <a:pt x="22915" y="7220"/>
                  <a:pt x="23019" y="7218"/>
                </a:cubicBezTo>
                <a:cubicBezTo>
                  <a:pt x="23170" y="7215"/>
                  <a:pt x="23320" y="7201"/>
                  <a:pt x="23465" y="7193"/>
                </a:cubicBezTo>
                <a:cubicBezTo>
                  <a:pt x="23634" y="7184"/>
                  <a:pt x="23799" y="7199"/>
                  <a:pt x="23961" y="7169"/>
                </a:cubicBezTo>
                <a:cubicBezTo>
                  <a:pt x="24005" y="7161"/>
                  <a:pt x="23997" y="7166"/>
                  <a:pt x="24036" y="7144"/>
                </a:cubicBezTo>
                <a:cubicBezTo>
                  <a:pt x="24028" y="7144"/>
                  <a:pt x="24019" y="7144"/>
                  <a:pt x="24011" y="7144"/>
                </a:cubicBezTo>
              </a:path>
              <a:path w="10245" h="1712">
                <a:moveTo>
                  <a:pt x="18728" y="7813"/>
                </a:moveTo>
                <a:cubicBezTo>
                  <a:pt x="18728" y="7894"/>
                  <a:pt x="18715" y="7962"/>
                  <a:pt x="18703" y="8037"/>
                </a:cubicBezTo>
                <a:cubicBezTo>
                  <a:pt x="18695" y="8084"/>
                  <a:pt x="18694" y="8140"/>
                  <a:pt x="18678" y="8186"/>
                </a:cubicBezTo>
                <a:cubicBezTo>
                  <a:pt x="18661" y="8237"/>
                  <a:pt x="18653" y="8236"/>
                  <a:pt x="18653" y="8285"/>
                </a:cubicBezTo>
                <a:cubicBezTo>
                  <a:pt x="18697" y="8285"/>
                  <a:pt x="18720" y="8305"/>
                  <a:pt x="18752" y="8310"/>
                </a:cubicBezTo>
                <a:cubicBezTo>
                  <a:pt x="18856" y="8327"/>
                  <a:pt x="19065" y="8336"/>
                  <a:pt x="19149" y="8285"/>
                </a:cubicBezTo>
              </a:path>
              <a:path w="10245" h="1712">
                <a:moveTo>
                  <a:pt x="19149" y="7689"/>
                </a:moveTo>
                <a:cubicBezTo>
                  <a:pt x="19129" y="7783"/>
                  <a:pt x="19141" y="7870"/>
                  <a:pt x="19124" y="7962"/>
                </a:cubicBezTo>
                <a:cubicBezTo>
                  <a:pt x="19101" y="8085"/>
                  <a:pt x="19111" y="8165"/>
                  <a:pt x="19124" y="8285"/>
                </a:cubicBezTo>
                <a:cubicBezTo>
                  <a:pt x="19134" y="8382"/>
                  <a:pt x="19104" y="8465"/>
                  <a:pt x="19100" y="8558"/>
                </a:cubicBezTo>
                <a:cubicBezTo>
                  <a:pt x="19097" y="8640"/>
                  <a:pt x="19100" y="8724"/>
                  <a:pt x="19100" y="8806"/>
                </a:cubicBezTo>
                <a:cubicBezTo>
                  <a:pt x="19132" y="8795"/>
                  <a:pt x="19130" y="8750"/>
                  <a:pt x="19149" y="8706"/>
                </a:cubicBezTo>
              </a:path>
              <a:path w="10245" h="1712">
                <a:moveTo>
                  <a:pt x="19397" y="8235"/>
                </a:moveTo>
                <a:cubicBezTo>
                  <a:pt x="19436" y="8329"/>
                  <a:pt x="19457" y="8420"/>
                  <a:pt x="19496" y="8508"/>
                </a:cubicBezTo>
                <a:cubicBezTo>
                  <a:pt x="19535" y="8598"/>
                  <a:pt x="19579" y="8684"/>
                  <a:pt x="19645" y="8756"/>
                </a:cubicBezTo>
                <a:cubicBezTo>
                  <a:pt x="19681" y="8795"/>
                  <a:pt x="19693" y="8806"/>
                  <a:pt x="19745" y="8806"/>
                </a:cubicBezTo>
                <a:cubicBezTo>
                  <a:pt x="19770" y="8806"/>
                  <a:pt x="19794" y="8806"/>
                  <a:pt x="19819" y="8806"/>
                </a:cubicBezTo>
              </a:path>
              <a:path w="10245" h="1712">
                <a:moveTo>
                  <a:pt x="19670" y="8136"/>
                </a:moveTo>
                <a:cubicBezTo>
                  <a:pt x="19630" y="8223"/>
                  <a:pt x="19585" y="8294"/>
                  <a:pt x="19546" y="8384"/>
                </a:cubicBezTo>
                <a:cubicBezTo>
                  <a:pt x="19510" y="8466"/>
                  <a:pt x="19495" y="8583"/>
                  <a:pt x="19447" y="8657"/>
                </a:cubicBezTo>
                <a:cubicBezTo>
                  <a:pt x="19422" y="8697"/>
                  <a:pt x="19336" y="8759"/>
                  <a:pt x="19323" y="8806"/>
                </a:cubicBezTo>
                <a:cubicBezTo>
                  <a:pt x="19295" y="8903"/>
                  <a:pt x="19293" y="8825"/>
                  <a:pt x="19323" y="8806"/>
                </a:cubicBezTo>
              </a:path>
              <a:path w="10245" h="1712">
                <a:moveTo>
                  <a:pt x="19794" y="7714"/>
                </a:moveTo>
                <a:cubicBezTo>
                  <a:pt x="19855" y="7705"/>
                  <a:pt x="19877" y="7689"/>
                  <a:pt x="19943" y="7689"/>
                </a:cubicBezTo>
                <a:cubicBezTo>
                  <a:pt x="20022" y="7689"/>
                  <a:pt x="20007" y="7687"/>
                  <a:pt x="20042" y="7739"/>
                </a:cubicBezTo>
                <a:cubicBezTo>
                  <a:pt x="20077" y="7792"/>
                  <a:pt x="20035" y="7785"/>
                  <a:pt x="20017" y="7838"/>
                </a:cubicBezTo>
                <a:cubicBezTo>
                  <a:pt x="20009" y="7862"/>
                  <a:pt x="19952" y="7923"/>
                  <a:pt x="19918" y="7938"/>
                </a:cubicBezTo>
                <a:cubicBezTo>
                  <a:pt x="19875" y="7957"/>
                  <a:pt x="19855" y="7925"/>
                  <a:pt x="19918" y="7938"/>
                </a:cubicBezTo>
                <a:cubicBezTo>
                  <a:pt x="19974" y="7949"/>
                  <a:pt x="20063" y="7973"/>
                  <a:pt x="20092" y="8037"/>
                </a:cubicBezTo>
                <a:cubicBezTo>
                  <a:pt x="20120" y="8100"/>
                  <a:pt x="20109" y="8110"/>
                  <a:pt x="20092" y="8161"/>
                </a:cubicBezTo>
                <a:cubicBezTo>
                  <a:pt x="20076" y="8210"/>
                  <a:pt x="20052" y="8229"/>
                  <a:pt x="19993" y="8235"/>
                </a:cubicBezTo>
                <a:cubicBezTo>
                  <a:pt x="19942" y="8240"/>
                  <a:pt x="19933" y="8224"/>
                  <a:pt x="19893" y="8210"/>
                </a:cubicBezTo>
                <a:cubicBezTo>
                  <a:pt x="19885" y="8210"/>
                  <a:pt x="19877" y="8210"/>
                  <a:pt x="19869" y="8210"/>
                </a:cubicBezTo>
              </a:path>
              <a:path w="10245" h="1712">
                <a:moveTo>
                  <a:pt x="20042" y="8384"/>
                </a:moveTo>
                <a:cubicBezTo>
                  <a:pt x="20094" y="8362"/>
                  <a:pt x="20112" y="8359"/>
                  <a:pt x="20166" y="8359"/>
                </a:cubicBezTo>
                <a:cubicBezTo>
                  <a:pt x="20224" y="8359"/>
                  <a:pt x="20282" y="8359"/>
                  <a:pt x="20340" y="8359"/>
                </a:cubicBezTo>
              </a:path>
              <a:path w="10245" h="1712">
                <a:moveTo>
                  <a:pt x="20464" y="7913"/>
                </a:moveTo>
                <a:cubicBezTo>
                  <a:pt x="20584" y="7913"/>
                  <a:pt x="20697" y="7905"/>
                  <a:pt x="20811" y="7888"/>
                </a:cubicBezTo>
                <a:cubicBezTo>
                  <a:pt x="20869" y="7879"/>
                  <a:pt x="20910" y="7878"/>
                  <a:pt x="20960" y="7863"/>
                </a:cubicBezTo>
                <a:cubicBezTo>
                  <a:pt x="20968" y="7863"/>
                  <a:pt x="20977" y="7863"/>
                  <a:pt x="20985" y="7863"/>
                </a:cubicBezTo>
                <a:cubicBezTo>
                  <a:pt x="21021" y="7881"/>
                  <a:pt x="20970" y="7914"/>
                  <a:pt x="20960" y="7962"/>
                </a:cubicBezTo>
                <a:cubicBezTo>
                  <a:pt x="20947" y="8028"/>
                  <a:pt x="20921" y="8096"/>
                  <a:pt x="20910" y="8161"/>
                </a:cubicBezTo>
                <a:cubicBezTo>
                  <a:pt x="20897" y="8236"/>
                  <a:pt x="20886" y="8307"/>
                  <a:pt x="20886" y="8384"/>
                </a:cubicBezTo>
                <a:cubicBezTo>
                  <a:pt x="20886" y="8495"/>
                  <a:pt x="20861" y="8587"/>
                  <a:pt x="20861" y="8706"/>
                </a:cubicBezTo>
                <a:cubicBezTo>
                  <a:pt x="20861" y="8755"/>
                  <a:pt x="20872" y="8778"/>
                  <a:pt x="20886" y="8706"/>
                </a:cubicBezTo>
              </a:path>
              <a:path w="10245" h="1712">
                <a:moveTo>
                  <a:pt x="21109" y="8260"/>
                </a:moveTo>
                <a:cubicBezTo>
                  <a:pt x="21127" y="8338"/>
                  <a:pt x="21150" y="8461"/>
                  <a:pt x="21183" y="8533"/>
                </a:cubicBezTo>
                <a:cubicBezTo>
                  <a:pt x="21197" y="8563"/>
                  <a:pt x="21256" y="8660"/>
                  <a:pt x="21282" y="8682"/>
                </a:cubicBezTo>
                <a:cubicBezTo>
                  <a:pt x="21297" y="8695"/>
                  <a:pt x="21380" y="8755"/>
                  <a:pt x="21382" y="8756"/>
                </a:cubicBezTo>
                <a:cubicBezTo>
                  <a:pt x="21390" y="8756"/>
                  <a:pt x="21398" y="8756"/>
                  <a:pt x="21406" y="8756"/>
                </a:cubicBezTo>
                <a:cubicBezTo>
                  <a:pt x="21438" y="8745"/>
                  <a:pt x="21445" y="8738"/>
                  <a:pt x="21456" y="8706"/>
                </a:cubicBezTo>
              </a:path>
              <a:path w="10245" h="1712">
                <a:moveTo>
                  <a:pt x="21332" y="8186"/>
                </a:moveTo>
                <a:cubicBezTo>
                  <a:pt x="21290" y="8269"/>
                  <a:pt x="21258" y="8383"/>
                  <a:pt x="21208" y="8458"/>
                </a:cubicBezTo>
                <a:cubicBezTo>
                  <a:pt x="21163" y="8526"/>
                  <a:pt x="21105" y="8589"/>
                  <a:pt x="21059" y="8657"/>
                </a:cubicBezTo>
                <a:cubicBezTo>
                  <a:pt x="21026" y="8706"/>
                  <a:pt x="20986" y="8742"/>
                  <a:pt x="20960" y="8781"/>
                </a:cubicBezTo>
                <a:cubicBezTo>
                  <a:pt x="20926" y="8831"/>
                  <a:pt x="20980" y="8762"/>
                  <a:pt x="20985" y="8756"/>
                </a:cubicBezTo>
              </a:path>
              <a:path w="10245" h="1712">
                <a:moveTo>
                  <a:pt x="21332" y="7739"/>
                </a:moveTo>
                <a:cubicBezTo>
                  <a:pt x="21370" y="7701"/>
                  <a:pt x="21378" y="7689"/>
                  <a:pt x="21431" y="7689"/>
                </a:cubicBezTo>
                <a:cubicBezTo>
                  <a:pt x="21472" y="7689"/>
                  <a:pt x="21514" y="7689"/>
                  <a:pt x="21555" y="7689"/>
                </a:cubicBezTo>
                <a:cubicBezTo>
                  <a:pt x="21555" y="7780"/>
                  <a:pt x="21544" y="7805"/>
                  <a:pt x="21481" y="7863"/>
                </a:cubicBezTo>
                <a:cubicBezTo>
                  <a:pt x="21455" y="7887"/>
                  <a:pt x="21368" y="7945"/>
                  <a:pt x="21357" y="7962"/>
                </a:cubicBezTo>
                <a:cubicBezTo>
                  <a:pt x="21340" y="7987"/>
                  <a:pt x="21342" y="7982"/>
                  <a:pt x="21332" y="8012"/>
                </a:cubicBezTo>
                <a:cubicBezTo>
                  <a:pt x="21388" y="8012"/>
                  <a:pt x="21580" y="8012"/>
                  <a:pt x="21555" y="8012"/>
                </a:cubicBezTo>
              </a:path>
              <a:path w="10245" h="1712">
                <a:moveTo>
                  <a:pt x="21853" y="8359"/>
                </a:moveTo>
                <a:cubicBezTo>
                  <a:pt x="21994" y="8359"/>
                  <a:pt x="22134" y="8359"/>
                  <a:pt x="22275" y="8359"/>
                </a:cubicBezTo>
              </a:path>
              <a:path w="10245" h="1712">
                <a:moveTo>
                  <a:pt x="22572" y="7739"/>
                </a:moveTo>
                <a:cubicBezTo>
                  <a:pt x="22565" y="7842"/>
                  <a:pt x="22547" y="7933"/>
                  <a:pt x="22547" y="8037"/>
                </a:cubicBezTo>
                <a:cubicBezTo>
                  <a:pt x="22547" y="8233"/>
                  <a:pt x="22525" y="8446"/>
                  <a:pt x="22572" y="8632"/>
                </a:cubicBezTo>
                <a:cubicBezTo>
                  <a:pt x="22574" y="8639"/>
                  <a:pt x="22572" y="8725"/>
                  <a:pt x="22572" y="8657"/>
                </a:cubicBezTo>
              </a:path>
              <a:path w="10245" h="1712">
                <a:moveTo>
                  <a:pt x="22895" y="7640"/>
                </a:moveTo>
                <a:cubicBezTo>
                  <a:pt x="22884" y="7693"/>
                  <a:pt x="22885" y="7761"/>
                  <a:pt x="22870" y="7813"/>
                </a:cubicBezTo>
                <a:cubicBezTo>
                  <a:pt x="22821" y="7987"/>
                  <a:pt x="22811" y="8139"/>
                  <a:pt x="22796" y="8334"/>
                </a:cubicBezTo>
                <a:cubicBezTo>
                  <a:pt x="22794" y="8358"/>
                  <a:pt x="22791" y="8667"/>
                  <a:pt x="22820" y="8657"/>
                </a:cubicBezTo>
                <a:cubicBezTo>
                  <a:pt x="22820" y="8649"/>
                  <a:pt x="22820" y="8640"/>
                  <a:pt x="22820" y="8632"/>
                </a:cubicBezTo>
              </a:path>
              <a:path w="10245" h="1712">
                <a:moveTo>
                  <a:pt x="22994" y="8210"/>
                </a:moveTo>
                <a:cubicBezTo>
                  <a:pt x="23041" y="8319"/>
                  <a:pt x="23069" y="8390"/>
                  <a:pt x="23143" y="8483"/>
                </a:cubicBezTo>
                <a:cubicBezTo>
                  <a:pt x="23166" y="8512"/>
                  <a:pt x="23229" y="8596"/>
                  <a:pt x="23267" y="8607"/>
                </a:cubicBezTo>
                <a:cubicBezTo>
                  <a:pt x="23316" y="8621"/>
                  <a:pt x="23380" y="8609"/>
                  <a:pt x="23416" y="8582"/>
                </a:cubicBezTo>
              </a:path>
              <a:path w="10245" h="1712">
                <a:moveTo>
                  <a:pt x="23267" y="8136"/>
                </a:moveTo>
                <a:cubicBezTo>
                  <a:pt x="23207" y="8226"/>
                  <a:pt x="23119" y="8317"/>
                  <a:pt x="23068" y="8409"/>
                </a:cubicBezTo>
                <a:cubicBezTo>
                  <a:pt x="23029" y="8478"/>
                  <a:pt x="22984" y="8539"/>
                  <a:pt x="22944" y="8607"/>
                </a:cubicBezTo>
                <a:cubicBezTo>
                  <a:pt x="22920" y="8647"/>
                  <a:pt x="22828" y="8726"/>
                  <a:pt x="22870" y="8706"/>
                </a:cubicBezTo>
                <a:cubicBezTo>
                  <a:pt x="22878" y="8698"/>
                  <a:pt x="22887" y="8690"/>
                  <a:pt x="22895" y="8682"/>
                </a:cubicBezTo>
              </a:path>
              <a:path w="10245" h="1712">
                <a:moveTo>
                  <a:pt x="23763" y="7962"/>
                </a:moveTo>
                <a:cubicBezTo>
                  <a:pt x="23745" y="8061"/>
                  <a:pt x="23738" y="8137"/>
                  <a:pt x="23738" y="8235"/>
                </a:cubicBezTo>
                <a:cubicBezTo>
                  <a:pt x="23738" y="8326"/>
                  <a:pt x="23738" y="8417"/>
                  <a:pt x="23738" y="8508"/>
                </a:cubicBezTo>
              </a:path>
              <a:path w="10245" h="1712">
                <a:moveTo>
                  <a:pt x="23540" y="8235"/>
                </a:moveTo>
                <a:cubicBezTo>
                  <a:pt x="23604" y="8259"/>
                  <a:pt x="23645" y="8260"/>
                  <a:pt x="23713" y="8260"/>
                </a:cubicBezTo>
                <a:cubicBezTo>
                  <a:pt x="23790" y="8260"/>
                  <a:pt x="23854" y="8235"/>
                  <a:pt x="23937" y="8235"/>
                </a:cubicBezTo>
              </a:path>
              <a:path w="10245" h="1712">
                <a:moveTo>
                  <a:pt x="24433" y="7789"/>
                </a:moveTo>
                <a:cubicBezTo>
                  <a:pt x="24522" y="7782"/>
                  <a:pt x="24568" y="7764"/>
                  <a:pt x="24656" y="7764"/>
                </a:cubicBezTo>
                <a:cubicBezTo>
                  <a:pt x="24700" y="7764"/>
                  <a:pt x="24695" y="7766"/>
                  <a:pt x="24730" y="7739"/>
                </a:cubicBezTo>
              </a:path>
              <a:path w="10245" h="1712">
                <a:moveTo>
                  <a:pt x="24358" y="7739"/>
                </a:moveTo>
                <a:cubicBezTo>
                  <a:pt x="24324" y="7811"/>
                  <a:pt x="24274" y="7913"/>
                  <a:pt x="24259" y="7987"/>
                </a:cubicBezTo>
                <a:cubicBezTo>
                  <a:pt x="24246" y="8050"/>
                  <a:pt x="24278" y="8060"/>
                  <a:pt x="24284" y="8111"/>
                </a:cubicBezTo>
                <a:cubicBezTo>
                  <a:pt x="24284" y="8139"/>
                  <a:pt x="24286" y="8150"/>
                  <a:pt x="24309" y="8161"/>
                </a:cubicBezTo>
                <a:cubicBezTo>
                  <a:pt x="24322" y="8121"/>
                  <a:pt x="24348" y="8134"/>
                  <a:pt x="24383" y="8111"/>
                </a:cubicBezTo>
                <a:cubicBezTo>
                  <a:pt x="24403" y="8098"/>
                  <a:pt x="24482" y="8058"/>
                  <a:pt x="24507" y="8062"/>
                </a:cubicBezTo>
                <a:cubicBezTo>
                  <a:pt x="24578" y="8073"/>
                  <a:pt x="24615" y="8119"/>
                  <a:pt x="24656" y="8186"/>
                </a:cubicBezTo>
                <a:cubicBezTo>
                  <a:pt x="24685" y="8235"/>
                  <a:pt x="24697" y="8327"/>
                  <a:pt x="24681" y="8384"/>
                </a:cubicBezTo>
                <a:cubicBezTo>
                  <a:pt x="24649" y="8498"/>
                  <a:pt x="24568" y="8563"/>
                  <a:pt x="24482" y="8632"/>
                </a:cubicBezTo>
                <a:cubicBezTo>
                  <a:pt x="24467" y="8644"/>
                  <a:pt x="24355" y="8686"/>
                  <a:pt x="24333" y="8682"/>
                </a:cubicBezTo>
                <a:cubicBezTo>
                  <a:pt x="24298" y="8676"/>
                  <a:pt x="24257" y="8657"/>
                  <a:pt x="24209" y="8657"/>
                </a:cubicBezTo>
                <a:cubicBezTo>
                  <a:pt x="24170" y="8657"/>
                  <a:pt x="24197" y="8644"/>
                  <a:pt x="24160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7"/>
          <p:cNvSpPr/>
          <p:nvPr/>
        </p:nvSpPr>
        <p:spPr>
          <a:xfrm>
            <a:off x="4768920" y="3687840"/>
            <a:ext cx="2678040" cy="465120"/>
          </a:xfrm>
          <a:custGeom>
            <a:avLst/>
            <a:gdLst/>
            <a:ahLst/>
            <a:rect l="l" t="t" r="r" b="b"/>
            <a:pathLst>
              <a:path w="7442" h="1291">
                <a:moveTo>
                  <a:pt x="13246" y="10592"/>
                </a:moveTo>
                <a:cubicBezTo>
                  <a:pt x="13246" y="10688"/>
                  <a:pt x="13256" y="10753"/>
                  <a:pt x="13271" y="10840"/>
                </a:cubicBezTo>
                <a:cubicBezTo>
                  <a:pt x="13284" y="10915"/>
                  <a:pt x="13308" y="10991"/>
                  <a:pt x="13320" y="11063"/>
                </a:cubicBezTo>
                <a:cubicBezTo>
                  <a:pt x="13331" y="11127"/>
                  <a:pt x="13354" y="11175"/>
                  <a:pt x="13370" y="11237"/>
                </a:cubicBezTo>
                <a:cubicBezTo>
                  <a:pt x="13375" y="11255"/>
                  <a:pt x="13363" y="11373"/>
                  <a:pt x="13370" y="11311"/>
                </a:cubicBezTo>
                <a:cubicBezTo>
                  <a:pt x="13378" y="11245"/>
                  <a:pt x="13387" y="11178"/>
                  <a:pt x="13395" y="11112"/>
                </a:cubicBezTo>
              </a:path>
              <a:path w="7442" h="1291">
                <a:moveTo>
                  <a:pt x="13717" y="10443"/>
                </a:moveTo>
                <a:cubicBezTo>
                  <a:pt x="13710" y="10536"/>
                  <a:pt x="13678" y="10604"/>
                  <a:pt x="13667" y="10691"/>
                </a:cubicBezTo>
                <a:cubicBezTo>
                  <a:pt x="13653" y="10799"/>
                  <a:pt x="13687" y="10906"/>
                  <a:pt x="13692" y="11013"/>
                </a:cubicBezTo>
                <a:cubicBezTo>
                  <a:pt x="13695" y="11076"/>
                  <a:pt x="13717" y="11122"/>
                  <a:pt x="13717" y="11187"/>
                </a:cubicBezTo>
                <a:cubicBezTo>
                  <a:pt x="13717" y="11228"/>
                  <a:pt x="13717" y="11270"/>
                  <a:pt x="13717" y="11311"/>
                </a:cubicBezTo>
              </a:path>
              <a:path w="7442" h="1291">
                <a:moveTo>
                  <a:pt x="13940" y="11311"/>
                </a:moveTo>
                <a:cubicBezTo>
                  <a:pt x="13940" y="11336"/>
                  <a:pt x="13940" y="11344"/>
                  <a:pt x="13940" y="11311"/>
                </a:cubicBezTo>
              </a:path>
              <a:path w="7442" h="1291">
                <a:moveTo>
                  <a:pt x="15007" y="10840"/>
                </a:moveTo>
                <a:cubicBezTo>
                  <a:pt x="15041" y="10899"/>
                  <a:pt x="15066" y="10947"/>
                  <a:pt x="15081" y="11013"/>
                </a:cubicBezTo>
                <a:cubicBezTo>
                  <a:pt x="15094" y="11069"/>
                  <a:pt x="15115" y="11118"/>
                  <a:pt x="15156" y="11162"/>
                </a:cubicBezTo>
                <a:cubicBezTo>
                  <a:pt x="15197" y="11206"/>
                  <a:pt x="15248" y="11260"/>
                  <a:pt x="15280" y="11311"/>
                </a:cubicBezTo>
                <a:cubicBezTo>
                  <a:pt x="15309" y="11356"/>
                  <a:pt x="15321" y="11404"/>
                  <a:pt x="15379" y="11410"/>
                </a:cubicBezTo>
                <a:cubicBezTo>
                  <a:pt x="15387" y="11410"/>
                  <a:pt x="15396" y="11410"/>
                  <a:pt x="15404" y="11410"/>
                </a:cubicBezTo>
              </a:path>
              <a:path w="7442" h="1291">
                <a:moveTo>
                  <a:pt x="15230" y="10790"/>
                </a:moveTo>
                <a:cubicBezTo>
                  <a:pt x="15176" y="10921"/>
                  <a:pt x="15135" y="11056"/>
                  <a:pt x="15081" y="11187"/>
                </a:cubicBezTo>
                <a:cubicBezTo>
                  <a:pt x="15049" y="11264"/>
                  <a:pt x="14986" y="11337"/>
                  <a:pt x="14957" y="11410"/>
                </a:cubicBezTo>
                <a:cubicBezTo>
                  <a:pt x="14934" y="11467"/>
                  <a:pt x="14942" y="11471"/>
                  <a:pt x="14957" y="11410"/>
                </a:cubicBezTo>
              </a:path>
              <a:path w="7442" h="1291">
                <a:moveTo>
                  <a:pt x="15701" y="10666"/>
                </a:moveTo>
                <a:cubicBezTo>
                  <a:pt x="15713" y="10791"/>
                  <a:pt x="15701" y="10868"/>
                  <a:pt x="15701" y="10988"/>
                </a:cubicBezTo>
                <a:cubicBezTo>
                  <a:pt x="15701" y="11060"/>
                  <a:pt x="15721" y="11097"/>
                  <a:pt x="15726" y="11162"/>
                </a:cubicBezTo>
                <a:cubicBezTo>
                  <a:pt x="15729" y="11202"/>
                  <a:pt x="15751" y="11216"/>
                  <a:pt x="15751" y="11261"/>
                </a:cubicBezTo>
                <a:cubicBezTo>
                  <a:pt x="15751" y="11300"/>
                  <a:pt x="15796" y="11286"/>
                  <a:pt x="15751" y="11286"/>
                </a:cubicBezTo>
              </a:path>
              <a:path w="7442" h="1291">
                <a:moveTo>
                  <a:pt x="15503" y="10988"/>
                </a:moveTo>
                <a:cubicBezTo>
                  <a:pt x="15571" y="10988"/>
                  <a:pt x="15622" y="11001"/>
                  <a:pt x="15677" y="11013"/>
                </a:cubicBezTo>
                <a:cubicBezTo>
                  <a:pt x="15744" y="11028"/>
                  <a:pt x="15815" y="11008"/>
                  <a:pt x="15875" y="10988"/>
                </a:cubicBezTo>
              </a:path>
              <a:path w="7442" h="1291">
                <a:moveTo>
                  <a:pt x="16123" y="10691"/>
                </a:moveTo>
                <a:cubicBezTo>
                  <a:pt x="16185" y="10660"/>
                  <a:pt x="16247" y="10618"/>
                  <a:pt x="16321" y="10641"/>
                </a:cubicBezTo>
                <a:cubicBezTo>
                  <a:pt x="16363" y="10654"/>
                  <a:pt x="16412" y="10700"/>
                  <a:pt x="16421" y="10740"/>
                </a:cubicBezTo>
                <a:cubicBezTo>
                  <a:pt x="16434" y="10799"/>
                  <a:pt x="16428" y="10888"/>
                  <a:pt x="16396" y="10939"/>
                </a:cubicBezTo>
                <a:cubicBezTo>
                  <a:pt x="16362" y="10994"/>
                  <a:pt x="16319" y="11042"/>
                  <a:pt x="16272" y="11088"/>
                </a:cubicBezTo>
                <a:cubicBezTo>
                  <a:pt x="16231" y="11129"/>
                  <a:pt x="16154" y="11180"/>
                  <a:pt x="16148" y="11237"/>
                </a:cubicBezTo>
                <a:cubicBezTo>
                  <a:pt x="16145" y="11266"/>
                  <a:pt x="16192" y="11283"/>
                  <a:pt x="16222" y="11286"/>
                </a:cubicBezTo>
                <a:cubicBezTo>
                  <a:pt x="16343" y="11300"/>
                  <a:pt x="16472" y="11286"/>
                  <a:pt x="16594" y="11286"/>
                </a:cubicBezTo>
              </a:path>
              <a:path w="7442" h="1291">
                <a:moveTo>
                  <a:pt x="16942" y="10889"/>
                </a:moveTo>
                <a:cubicBezTo>
                  <a:pt x="16936" y="11015"/>
                  <a:pt x="16920" y="11135"/>
                  <a:pt x="16917" y="11261"/>
                </a:cubicBezTo>
                <a:cubicBezTo>
                  <a:pt x="16915" y="11336"/>
                  <a:pt x="16917" y="11410"/>
                  <a:pt x="16917" y="11485"/>
                </a:cubicBezTo>
                <a:cubicBezTo>
                  <a:pt x="16907" y="11433"/>
                  <a:pt x="16894" y="11399"/>
                  <a:pt x="16892" y="11336"/>
                </a:cubicBezTo>
                <a:cubicBezTo>
                  <a:pt x="16885" y="11062"/>
                  <a:pt x="16896" y="10782"/>
                  <a:pt x="16917" y="10517"/>
                </a:cubicBezTo>
                <a:cubicBezTo>
                  <a:pt x="16923" y="10444"/>
                  <a:pt x="16909" y="10402"/>
                  <a:pt x="16942" y="10344"/>
                </a:cubicBezTo>
                <a:cubicBezTo>
                  <a:pt x="16973" y="10289"/>
                  <a:pt x="16922" y="10314"/>
                  <a:pt x="16991" y="10294"/>
                </a:cubicBezTo>
                <a:cubicBezTo>
                  <a:pt x="17070" y="10272"/>
                  <a:pt x="17162" y="10314"/>
                  <a:pt x="17239" y="10319"/>
                </a:cubicBezTo>
                <a:cubicBezTo>
                  <a:pt x="17405" y="10329"/>
                  <a:pt x="17534" y="10341"/>
                  <a:pt x="17711" y="10344"/>
                </a:cubicBezTo>
                <a:cubicBezTo>
                  <a:pt x="18595" y="10358"/>
                  <a:pt x="19734" y="10528"/>
                  <a:pt x="20588" y="10319"/>
                </a:cubicBezTo>
                <a:cubicBezTo>
                  <a:pt x="20645" y="10305"/>
                  <a:pt x="20666" y="10312"/>
                  <a:pt x="20687" y="10269"/>
                </a:cubicBezTo>
                <a:cubicBezTo>
                  <a:pt x="20679" y="10261"/>
                  <a:pt x="20670" y="10252"/>
                  <a:pt x="20662" y="10244"/>
                </a:cubicBezTo>
              </a:path>
              <a:path w="7442" h="1291">
                <a:moveTo>
                  <a:pt x="17115" y="10641"/>
                </a:moveTo>
                <a:cubicBezTo>
                  <a:pt x="17171" y="10641"/>
                  <a:pt x="17149" y="10663"/>
                  <a:pt x="17190" y="10666"/>
                </a:cubicBezTo>
                <a:cubicBezTo>
                  <a:pt x="17266" y="10672"/>
                  <a:pt x="17338" y="10687"/>
                  <a:pt x="17413" y="10691"/>
                </a:cubicBezTo>
                <a:cubicBezTo>
                  <a:pt x="17465" y="10694"/>
                  <a:pt x="17570" y="10727"/>
                  <a:pt x="17611" y="10716"/>
                </a:cubicBezTo>
                <a:cubicBezTo>
                  <a:pt x="17664" y="10702"/>
                  <a:pt x="17680" y="10691"/>
                  <a:pt x="17735" y="10691"/>
                </a:cubicBezTo>
                <a:cubicBezTo>
                  <a:pt x="17705" y="10732"/>
                  <a:pt x="17689" y="10789"/>
                  <a:pt x="17686" y="10840"/>
                </a:cubicBezTo>
                <a:cubicBezTo>
                  <a:pt x="17681" y="10923"/>
                  <a:pt x="17701" y="10988"/>
                  <a:pt x="17711" y="11063"/>
                </a:cubicBezTo>
                <a:cubicBezTo>
                  <a:pt x="17726" y="11178"/>
                  <a:pt x="17713" y="11303"/>
                  <a:pt x="17686" y="11410"/>
                </a:cubicBezTo>
                <a:cubicBezTo>
                  <a:pt x="17670" y="11473"/>
                  <a:pt x="17701" y="11454"/>
                  <a:pt x="17711" y="11410"/>
                </a:cubicBezTo>
                <a:cubicBezTo>
                  <a:pt x="17711" y="11394"/>
                  <a:pt x="17711" y="11377"/>
                  <a:pt x="17711" y="11361"/>
                </a:cubicBezTo>
              </a:path>
              <a:path w="7442" h="1291">
                <a:moveTo>
                  <a:pt x="18107" y="10914"/>
                </a:moveTo>
                <a:cubicBezTo>
                  <a:pt x="18191" y="11052"/>
                  <a:pt x="18246" y="11129"/>
                  <a:pt x="18355" y="11237"/>
                </a:cubicBezTo>
                <a:cubicBezTo>
                  <a:pt x="18415" y="11297"/>
                  <a:pt x="18488" y="11335"/>
                  <a:pt x="18554" y="11385"/>
                </a:cubicBezTo>
                <a:cubicBezTo>
                  <a:pt x="18574" y="11400"/>
                  <a:pt x="18676" y="11469"/>
                  <a:pt x="18703" y="11435"/>
                </a:cubicBezTo>
                <a:cubicBezTo>
                  <a:pt x="18703" y="11427"/>
                  <a:pt x="18703" y="11418"/>
                  <a:pt x="18703" y="11410"/>
                </a:cubicBezTo>
              </a:path>
              <a:path w="7442" h="1291">
                <a:moveTo>
                  <a:pt x="18504" y="10864"/>
                </a:moveTo>
                <a:cubicBezTo>
                  <a:pt x="18456" y="10941"/>
                  <a:pt x="18432" y="11041"/>
                  <a:pt x="18380" y="11112"/>
                </a:cubicBezTo>
                <a:cubicBezTo>
                  <a:pt x="18326" y="11186"/>
                  <a:pt x="18287" y="11262"/>
                  <a:pt x="18231" y="11336"/>
                </a:cubicBezTo>
                <a:cubicBezTo>
                  <a:pt x="18199" y="11379"/>
                  <a:pt x="18094" y="11498"/>
                  <a:pt x="18132" y="11460"/>
                </a:cubicBezTo>
                <a:cubicBezTo>
                  <a:pt x="18140" y="11452"/>
                  <a:pt x="18149" y="11443"/>
                  <a:pt x="18157" y="11435"/>
                </a:cubicBezTo>
              </a:path>
              <a:path w="7442" h="1291">
                <a:moveTo>
                  <a:pt x="19050" y="10988"/>
                </a:moveTo>
                <a:cubicBezTo>
                  <a:pt x="19050" y="11132"/>
                  <a:pt x="19065" y="11211"/>
                  <a:pt x="19075" y="11336"/>
                </a:cubicBezTo>
                <a:cubicBezTo>
                  <a:pt x="19079" y="11383"/>
                  <a:pt x="19098" y="11424"/>
                  <a:pt x="19124" y="11460"/>
                </a:cubicBezTo>
                <a:cubicBezTo>
                  <a:pt x="19151" y="11446"/>
                  <a:pt x="19125" y="11425"/>
                  <a:pt x="19100" y="11361"/>
                </a:cubicBezTo>
              </a:path>
              <a:path w="7442" h="1291">
                <a:moveTo>
                  <a:pt x="18752" y="11112"/>
                </a:moveTo>
                <a:cubicBezTo>
                  <a:pt x="18853" y="11134"/>
                  <a:pt x="18948" y="11157"/>
                  <a:pt x="19050" y="11162"/>
                </a:cubicBezTo>
                <a:cubicBezTo>
                  <a:pt x="19109" y="11165"/>
                  <a:pt x="19215" y="11152"/>
                  <a:pt x="19273" y="11137"/>
                </a:cubicBezTo>
                <a:cubicBezTo>
                  <a:pt x="19290" y="11129"/>
                  <a:pt x="19306" y="11120"/>
                  <a:pt x="19323" y="11112"/>
                </a:cubicBezTo>
              </a:path>
              <a:path w="7442" h="1291">
                <a:moveTo>
                  <a:pt x="19621" y="10740"/>
                </a:moveTo>
                <a:cubicBezTo>
                  <a:pt x="19734" y="10674"/>
                  <a:pt x="19753" y="10672"/>
                  <a:pt x="19869" y="10691"/>
                </a:cubicBezTo>
                <a:cubicBezTo>
                  <a:pt x="19907" y="10697"/>
                  <a:pt x="19978" y="10713"/>
                  <a:pt x="19993" y="10765"/>
                </a:cubicBezTo>
                <a:cubicBezTo>
                  <a:pt x="20008" y="10816"/>
                  <a:pt x="19986" y="10884"/>
                  <a:pt x="19943" y="10914"/>
                </a:cubicBezTo>
                <a:cubicBezTo>
                  <a:pt x="19893" y="10949"/>
                  <a:pt x="19840" y="10972"/>
                  <a:pt x="19794" y="11013"/>
                </a:cubicBezTo>
                <a:cubicBezTo>
                  <a:pt x="19767" y="11037"/>
                  <a:pt x="19687" y="11047"/>
                  <a:pt x="19720" y="11063"/>
                </a:cubicBezTo>
                <a:cubicBezTo>
                  <a:pt x="19753" y="11079"/>
                  <a:pt x="19745" y="11088"/>
                  <a:pt x="19794" y="11088"/>
                </a:cubicBezTo>
                <a:cubicBezTo>
                  <a:pt x="19859" y="11088"/>
                  <a:pt x="19904" y="11100"/>
                  <a:pt x="19968" y="11112"/>
                </a:cubicBezTo>
                <a:cubicBezTo>
                  <a:pt x="20025" y="11122"/>
                  <a:pt x="20083" y="11187"/>
                  <a:pt x="20117" y="11237"/>
                </a:cubicBezTo>
                <a:cubicBezTo>
                  <a:pt x="20160" y="11300"/>
                  <a:pt x="20151" y="11348"/>
                  <a:pt x="20141" y="11410"/>
                </a:cubicBezTo>
                <a:cubicBezTo>
                  <a:pt x="20133" y="11460"/>
                  <a:pt x="20108" y="11468"/>
                  <a:pt x="20067" y="11485"/>
                </a:cubicBezTo>
                <a:cubicBezTo>
                  <a:pt x="20004" y="11511"/>
                  <a:pt x="19911" y="11530"/>
                  <a:pt x="19844" y="11534"/>
                </a:cubicBezTo>
                <a:cubicBezTo>
                  <a:pt x="19781" y="11538"/>
                  <a:pt x="19724" y="11528"/>
                  <a:pt x="19670" y="11509"/>
                </a:cubicBezTo>
                <a:cubicBezTo>
                  <a:pt x="19622" y="11486"/>
                  <a:pt x="19608" y="11478"/>
                  <a:pt x="19571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8"/>
          <p:cNvSpPr/>
          <p:nvPr/>
        </p:nvSpPr>
        <p:spPr>
          <a:xfrm>
            <a:off x="4705200" y="4527720"/>
            <a:ext cx="4295880" cy="588960"/>
          </a:xfrm>
          <a:custGeom>
            <a:avLst/>
            <a:gdLst/>
            <a:ahLst/>
            <a:rect l="l" t="t" r="r" b="b"/>
            <a:pathLst>
              <a:path w="11932" h="1638">
                <a:moveTo>
                  <a:pt x="13072" y="12824"/>
                </a:moveTo>
                <a:cubicBezTo>
                  <a:pt x="13072" y="12877"/>
                  <a:pt x="13088" y="12897"/>
                  <a:pt x="13097" y="12948"/>
                </a:cubicBezTo>
                <a:cubicBezTo>
                  <a:pt x="13124" y="13101"/>
                  <a:pt x="13097" y="13269"/>
                  <a:pt x="13122" y="13419"/>
                </a:cubicBezTo>
                <a:cubicBezTo>
                  <a:pt x="13131" y="13475"/>
                  <a:pt x="13132" y="13519"/>
                  <a:pt x="13146" y="13568"/>
                </a:cubicBezTo>
                <a:cubicBezTo>
                  <a:pt x="13158" y="13610"/>
                  <a:pt x="13118" y="13628"/>
                  <a:pt x="13171" y="13593"/>
                </a:cubicBezTo>
              </a:path>
              <a:path w="11932" h="1638">
                <a:moveTo>
                  <a:pt x="13370" y="12849"/>
                </a:moveTo>
                <a:cubicBezTo>
                  <a:pt x="13527" y="12781"/>
                  <a:pt x="13493" y="12820"/>
                  <a:pt x="13643" y="12849"/>
                </a:cubicBezTo>
                <a:cubicBezTo>
                  <a:pt x="13714" y="12863"/>
                  <a:pt x="13740" y="12896"/>
                  <a:pt x="13791" y="12948"/>
                </a:cubicBezTo>
                <a:cubicBezTo>
                  <a:pt x="13810" y="12968"/>
                  <a:pt x="13833" y="13016"/>
                  <a:pt x="13816" y="13047"/>
                </a:cubicBezTo>
                <a:cubicBezTo>
                  <a:pt x="13800" y="13076"/>
                  <a:pt x="13745" y="13113"/>
                  <a:pt x="13717" y="13122"/>
                </a:cubicBezTo>
                <a:cubicBezTo>
                  <a:pt x="13698" y="13128"/>
                  <a:pt x="13613" y="13146"/>
                  <a:pt x="13667" y="13146"/>
                </a:cubicBezTo>
                <a:cubicBezTo>
                  <a:pt x="13703" y="13146"/>
                  <a:pt x="13741" y="13153"/>
                  <a:pt x="13767" y="13171"/>
                </a:cubicBezTo>
                <a:cubicBezTo>
                  <a:pt x="13810" y="13200"/>
                  <a:pt x="13845" y="13244"/>
                  <a:pt x="13891" y="13271"/>
                </a:cubicBezTo>
                <a:cubicBezTo>
                  <a:pt x="13953" y="13308"/>
                  <a:pt x="13993" y="13372"/>
                  <a:pt x="14015" y="13444"/>
                </a:cubicBezTo>
                <a:cubicBezTo>
                  <a:pt x="14032" y="13499"/>
                  <a:pt x="14029" y="13600"/>
                  <a:pt x="13990" y="13643"/>
                </a:cubicBezTo>
                <a:cubicBezTo>
                  <a:pt x="13958" y="13678"/>
                  <a:pt x="13922" y="13696"/>
                  <a:pt x="13891" y="13717"/>
                </a:cubicBezTo>
                <a:cubicBezTo>
                  <a:pt x="13883" y="13725"/>
                  <a:pt x="13874" y="13734"/>
                  <a:pt x="13866" y="13742"/>
                </a:cubicBezTo>
                <a:cubicBezTo>
                  <a:pt x="13828" y="13729"/>
                  <a:pt x="13837" y="13720"/>
                  <a:pt x="13816" y="13692"/>
                </a:cubicBezTo>
                <a:cubicBezTo>
                  <a:pt x="13808" y="13684"/>
                  <a:pt x="13799" y="13675"/>
                  <a:pt x="13791" y="13667"/>
                </a:cubicBezTo>
              </a:path>
              <a:path w="11932" h="1638">
                <a:moveTo>
                  <a:pt x="14288" y="13717"/>
                </a:moveTo>
                <a:cubicBezTo>
                  <a:pt x="14288" y="13764"/>
                  <a:pt x="14304" y="13742"/>
                  <a:pt x="14312" y="13717"/>
                </a:cubicBezTo>
              </a:path>
              <a:path w="11932" h="1638">
                <a:moveTo>
                  <a:pt x="14957" y="13047"/>
                </a:moveTo>
                <a:cubicBezTo>
                  <a:pt x="14970" y="13007"/>
                  <a:pt x="14997" y="13022"/>
                  <a:pt x="15032" y="12998"/>
                </a:cubicBezTo>
                <a:cubicBezTo>
                  <a:pt x="15064" y="12977"/>
                  <a:pt x="15115" y="12955"/>
                  <a:pt x="15156" y="12948"/>
                </a:cubicBezTo>
                <a:cubicBezTo>
                  <a:pt x="15199" y="12940"/>
                  <a:pt x="15270" y="12952"/>
                  <a:pt x="15304" y="12973"/>
                </a:cubicBezTo>
                <a:cubicBezTo>
                  <a:pt x="15343" y="12997"/>
                  <a:pt x="15390" y="13055"/>
                  <a:pt x="15404" y="13097"/>
                </a:cubicBezTo>
                <a:cubicBezTo>
                  <a:pt x="15422" y="13151"/>
                  <a:pt x="15400" y="13223"/>
                  <a:pt x="15379" y="13271"/>
                </a:cubicBezTo>
                <a:cubicBezTo>
                  <a:pt x="15353" y="13330"/>
                  <a:pt x="15318" y="13393"/>
                  <a:pt x="15280" y="13444"/>
                </a:cubicBezTo>
                <a:cubicBezTo>
                  <a:pt x="15244" y="13492"/>
                  <a:pt x="15216" y="13545"/>
                  <a:pt x="15180" y="13593"/>
                </a:cubicBezTo>
                <a:cubicBezTo>
                  <a:pt x="15160" y="13620"/>
                  <a:pt x="15107" y="13649"/>
                  <a:pt x="15131" y="13692"/>
                </a:cubicBezTo>
                <a:cubicBezTo>
                  <a:pt x="15145" y="13716"/>
                  <a:pt x="15231" y="13736"/>
                  <a:pt x="15255" y="13742"/>
                </a:cubicBezTo>
                <a:cubicBezTo>
                  <a:pt x="15360" y="13768"/>
                  <a:pt x="15507" y="13736"/>
                  <a:pt x="15602" y="13717"/>
                </a:cubicBezTo>
                <a:cubicBezTo>
                  <a:pt x="15637" y="13717"/>
                  <a:pt x="15655" y="13712"/>
                  <a:pt x="15677" y="13692"/>
                </a:cubicBezTo>
              </a:path>
              <a:path w="11932" h="1638">
                <a:moveTo>
                  <a:pt x="15776" y="13295"/>
                </a:moveTo>
                <a:cubicBezTo>
                  <a:pt x="15811" y="13365"/>
                  <a:pt x="15849" y="13429"/>
                  <a:pt x="15900" y="13494"/>
                </a:cubicBezTo>
                <a:cubicBezTo>
                  <a:pt x="15955" y="13565"/>
                  <a:pt x="16006" y="13611"/>
                  <a:pt x="16073" y="13667"/>
                </a:cubicBezTo>
                <a:cubicBezTo>
                  <a:pt x="16105" y="13694"/>
                  <a:pt x="16180" y="13779"/>
                  <a:pt x="16222" y="13791"/>
                </a:cubicBezTo>
                <a:cubicBezTo>
                  <a:pt x="16239" y="13791"/>
                  <a:pt x="16255" y="13791"/>
                  <a:pt x="16272" y="13791"/>
                </a:cubicBezTo>
              </a:path>
              <a:path w="11932" h="1638">
                <a:moveTo>
                  <a:pt x="16073" y="13221"/>
                </a:moveTo>
                <a:cubicBezTo>
                  <a:pt x="16023" y="13329"/>
                  <a:pt x="15978" y="13436"/>
                  <a:pt x="15925" y="13543"/>
                </a:cubicBezTo>
                <a:cubicBezTo>
                  <a:pt x="15897" y="13599"/>
                  <a:pt x="15898" y="13671"/>
                  <a:pt x="15875" y="13717"/>
                </a:cubicBezTo>
                <a:cubicBezTo>
                  <a:pt x="15852" y="13740"/>
                  <a:pt x="15844" y="13751"/>
                  <a:pt x="15850" y="13717"/>
                </a:cubicBezTo>
              </a:path>
              <a:path w="11932" h="1638">
                <a:moveTo>
                  <a:pt x="16098" y="12675"/>
                </a:moveTo>
                <a:cubicBezTo>
                  <a:pt x="16165" y="12655"/>
                  <a:pt x="16196" y="12630"/>
                  <a:pt x="16247" y="12675"/>
                </a:cubicBezTo>
                <a:cubicBezTo>
                  <a:pt x="16268" y="12693"/>
                  <a:pt x="16289" y="12744"/>
                  <a:pt x="16272" y="12774"/>
                </a:cubicBezTo>
                <a:cubicBezTo>
                  <a:pt x="16245" y="12822"/>
                  <a:pt x="16236" y="12813"/>
                  <a:pt x="16197" y="12849"/>
                </a:cubicBezTo>
                <a:cubicBezTo>
                  <a:pt x="16162" y="12881"/>
                  <a:pt x="16160" y="12863"/>
                  <a:pt x="16148" y="12898"/>
                </a:cubicBezTo>
                <a:cubicBezTo>
                  <a:pt x="16155" y="12920"/>
                  <a:pt x="16190" y="12937"/>
                  <a:pt x="16222" y="12948"/>
                </a:cubicBezTo>
                <a:cubicBezTo>
                  <a:pt x="16252" y="12958"/>
                  <a:pt x="16292" y="12970"/>
                  <a:pt x="16321" y="12973"/>
                </a:cubicBezTo>
                <a:cubicBezTo>
                  <a:pt x="16353" y="12977"/>
                  <a:pt x="16386" y="12979"/>
                  <a:pt x="16396" y="12998"/>
                </a:cubicBezTo>
                <a:cubicBezTo>
                  <a:pt x="16396" y="13006"/>
                  <a:pt x="16396" y="13014"/>
                  <a:pt x="16396" y="13022"/>
                </a:cubicBezTo>
              </a:path>
              <a:path w="11932" h="1638">
                <a:moveTo>
                  <a:pt x="16768" y="13196"/>
                </a:moveTo>
                <a:cubicBezTo>
                  <a:pt x="16776" y="13196"/>
                  <a:pt x="16785" y="13196"/>
                  <a:pt x="16793" y="13196"/>
                </a:cubicBezTo>
                <a:cubicBezTo>
                  <a:pt x="16806" y="13234"/>
                  <a:pt x="16818" y="13217"/>
                  <a:pt x="16818" y="13271"/>
                </a:cubicBezTo>
                <a:cubicBezTo>
                  <a:pt x="16818" y="13368"/>
                  <a:pt x="16827" y="13452"/>
                  <a:pt x="16842" y="13543"/>
                </a:cubicBezTo>
                <a:cubicBezTo>
                  <a:pt x="16848" y="13581"/>
                  <a:pt x="16852" y="13656"/>
                  <a:pt x="16867" y="13692"/>
                </a:cubicBezTo>
                <a:cubicBezTo>
                  <a:pt x="16890" y="13715"/>
                  <a:pt x="16898" y="13719"/>
                  <a:pt x="16892" y="13742"/>
                </a:cubicBezTo>
              </a:path>
              <a:path w="11932" h="1638">
                <a:moveTo>
                  <a:pt x="16694" y="13444"/>
                </a:moveTo>
                <a:cubicBezTo>
                  <a:pt x="16764" y="13465"/>
                  <a:pt x="16796" y="13469"/>
                  <a:pt x="16867" y="13469"/>
                </a:cubicBezTo>
                <a:cubicBezTo>
                  <a:pt x="16933" y="13469"/>
                  <a:pt x="17000" y="13469"/>
                  <a:pt x="17066" y="13469"/>
                </a:cubicBezTo>
                <a:cubicBezTo>
                  <a:pt x="17066" y="13444"/>
                  <a:pt x="17066" y="13436"/>
                  <a:pt x="17066" y="13419"/>
                </a:cubicBezTo>
              </a:path>
              <a:path w="11932" h="1638">
                <a:moveTo>
                  <a:pt x="17884" y="12874"/>
                </a:moveTo>
                <a:cubicBezTo>
                  <a:pt x="17925" y="12887"/>
                  <a:pt x="17909" y="12922"/>
                  <a:pt x="17909" y="12973"/>
                </a:cubicBezTo>
                <a:cubicBezTo>
                  <a:pt x="17909" y="13048"/>
                  <a:pt x="17922" y="13102"/>
                  <a:pt x="17934" y="13171"/>
                </a:cubicBezTo>
                <a:cubicBezTo>
                  <a:pt x="17946" y="13244"/>
                  <a:pt x="17974" y="13324"/>
                  <a:pt x="17983" y="13395"/>
                </a:cubicBezTo>
                <a:cubicBezTo>
                  <a:pt x="17993" y="13477"/>
                  <a:pt x="18015" y="13539"/>
                  <a:pt x="18033" y="13618"/>
                </a:cubicBezTo>
                <a:cubicBezTo>
                  <a:pt x="18044" y="13667"/>
                  <a:pt x="18053" y="13723"/>
                  <a:pt x="18058" y="13767"/>
                </a:cubicBezTo>
                <a:cubicBezTo>
                  <a:pt x="18062" y="13804"/>
                  <a:pt x="18063" y="13829"/>
                  <a:pt x="18083" y="13791"/>
                </a:cubicBezTo>
                <a:cubicBezTo>
                  <a:pt x="18083" y="13783"/>
                  <a:pt x="18083" y="13775"/>
                  <a:pt x="18083" y="13767"/>
                </a:cubicBezTo>
              </a:path>
              <a:path w="11932" h="1638">
                <a:moveTo>
                  <a:pt x="18926" y="13320"/>
                </a:moveTo>
                <a:cubicBezTo>
                  <a:pt x="18926" y="13430"/>
                  <a:pt x="18933" y="13514"/>
                  <a:pt x="18951" y="13618"/>
                </a:cubicBezTo>
                <a:cubicBezTo>
                  <a:pt x="18964" y="13692"/>
                  <a:pt x="18964" y="13767"/>
                  <a:pt x="18976" y="13841"/>
                </a:cubicBezTo>
                <a:cubicBezTo>
                  <a:pt x="18982" y="13876"/>
                  <a:pt x="18997" y="13919"/>
                  <a:pt x="19000" y="13965"/>
                </a:cubicBezTo>
                <a:cubicBezTo>
                  <a:pt x="19002" y="13955"/>
                  <a:pt x="19024" y="13889"/>
                  <a:pt x="19025" y="13841"/>
                </a:cubicBezTo>
                <a:cubicBezTo>
                  <a:pt x="19030" y="13692"/>
                  <a:pt x="19042" y="13539"/>
                  <a:pt x="19050" y="13395"/>
                </a:cubicBezTo>
                <a:cubicBezTo>
                  <a:pt x="19055" y="13299"/>
                  <a:pt x="19030" y="13212"/>
                  <a:pt x="19025" y="13122"/>
                </a:cubicBezTo>
                <a:cubicBezTo>
                  <a:pt x="19018" y="12997"/>
                  <a:pt x="19010" y="12867"/>
                  <a:pt x="19000" y="12750"/>
                </a:cubicBezTo>
                <a:cubicBezTo>
                  <a:pt x="18996" y="12707"/>
                  <a:pt x="18982" y="12603"/>
                  <a:pt x="19025" y="12576"/>
                </a:cubicBezTo>
                <a:cubicBezTo>
                  <a:pt x="19074" y="12545"/>
                  <a:pt x="19203" y="12592"/>
                  <a:pt x="19248" y="12601"/>
                </a:cubicBezTo>
                <a:cubicBezTo>
                  <a:pt x="19348" y="12621"/>
                  <a:pt x="19443" y="12613"/>
                  <a:pt x="19546" y="12626"/>
                </a:cubicBezTo>
                <a:cubicBezTo>
                  <a:pt x="19646" y="12638"/>
                  <a:pt x="19742" y="12642"/>
                  <a:pt x="19844" y="12650"/>
                </a:cubicBezTo>
                <a:cubicBezTo>
                  <a:pt x="19973" y="12661"/>
                  <a:pt x="20107" y="12675"/>
                  <a:pt x="20241" y="12675"/>
                </a:cubicBezTo>
                <a:cubicBezTo>
                  <a:pt x="20351" y="12675"/>
                  <a:pt x="20451" y="12653"/>
                  <a:pt x="20563" y="12650"/>
                </a:cubicBezTo>
                <a:cubicBezTo>
                  <a:pt x="20772" y="12645"/>
                  <a:pt x="20980" y="12663"/>
                  <a:pt x="21183" y="12675"/>
                </a:cubicBezTo>
                <a:cubicBezTo>
                  <a:pt x="21317" y="12683"/>
                  <a:pt x="21448" y="12689"/>
                  <a:pt x="21580" y="12700"/>
                </a:cubicBezTo>
                <a:cubicBezTo>
                  <a:pt x="21713" y="12711"/>
                  <a:pt x="21845" y="12739"/>
                  <a:pt x="21977" y="12750"/>
                </a:cubicBezTo>
                <a:cubicBezTo>
                  <a:pt x="22102" y="12761"/>
                  <a:pt x="22222" y="12771"/>
                  <a:pt x="22349" y="12774"/>
                </a:cubicBezTo>
                <a:cubicBezTo>
                  <a:pt x="22467" y="12777"/>
                  <a:pt x="22577" y="12796"/>
                  <a:pt x="22696" y="12799"/>
                </a:cubicBezTo>
                <a:cubicBezTo>
                  <a:pt x="22849" y="12803"/>
                  <a:pt x="22998" y="12794"/>
                  <a:pt x="23143" y="12774"/>
                </a:cubicBezTo>
                <a:cubicBezTo>
                  <a:pt x="23240" y="12760"/>
                  <a:pt x="23343" y="12764"/>
                  <a:pt x="23440" y="12750"/>
                </a:cubicBezTo>
                <a:cubicBezTo>
                  <a:pt x="23502" y="12741"/>
                  <a:pt x="23550" y="12730"/>
                  <a:pt x="23614" y="12725"/>
                </a:cubicBezTo>
                <a:cubicBezTo>
                  <a:pt x="23666" y="12721"/>
                  <a:pt x="23806" y="12751"/>
                  <a:pt x="23812" y="12750"/>
                </a:cubicBezTo>
                <a:cubicBezTo>
                  <a:pt x="23919" y="12733"/>
                  <a:pt x="23790" y="12740"/>
                  <a:pt x="23812" y="12725"/>
                </a:cubicBezTo>
              </a:path>
              <a:path w="11932" h="1638">
                <a:moveTo>
                  <a:pt x="19422" y="12898"/>
                </a:moveTo>
                <a:cubicBezTo>
                  <a:pt x="19422" y="12955"/>
                  <a:pt x="19406" y="12995"/>
                  <a:pt x="19397" y="13047"/>
                </a:cubicBezTo>
                <a:cubicBezTo>
                  <a:pt x="19383" y="13132"/>
                  <a:pt x="19372" y="13205"/>
                  <a:pt x="19372" y="13295"/>
                </a:cubicBezTo>
                <a:cubicBezTo>
                  <a:pt x="19372" y="13388"/>
                  <a:pt x="19395" y="13480"/>
                  <a:pt x="19422" y="13568"/>
                </a:cubicBezTo>
                <a:cubicBezTo>
                  <a:pt x="19445" y="13641"/>
                  <a:pt x="19488" y="13741"/>
                  <a:pt x="19546" y="13791"/>
                </a:cubicBezTo>
                <a:cubicBezTo>
                  <a:pt x="19596" y="13834"/>
                  <a:pt x="19658" y="13841"/>
                  <a:pt x="19720" y="13841"/>
                </a:cubicBezTo>
                <a:cubicBezTo>
                  <a:pt x="19798" y="13841"/>
                  <a:pt x="19824" y="13797"/>
                  <a:pt x="19869" y="13742"/>
                </a:cubicBezTo>
                <a:cubicBezTo>
                  <a:pt x="19929" y="13669"/>
                  <a:pt x="19913" y="13558"/>
                  <a:pt x="19893" y="13469"/>
                </a:cubicBezTo>
                <a:cubicBezTo>
                  <a:pt x="19877" y="13400"/>
                  <a:pt x="19827" y="13395"/>
                  <a:pt x="19769" y="13395"/>
                </a:cubicBezTo>
                <a:cubicBezTo>
                  <a:pt x="19729" y="13395"/>
                  <a:pt x="19689" y="13401"/>
                  <a:pt x="19670" y="13444"/>
                </a:cubicBezTo>
                <a:cubicBezTo>
                  <a:pt x="19646" y="13498"/>
                  <a:pt x="19683" y="13577"/>
                  <a:pt x="19695" y="13618"/>
                </a:cubicBezTo>
                <a:cubicBezTo>
                  <a:pt x="19705" y="13652"/>
                  <a:pt x="19726" y="13707"/>
                  <a:pt x="19745" y="13717"/>
                </a:cubicBezTo>
                <a:cubicBezTo>
                  <a:pt x="19753" y="13717"/>
                  <a:pt x="19761" y="13717"/>
                  <a:pt x="19769" y="13717"/>
                </a:cubicBezTo>
              </a:path>
              <a:path w="11932" h="1638">
                <a:moveTo>
                  <a:pt x="20141" y="13345"/>
                </a:moveTo>
                <a:cubicBezTo>
                  <a:pt x="20171" y="13449"/>
                  <a:pt x="20207" y="13526"/>
                  <a:pt x="20265" y="13618"/>
                </a:cubicBezTo>
                <a:cubicBezTo>
                  <a:pt x="20329" y="13720"/>
                  <a:pt x="20376" y="13787"/>
                  <a:pt x="20464" y="13866"/>
                </a:cubicBezTo>
                <a:cubicBezTo>
                  <a:pt x="20492" y="13891"/>
                  <a:pt x="20593" y="13994"/>
                  <a:pt x="20638" y="13990"/>
                </a:cubicBezTo>
                <a:cubicBezTo>
                  <a:pt x="20646" y="13982"/>
                  <a:pt x="20654" y="13973"/>
                  <a:pt x="20662" y="13965"/>
                </a:cubicBezTo>
              </a:path>
              <a:path w="11932" h="1638">
                <a:moveTo>
                  <a:pt x="20315" y="13370"/>
                </a:moveTo>
                <a:cubicBezTo>
                  <a:pt x="20276" y="13456"/>
                  <a:pt x="20203" y="13688"/>
                  <a:pt x="20141" y="13791"/>
                </a:cubicBezTo>
                <a:cubicBezTo>
                  <a:pt x="20120" y="13826"/>
                  <a:pt x="20114" y="13906"/>
                  <a:pt x="20092" y="13841"/>
                </a:cubicBezTo>
              </a:path>
              <a:path w="11932" h="1638">
                <a:moveTo>
                  <a:pt x="20489" y="12774"/>
                </a:moveTo>
                <a:cubicBezTo>
                  <a:pt x="20574" y="12795"/>
                  <a:pt x="20629" y="12797"/>
                  <a:pt x="20687" y="12849"/>
                </a:cubicBezTo>
                <a:cubicBezTo>
                  <a:pt x="20726" y="12884"/>
                  <a:pt x="20711" y="12926"/>
                  <a:pt x="20662" y="12948"/>
                </a:cubicBezTo>
                <a:cubicBezTo>
                  <a:pt x="20623" y="12966"/>
                  <a:pt x="20600" y="12962"/>
                  <a:pt x="20588" y="12998"/>
                </a:cubicBezTo>
                <a:cubicBezTo>
                  <a:pt x="20626" y="13007"/>
                  <a:pt x="20657" y="13020"/>
                  <a:pt x="20687" y="13047"/>
                </a:cubicBezTo>
                <a:cubicBezTo>
                  <a:pt x="20733" y="13088"/>
                  <a:pt x="20757" y="13139"/>
                  <a:pt x="20762" y="13196"/>
                </a:cubicBezTo>
                <a:cubicBezTo>
                  <a:pt x="20767" y="13253"/>
                  <a:pt x="20701" y="13246"/>
                  <a:pt x="20662" y="13246"/>
                </a:cubicBezTo>
                <a:cubicBezTo>
                  <a:pt x="20609" y="13246"/>
                  <a:pt x="20579" y="13210"/>
                  <a:pt x="20538" y="13196"/>
                </a:cubicBezTo>
                <a:cubicBezTo>
                  <a:pt x="20530" y="13196"/>
                  <a:pt x="20521" y="13196"/>
                  <a:pt x="20513" y="13196"/>
                </a:cubicBezTo>
              </a:path>
              <a:path w="11932" h="1638">
                <a:moveTo>
                  <a:pt x="21208" y="13221"/>
                </a:moveTo>
                <a:cubicBezTo>
                  <a:pt x="21208" y="13366"/>
                  <a:pt x="21215" y="13506"/>
                  <a:pt x="21233" y="13643"/>
                </a:cubicBezTo>
                <a:cubicBezTo>
                  <a:pt x="21243" y="13720"/>
                  <a:pt x="21265" y="13768"/>
                  <a:pt x="21282" y="13841"/>
                </a:cubicBezTo>
                <a:cubicBezTo>
                  <a:pt x="21282" y="13849"/>
                  <a:pt x="21282" y="13858"/>
                  <a:pt x="21282" y="13866"/>
                </a:cubicBezTo>
              </a:path>
              <a:path w="11932" h="1638">
                <a:moveTo>
                  <a:pt x="21010" y="13593"/>
                </a:moveTo>
                <a:cubicBezTo>
                  <a:pt x="21064" y="13551"/>
                  <a:pt x="21089" y="13590"/>
                  <a:pt x="21158" y="13593"/>
                </a:cubicBezTo>
                <a:cubicBezTo>
                  <a:pt x="21245" y="13597"/>
                  <a:pt x="21319" y="13618"/>
                  <a:pt x="21406" y="13618"/>
                </a:cubicBezTo>
                <a:cubicBezTo>
                  <a:pt x="21439" y="13618"/>
                  <a:pt x="21473" y="13618"/>
                  <a:pt x="21506" y="13618"/>
                </a:cubicBezTo>
              </a:path>
              <a:path w="11932" h="1638">
                <a:moveTo>
                  <a:pt x="21729" y="13246"/>
                </a:moveTo>
                <a:cubicBezTo>
                  <a:pt x="21729" y="13353"/>
                  <a:pt x="21719" y="13440"/>
                  <a:pt x="21704" y="13543"/>
                </a:cubicBezTo>
                <a:cubicBezTo>
                  <a:pt x="21694" y="13614"/>
                  <a:pt x="21729" y="13692"/>
                  <a:pt x="21729" y="13767"/>
                </a:cubicBezTo>
                <a:cubicBezTo>
                  <a:pt x="21729" y="13826"/>
                  <a:pt x="21722" y="13823"/>
                  <a:pt x="21754" y="13866"/>
                </a:cubicBezTo>
              </a:path>
              <a:path w="11932" h="1638">
                <a:moveTo>
                  <a:pt x="21952" y="13419"/>
                </a:moveTo>
                <a:cubicBezTo>
                  <a:pt x="21908" y="13633"/>
                  <a:pt x="21901" y="13628"/>
                  <a:pt x="21927" y="13791"/>
                </a:cubicBezTo>
                <a:cubicBezTo>
                  <a:pt x="21935" y="13844"/>
                  <a:pt x="21963" y="13919"/>
                  <a:pt x="22027" y="13940"/>
                </a:cubicBezTo>
                <a:cubicBezTo>
                  <a:pt x="22082" y="13958"/>
                  <a:pt x="22134" y="13938"/>
                  <a:pt x="22175" y="13915"/>
                </a:cubicBezTo>
                <a:cubicBezTo>
                  <a:pt x="22234" y="13882"/>
                  <a:pt x="22284" y="13813"/>
                  <a:pt x="22299" y="13742"/>
                </a:cubicBezTo>
                <a:cubicBezTo>
                  <a:pt x="22317" y="13660"/>
                  <a:pt x="22308" y="13543"/>
                  <a:pt x="22275" y="13469"/>
                </a:cubicBezTo>
                <a:cubicBezTo>
                  <a:pt x="22241" y="13392"/>
                  <a:pt x="22210" y="13346"/>
                  <a:pt x="22126" y="13320"/>
                </a:cubicBezTo>
                <a:cubicBezTo>
                  <a:pt x="22115" y="13317"/>
                  <a:pt x="21998" y="13265"/>
                  <a:pt x="22002" y="13320"/>
                </a:cubicBezTo>
                <a:cubicBezTo>
                  <a:pt x="22010" y="13337"/>
                  <a:pt x="22019" y="13353"/>
                  <a:pt x="22027" y="13370"/>
                </a:cubicBezTo>
              </a:path>
              <a:path w="11932" h="1638">
                <a:moveTo>
                  <a:pt x="22374" y="13494"/>
                </a:moveTo>
                <a:cubicBezTo>
                  <a:pt x="22412" y="13600"/>
                  <a:pt x="22449" y="13678"/>
                  <a:pt x="22523" y="13767"/>
                </a:cubicBezTo>
                <a:cubicBezTo>
                  <a:pt x="22572" y="13825"/>
                  <a:pt x="22641" y="13861"/>
                  <a:pt x="22696" y="13915"/>
                </a:cubicBezTo>
                <a:cubicBezTo>
                  <a:pt x="22704" y="13923"/>
                  <a:pt x="22713" y="13932"/>
                  <a:pt x="22721" y="13940"/>
                </a:cubicBezTo>
              </a:path>
              <a:path w="11932" h="1638">
                <a:moveTo>
                  <a:pt x="22523" y="13494"/>
                </a:moveTo>
                <a:cubicBezTo>
                  <a:pt x="22465" y="13583"/>
                  <a:pt x="22404" y="13677"/>
                  <a:pt x="22349" y="13767"/>
                </a:cubicBezTo>
                <a:cubicBezTo>
                  <a:pt x="22342" y="13778"/>
                  <a:pt x="22302" y="13889"/>
                  <a:pt x="22299" y="13891"/>
                </a:cubicBezTo>
                <a:cubicBezTo>
                  <a:pt x="22291" y="13891"/>
                  <a:pt x="22283" y="13891"/>
                  <a:pt x="22275" y="13891"/>
                </a:cubicBezTo>
              </a:path>
              <a:path w="11932" h="1638">
                <a:moveTo>
                  <a:pt x="22622" y="12923"/>
                </a:moveTo>
                <a:cubicBezTo>
                  <a:pt x="22691" y="12930"/>
                  <a:pt x="22722" y="12929"/>
                  <a:pt x="22771" y="12973"/>
                </a:cubicBezTo>
                <a:cubicBezTo>
                  <a:pt x="22779" y="12981"/>
                  <a:pt x="22788" y="12990"/>
                  <a:pt x="22796" y="12998"/>
                </a:cubicBezTo>
                <a:cubicBezTo>
                  <a:pt x="22761" y="13044"/>
                  <a:pt x="22744" y="13075"/>
                  <a:pt x="22696" y="13122"/>
                </a:cubicBezTo>
                <a:cubicBezTo>
                  <a:pt x="22663" y="13154"/>
                  <a:pt x="22638" y="13148"/>
                  <a:pt x="22622" y="13196"/>
                </a:cubicBezTo>
                <a:cubicBezTo>
                  <a:pt x="22612" y="13225"/>
                  <a:pt x="22617" y="13280"/>
                  <a:pt x="22647" y="13295"/>
                </a:cubicBezTo>
                <a:cubicBezTo>
                  <a:pt x="22687" y="13315"/>
                  <a:pt x="22730" y="13303"/>
                  <a:pt x="22771" y="13320"/>
                </a:cubicBezTo>
                <a:cubicBezTo>
                  <a:pt x="22813" y="13338"/>
                  <a:pt x="22818" y="13345"/>
                  <a:pt x="22870" y="13345"/>
                </a:cubicBezTo>
                <a:cubicBezTo>
                  <a:pt x="22878" y="13345"/>
                  <a:pt x="22887" y="13345"/>
                  <a:pt x="22895" y="13345"/>
                </a:cubicBezTo>
              </a:path>
              <a:path w="11932" h="1638">
                <a:moveTo>
                  <a:pt x="23093" y="13593"/>
                </a:moveTo>
                <a:cubicBezTo>
                  <a:pt x="23093" y="13731"/>
                  <a:pt x="23088" y="13860"/>
                  <a:pt x="23118" y="13990"/>
                </a:cubicBezTo>
                <a:cubicBezTo>
                  <a:pt x="23134" y="14057"/>
                  <a:pt x="23134" y="14085"/>
                  <a:pt x="23143" y="14139"/>
                </a:cubicBezTo>
              </a:path>
              <a:path w="11932" h="1638">
                <a:moveTo>
                  <a:pt x="22969" y="13816"/>
                </a:moveTo>
                <a:cubicBezTo>
                  <a:pt x="23063" y="13816"/>
                  <a:pt x="23152" y="13818"/>
                  <a:pt x="23242" y="13841"/>
                </a:cubicBezTo>
                <a:cubicBezTo>
                  <a:pt x="23309" y="13864"/>
                  <a:pt x="23327" y="13875"/>
                  <a:pt x="23366" y="13841"/>
                </a:cubicBezTo>
              </a:path>
              <a:path w="11932" h="1638">
                <a:moveTo>
                  <a:pt x="23639" y="13345"/>
                </a:moveTo>
                <a:cubicBezTo>
                  <a:pt x="23701" y="13459"/>
                  <a:pt x="23758" y="13590"/>
                  <a:pt x="23837" y="13692"/>
                </a:cubicBezTo>
                <a:cubicBezTo>
                  <a:pt x="23895" y="13767"/>
                  <a:pt x="23966" y="13877"/>
                  <a:pt x="24036" y="13940"/>
                </a:cubicBezTo>
                <a:cubicBezTo>
                  <a:pt x="24052" y="13948"/>
                  <a:pt x="24069" y="13957"/>
                  <a:pt x="24085" y="13965"/>
                </a:cubicBezTo>
              </a:path>
              <a:path w="11932" h="1638">
                <a:moveTo>
                  <a:pt x="23961" y="13494"/>
                </a:moveTo>
                <a:cubicBezTo>
                  <a:pt x="23866" y="13594"/>
                  <a:pt x="23794" y="13675"/>
                  <a:pt x="23713" y="13767"/>
                </a:cubicBezTo>
                <a:cubicBezTo>
                  <a:pt x="23671" y="13815"/>
                  <a:pt x="23645" y="13869"/>
                  <a:pt x="23614" y="13915"/>
                </a:cubicBezTo>
                <a:cubicBezTo>
                  <a:pt x="23589" y="13940"/>
                  <a:pt x="23581" y="13948"/>
                  <a:pt x="23614" y="13965"/>
                </a:cubicBezTo>
              </a:path>
              <a:path w="11932" h="1638">
                <a:moveTo>
                  <a:pt x="24309" y="13519"/>
                </a:moveTo>
                <a:cubicBezTo>
                  <a:pt x="24328" y="13618"/>
                  <a:pt x="24343" y="13721"/>
                  <a:pt x="24358" y="13816"/>
                </a:cubicBezTo>
                <a:cubicBezTo>
                  <a:pt x="24365" y="13859"/>
                  <a:pt x="24383" y="14067"/>
                  <a:pt x="24383" y="13940"/>
                </a:cubicBezTo>
              </a:path>
              <a:path w="11932" h="1638">
                <a:moveTo>
                  <a:pt x="24135" y="13643"/>
                </a:moveTo>
                <a:cubicBezTo>
                  <a:pt x="24203" y="13656"/>
                  <a:pt x="24267" y="13670"/>
                  <a:pt x="24333" y="13692"/>
                </a:cubicBezTo>
                <a:cubicBezTo>
                  <a:pt x="24422" y="13722"/>
                  <a:pt x="24462" y="13730"/>
                  <a:pt x="24532" y="13717"/>
                </a:cubicBezTo>
              </a:path>
              <a:path w="11932" h="1638">
                <a:moveTo>
                  <a:pt x="24730" y="13370"/>
                </a:moveTo>
                <a:cubicBezTo>
                  <a:pt x="24692" y="13413"/>
                  <a:pt x="24616" y="13478"/>
                  <a:pt x="24631" y="13543"/>
                </a:cubicBezTo>
                <a:cubicBezTo>
                  <a:pt x="24650" y="13622"/>
                  <a:pt x="24683" y="13649"/>
                  <a:pt x="24755" y="13692"/>
                </a:cubicBezTo>
                <a:cubicBezTo>
                  <a:pt x="24809" y="13724"/>
                  <a:pt x="24855" y="13731"/>
                  <a:pt x="24904" y="13692"/>
                </a:cubicBezTo>
                <a:cubicBezTo>
                  <a:pt x="24956" y="13650"/>
                  <a:pt x="24954" y="13603"/>
                  <a:pt x="24954" y="13543"/>
                </a:cubicBezTo>
                <a:cubicBezTo>
                  <a:pt x="24954" y="13459"/>
                  <a:pt x="24942" y="13442"/>
                  <a:pt x="24904" y="13370"/>
                </a:cubicBezTo>
                <a:cubicBezTo>
                  <a:pt x="24880" y="13324"/>
                  <a:pt x="24859" y="13277"/>
                  <a:pt x="24805" y="13271"/>
                </a:cubicBezTo>
                <a:cubicBezTo>
                  <a:pt x="24780" y="13271"/>
                  <a:pt x="24772" y="13271"/>
                  <a:pt x="24755" y="13271"/>
                </a:cubicBezTo>
              </a:path>
              <a:path w="11932" h="1638">
                <a:moveTo>
                  <a:pt x="24730" y="13692"/>
                </a:moveTo>
                <a:cubicBezTo>
                  <a:pt x="24697" y="13731"/>
                  <a:pt x="24616" y="13815"/>
                  <a:pt x="24606" y="13866"/>
                </a:cubicBezTo>
                <a:cubicBezTo>
                  <a:pt x="24592" y="13933"/>
                  <a:pt x="24620" y="14034"/>
                  <a:pt x="24656" y="14089"/>
                </a:cubicBezTo>
                <a:cubicBezTo>
                  <a:pt x="24706" y="14164"/>
                  <a:pt x="24795" y="14207"/>
                  <a:pt x="24879" y="14213"/>
                </a:cubicBezTo>
                <a:cubicBezTo>
                  <a:pt x="24953" y="14219"/>
                  <a:pt x="24992" y="14078"/>
                  <a:pt x="25003" y="14039"/>
                </a:cubicBezTo>
                <a:cubicBezTo>
                  <a:pt x="25017" y="13987"/>
                  <a:pt x="25007" y="13910"/>
                  <a:pt x="24978" y="13866"/>
                </a:cubicBezTo>
                <a:cubicBezTo>
                  <a:pt x="24937" y="13804"/>
                  <a:pt x="24918" y="13793"/>
                  <a:pt x="24854" y="13767"/>
                </a:cubicBezTo>
                <a:cubicBezTo>
                  <a:pt x="24838" y="13759"/>
                  <a:pt x="24821" y="13750"/>
                  <a:pt x="24805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9"/>
          <p:cNvSpPr/>
          <p:nvPr/>
        </p:nvSpPr>
        <p:spPr>
          <a:xfrm>
            <a:off x="6018120" y="4983120"/>
            <a:ext cx="295200" cy="339840"/>
          </a:xfrm>
          <a:custGeom>
            <a:avLst/>
            <a:gdLst/>
            <a:ahLst/>
            <a:rect l="l" t="t" r="r" b="b"/>
            <a:pathLst>
              <a:path w="820" h="944">
                <a:moveTo>
                  <a:pt x="16842" y="14412"/>
                </a:moveTo>
                <a:cubicBezTo>
                  <a:pt x="16825" y="14482"/>
                  <a:pt x="16820" y="14515"/>
                  <a:pt x="16818" y="14585"/>
                </a:cubicBezTo>
                <a:cubicBezTo>
                  <a:pt x="16817" y="14626"/>
                  <a:pt x="16818" y="14668"/>
                  <a:pt x="16818" y="14709"/>
                </a:cubicBezTo>
                <a:cubicBezTo>
                  <a:pt x="16838" y="14653"/>
                  <a:pt x="16855" y="14607"/>
                  <a:pt x="16867" y="14536"/>
                </a:cubicBezTo>
                <a:cubicBezTo>
                  <a:pt x="16878" y="14469"/>
                  <a:pt x="16870" y="14401"/>
                  <a:pt x="16892" y="14337"/>
                </a:cubicBezTo>
                <a:cubicBezTo>
                  <a:pt x="16909" y="14287"/>
                  <a:pt x="16930" y="14232"/>
                  <a:pt x="16942" y="14188"/>
                </a:cubicBezTo>
                <a:cubicBezTo>
                  <a:pt x="16942" y="14180"/>
                  <a:pt x="16942" y="14171"/>
                  <a:pt x="16942" y="14163"/>
                </a:cubicBezTo>
                <a:cubicBezTo>
                  <a:pt x="16975" y="14182"/>
                  <a:pt x="17005" y="14215"/>
                  <a:pt x="17041" y="14238"/>
                </a:cubicBezTo>
                <a:cubicBezTo>
                  <a:pt x="17104" y="14279"/>
                  <a:pt x="17165" y="14349"/>
                  <a:pt x="17214" y="14412"/>
                </a:cubicBezTo>
                <a:cubicBezTo>
                  <a:pt x="17282" y="14499"/>
                  <a:pt x="17371" y="14572"/>
                  <a:pt x="17438" y="14660"/>
                </a:cubicBezTo>
                <a:cubicBezTo>
                  <a:pt x="17479" y="14714"/>
                  <a:pt x="17484" y="14729"/>
                  <a:pt x="17537" y="14759"/>
                </a:cubicBezTo>
                <a:cubicBezTo>
                  <a:pt x="17537" y="14726"/>
                  <a:pt x="17551" y="14739"/>
                  <a:pt x="17537" y="14709"/>
                </a:cubicBezTo>
                <a:cubicBezTo>
                  <a:pt x="17520" y="14671"/>
                  <a:pt x="17493" y="14642"/>
                  <a:pt x="17462" y="14610"/>
                </a:cubicBezTo>
                <a:cubicBezTo>
                  <a:pt x="17415" y="14562"/>
                  <a:pt x="17364" y="14532"/>
                  <a:pt x="17314" y="14486"/>
                </a:cubicBezTo>
                <a:cubicBezTo>
                  <a:pt x="17240" y="14418"/>
                  <a:pt x="17161" y="14360"/>
                  <a:pt x="17090" y="14288"/>
                </a:cubicBezTo>
                <a:cubicBezTo>
                  <a:pt x="17044" y="14242"/>
                  <a:pt x="16998" y="14194"/>
                  <a:pt x="16966" y="14139"/>
                </a:cubicBezTo>
                <a:cubicBezTo>
                  <a:pt x="16948" y="14109"/>
                  <a:pt x="16896" y="14024"/>
                  <a:pt x="16892" y="14015"/>
                </a:cubicBezTo>
                <a:cubicBezTo>
                  <a:pt x="16892" y="14007"/>
                  <a:pt x="16892" y="13998"/>
                  <a:pt x="16892" y="13990"/>
                </a:cubicBezTo>
                <a:cubicBezTo>
                  <a:pt x="16892" y="14023"/>
                  <a:pt x="16892" y="14006"/>
                  <a:pt x="16892" y="14039"/>
                </a:cubicBezTo>
                <a:cubicBezTo>
                  <a:pt x="16892" y="14082"/>
                  <a:pt x="16864" y="14140"/>
                  <a:pt x="16842" y="14188"/>
                </a:cubicBezTo>
                <a:cubicBezTo>
                  <a:pt x="16823" y="14230"/>
                  <a:pt x="16811" y="14271"/>
                  <a:pt x="16793" y="14312"/>
                </a:cubicBezTo>
                <a:cubicBezTo>
                  <a:pt x="16768" y="14368"/>
                  <a:pt x="16769" y="14434"/>
                  <a:pt x="16743" y="14486"/>
                </a:cubicBezTo>
                <a:cubicBezTo>
                  <a:pt x="16735" y="14494"/>
                  <a:pt x="16726" y="14503"/>
                  <a:pt x="16718" y="14511"/>
                </a:cubicBezTo>
                <a:cubicBezTo>
                  <a:pt x="16723" y="14446"/>
                  <a:pt x="16723" y="14423"/>
                  <a:pt x="16743" y="14362"/>
                </a:cubicBezTo>
                <a:cubicBezTo>
                  <a:pt x="16759" y="14315"/>
                  <a:pt x="16753" y="14259"/>
                  <a:pt x="16768" y="14213"/>
                </a:cubicBezTo>
                <a:cubicBezTo>
                  <a:pt x="16784" y="14163"/>
                  <a:pt x="16798" y="14082"/>
                  <a:pt x="16818" y="14039"/>
                </a:cubicBezTo>
                <a:cubicBezTo>
                  <a:pt x="16833" y="14007"/>
                  <a:pt x="16826" y="14022"/>
                  <a:pt x="16842" y="13990"/>
                </a:cubicBezTo>
                <a:cubicBezTo>
                  <a:pt x="16891" y="14029"/>
                  <a:pt x="16908" y="14024"/>
                  <a:pt x="16942" y="14089"/>
                </a:cubicBezTo>
                <a:cubicBezTo>
                  <a:pt x="16991" y="14183"/>
                  <a:pt x="17046" y="14255"/>
                  <a:pt x="17115" y="14337"/>
                </a:cubicBezTo>
                <a:cubicBezTo>
                  <a:pt x="17165" y="14396"/>
                  <a:pt x="17212" y="14454"/>
                  <a:pt x="17264" y="14511"/>
                </a:cubicBezTo>
                <a:cubicBezTo>
                  <a:pt x="17302" y="14552"/>
                  <a:pt x="17335" y="14598"/>
                  <a:pt x="17363" y="14635"/>
                </a:cubicBezTo>
                <a:cubicBezTo>
                  <a:pt x="17370" y="14645"/>
                  <a:pt x="17404" y="14651"/>
                  <a:pt x="17413" y="14660"/>
                </a:cubicBezTo>
                <a:cubicBezTo>
                  <a:pt x="17405" y="14603"/>
                  <a:pt x="17395" y="14609"/>
                  <a:pt x="17363" y="14560"/>
                </a:cubicBezTo>
                <a:cubicBezTo>
                  <a:pt x="17327" y="14505"/>
                  <a:pt x="17301" y="14442"/>
                  <a:pt x="17264" y="14387"/>
                </a:cubicBezTo>
                <a:cubicBezTo>
                  <a:pt x="17206" y="14302"/>
                  <a:pt x="17138" y="14243"/>
                  <a:pt x="17090" y="14163"/>
                </a:cubicBezTo>
                <a:cubicBezTo>
                  <a:pt x="17039" y="14077"/>
                  <a:pt x="16986" y="13967"/>
                  <a:pt x="16917" y="13891"/>
                </a:cubicBezTo>
                <a:cubicBezTo>
                  <a:pt x="16894" y="13866"/>
                  <a:pt x="16881" y="13855"/>
                  <a:pt x="16867" y="13841"/>
                </a:cubicBezTo>
                <a:cubicBezTo>
                  <a:pt x="16826" y="13876"/>
                  <a:pt x="16837" y="13860"/>
                  <a:pt x="16818" y="13915"/>
                </a:cubicBezTo>
                <a:cubicBezTo>
                  <a:pt x="16795" y="13981"/>
                  <a:pt x="16793" y="14016"/>
                  <a:pt x="16793" y="14089"/>
                </a:cubicBezTo>
                <a:cubicBezTo>
                  <a:pt x="16793" y="14250"/>
                  <a:pt x="16792" y="14407"/>
                  <a:pt x="16768" y="14560"/>
                </a:cubicBezTo>
                <a:cubicBezTo>
                  <a:pt x="16762" y="14598"/>
                  <a:pt x="16768" y="14645"/>
                  <a:pt x="16768" y="146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10"/>
          <p:cNvSpPr/>
          <p:nvPr/>
        </p:nvSpPr>
        <p:spPr>
          <a:xfrm>
            <a:off x="3456000" y="5303880"/>
            <a:ext cx="3625920" cy="669960"/>
          </a:xfrm>
          <a:custGeom>
            <a:avLst/>
            <a:gdLst/>
            <a:ahLst/>
            <a:rect l="l" t="t" r="r" b="b"/>
            <a:pathLst>
              <a:path w="10072" h="1861">
                <a:moveTo>
                  <a:pt x="9599" y="15032"/>
                </a:moveTo>
                <a:cubicBezTo>
                  <a:pt x="9599" y="15097"/>
                  <a:pt x="9614" y="15145"/>
                  <a:pt x="9624" y="15205"/>
                </a:cubicBezTo>
                <a:cubicBezTo>
                  <a:pt x="9640" y="15301"/>
                  <a:pt x="9636" y="15407"/>
                  <a:pt x="9649" y="15503"/>
                </a:cubicBezTo>
                <a:cubicBezTo>
                  <a:pt x="9662" y="15597"/>
                  <a:pt x="9628" y="15683"/>
                  <a:pt x="9624" y="15776"/>
                </a:cubicBezTo>
                <a:cubicBezTo>
                  <a:pt x="9621" y="15852"/>
                  <a:pt x="9614" y="15902"/>
                  <a:pt x="9599" y="15974"/>
                </a:cubicBezTo>
                <a:cubicBezTo>
                  <a:pt x="9599" y="15941"/>
                  <a:pt x="9599" y="15925"/>
                  <a:pt x="9599" y="15900"/>
                </a:cubicBezTo>
              </a:path>
              <a:path w="10072" h="1861">
                <a:moveTo>
                  <a:pt x="9922" y="15032"/>
                </a:moveTo>
                <a:cubicBezTo>
                  <a:pt x="10056" y="15032"/>
                  <a:pt x="10200" y="15043"/>
                  <a:pt x="10319" y="15007"/>
                </a:cubicBezTo>
                <a:cubicBezTo>
                  <a:pt x="10347" y="15007"/>
                  <a:pt x="10358" y="15005"/>
                  <a:pt x="10368" y="14982"/>
                </a:cubicBezTo>
              </a:path>
              <a:path w="10072" h="1861">
                <a:moveTo>
                  <a:pt x="10021" y="14858"/>
                </a:moveTo>
                <a:cubicBezTo>
                  <a:pt x="9943" y="14871"/>
                  <a:pt x="9985" y="14875"/>
                  <a:pt x="9947" y="14932"/>
                </a:cubicBezTo>
                <a:cubicBezTo>
                  <a:pt x="9925" y="14965"/>
                  <a:pt x="9900" y="15017"/>
                  <a:pt x="9897" y="15056"/>
                </a:cubicBezTo>
                <a:cubicBezTo>
                  <a:pt x="9892" y="15123"/>
                  <a:pt x="9907" y="15149"/>
                  <a:pt x="9922" y="15180"/>
                </a:cubicBezTo>
                <a:cubicBezTo>
                  <a:pt x="9935" y="15207"/>
                  <a:pt x="9953" y="15225"/>
                  <a:pt x="9996" y="15230"/>
                </a:cubicBezTo>
                <a:cubicBezTo>
                  <a:pt x="10035" y="15234"/>
                  <a:pt x="10118" y="15272"/>
                  <a:pt x="10145" y="15304"/>
                </a:cubicBezTo>
                <a:cubicBezTo>
                  <a:pt x="10183" y="15349"/>
                  <a:pt x="10273" y="15450"/>
                  <a:pt x="10294" y="15503"/>
                </a:cubicBezTo>
                <a:cubicBezTo>
                  <a:pt x="10313" y="15552"/>
                  <a:pt x="10319" y="15622"/>
                  <a:pt x="10319" y="15677"/>
                </a:cubicBezTo>
                <a:cubicBezTo>
                  <a:pt x="10319" y="15716"/>
                  <a:pt x="10290" y="15809"/>
                  <a:pt x="10244" y="15825"/>
                </a:cubicBezTo>
                <a:cubicBezTo>
                  <a:pt x="10205" y="15839"/>
                  <a:pt x="10163" y="15850"/>
                  <a:pt x="10120" y="15850"/>
                </a:cubicBezTo>
                <a:cubicBezTo>
                  <a:pt x="10075" y="15850"/>
                  <a:pt x="10052" y="15852"/>
                  <a:pt x="10046" y="15801"/>
                </a:cubicBezTo>
                <a:cubicBezTo>
                  <a:pt x="10043" y="15777"/>
                  <a:pt x="10046" y="15750"/>
                  <a:pt x="10046" y="15726"/>
                </a:cubicBezTo>
              </a:path>
              <a:path w="10072" h="1861">
                <a:moveTo>
                  <a:pt x="10542" y="15825"/>
                </a:moveTo>
                <a:cubicBezTo>
                  <a:pt x="10550" y="15825"/>
                  <a:pt x="10559" y="15825"/>
                  <a:pt x="10567" y="15825"/>
                </a:cubicBezTo>
              </a:path>
              <a:path w="10072" h="1861">
                <a:moveTo>
                  <a:pt x="11038" y="15180"/>
                </a:moveTo>
                <a:cubicBezTo>
                  <a:pt x="11089" y="15231"/>
                  <a:pt x="11090" y="15242"/>
                  <a:pt x="11112" y="15304"/>
                </a:cubicBezTo>
                <a:cubicBezTo>
                  <a:pt x="11137" y="15374"/>
                  <a:pt x="11200" y="15438"/>
                  <a:pt x="11237" y="15503"/>
                </a:cubicBezTo>
                <a:cubicBezTo>
                  <a:pt x="11289" y="15595"/>
                  <a:pt x="11370" y="15668"/>
                  <a:pt x="11435" y="15751"/>
                </a:cubicBezTo>
                <a:cubicBezTo>
                  <a:pt x="11482" y="15811"/>
                  <a:pt x="11510" y="15944"/>
                  <a:pt x="11584" y="15925"/>
                </a:cubicBezTo>
                <a:cubicBezTo>
                  <a:pt x="11584" y="15917"/>
                  <a:pt x="11584" y="15908"/>
                  <a:pt x="11584" y="15900"/>
                </a:cubicBezTo>
              </a:path>
              <a:path w="10072" h="1861">
                <a:moveTo>
                  <a:pt x="11385" y="15180"/>
                </a:moveTo>
                <a:cubicBezTo>
                  <a:pt x="11352" y="15239"/>
                  <a:pt x="11317" y="15292"/>
                  <a:pt x="11286" y="15354"/>
                </a:cubicBezTo>
                <a:cubicBezTo>
                  <a:pt x="11228" y="15470"/>
                  <a:pt x="11176" y="15584"/>
                  <a:pt x="11137" y="15701"/>
                </a:cubicBezTo>
                <a:cubicBezTo>
                  <a:pt x="11131" y="15720"/>
                  <a:pt x="11097" y="15842"/>
                  <a:pt x="11088" y="15850"/>
                </a:cubicBezTo>
                <a:cubicBezTo>
                  <a:pt x="11060" y="15874"/>
                  <a:pt x="11020" y="15907"/>
                  <a:pt x="11038" y="15875"/>
                </a:cubicBezTo>
                <a:cubicBezTo>
                  <a:pt x="11046" y="15867"/>
                  <a:pt x="11055" y="15858"/>
                  <a:pt x="11063" y="15850"/>
                </a:cubicBezTo>
              </a:path>
              <a:path w="10072" h="1861">
                <a:moveTo>
                  <a:pt x="11460" y="14759"/>
                </a:moveTo>
                <a:cubicBezTo>
                  <a:pt x="11471" y="14754"/>
                  <a:pt x="11564" y="14710"/>
                  <a:pt x="11584" y="14734"/>
                </a:cubicBezTo>
                <a:cubicBezTo>
                  <a:pt x="11602" y="14757"/>
                  <a:pt x="11646" y="14796"/>
                  <a:pt x="11658" y="14833"/>
                </a:cubicBezTo>
                <a:cubicBezTo>
                  <a:pt x="11668" y="14864"/>
                  <a:pt x="11646" y="14912"/>
                  <a:pt x="11633" y="14932"/>
                </a:cubicBezTo>
                <a:cubicBezTo>
                  <a:pt x="11613" y="14963"/>
                  <a:pt x="11568" y="14964"/>
                  <a:pt x="11559" y="14982"/>
                </a:cubicBezTo>
                <a:cubicBezTo>
                  <a:pt x="11546" y="15008"/>
                  <a:pt x="11558" y="15068"/>
                  <a:pt x="11584" y="15081"/>
                </a:cubicBezTo>
                <a:cubicBezTo>
                  <a:pt x="11616" y="15097"/>
                  <a:pt x="11675" y="15124"/>
                  <a:pt x="11708" y="15131"/>
                </a:cubicBezTo>
                <a:cubicBezTo>
                  <a:pt x="11749" y="15131"/>
                  <a:pt x="11757" y="15131"/>
                  <a:pt x="11782" y="15131"/>
                </a:cubicBezTo>
              </a:path>
              <a:path w="10072" h="1861">
                <a:moveTo>
                  <a:pt x="11807" y="15503"/>
                </a:moveTo>
                <a:cubicBezTo>
                  <a:pt x="11865" y="15503"/>
                  <a:pt x="11923" y="15503"/>
                  <a:pt x="11981" y="15503"/>
                </a:cubicBezTo>
              </a:path>
              <a:path w="10072" h="1861">
                <a:moveTo>
                  <a:pt x="12154" y="15156"/>
                </a:moveTo>
                <a:cubicBezTo>
                  <a:pt x="12215" y="15162"/>
                  <a:pt x="12275" y="15173"/>
                  <a:pt x="12328" y="15205"/>
                </a:cubicBezTo>
                <a:cubicBezTo>
                  <a:pt x="12388" y="15241"/>
                  <a:pt x="12400" y="15297"/>
                  <a:pt x="12427" y="15354"/>
                </a:cubicBezTo>
                <a:cubicBezTo>
                  <a:pt x="12466" y="15436"/>
                  <a:pt x="12445" y="15590"/>
                  <a:pt x="12402" y="15677"/>
                </a:cubicBezTo>
                <a:cubicBezTo>
                  <a:pt x="12378" y="15726"/>
                  <a:pt x="12372" y="15758"/>
                  <a:pt x="12328" y="15801"/>
                </a:cubicBezTo>
                <a:cubicBezTo>
                  <a:pt x="12300" y="15829"/>
                  <a:pt x="12289" y="15841"/>
                  <a:pt x="12254" y="15850"/>
                </a:cubicBezTo>
                <a:cubicBezTo>
                  <a:pt x="12254" y="15794"/>
                  <a:pt x="12244" y="15772"/>
                  <a:pt x="12229" y="15726"/>
                </a:cubicBezTo>
                <a:cubicBezTo>
                  <a:pt x="12212" y="15676"/>
                  <a:pt x="12228" y="15681"/>
                  <a:pt x="12254" y="15701"/>
                </a:cubicBezTo>
                <a:cubicBezTo>
                  <a:pt x="12305" y="15740"/>
                  <a:pt x="12349" y="15790"/>
                  <a:pt x="12402" y="15825"/>
                </a:cubicBezTo>
                <a:cubicBezTo>
                  <a:pt x="12460" y="15863"/>
                  <a:pt x="12536" y="15878"/>
                  <a:pt x="12601" y="15900"/>
                </a:cubicBezTo>
              </a:path>
              <a:path w="10072" h="1861">
                <a:moveTo>
                  <a:pt x="12626" y="15404"/>
                </a:moveTo>
                <a:cubicBezTo>
                  <a:pt x="12684" y="15506"/>
                  <a:pt x="12752" y="15584"/>
                  <a:pt x="12824" y="15677"/>
                </a:cubicBezTo>
                <a:cubicBezTo>
                  <a:pt x="12885" y="15756"/>
                  <a:pt x="12971" y="15886"/>
                  <a:pt x="13072" y="15925"/>
                </a:cubicBezTo>
                <a:cubicBezTo>
                  <a:pt x="13080" y="15925"/>
                  <a:pt x="13089" y="15925"/>
                  <a:pt x="13097" y="15925"/>
                </a:cubicBezTo>
              </a:path>
              <a:path w="10072" h="1861">
                <a:moveTo>
                  <a:pt x="12849" y="15404"/>
                </a:moveTo>
                <a:cubicBezTo>
                  <a:pt x="12771" y="15520"/>
                  <a:pt x="12726" y="15640"/>
                  <a:pt x="12650" y="15751"/>
                </a:cubicBezTo>
                <a:cubicBezTo>
                  <a:pt x="12617" y="15785"/>
                  <a:pt x="12609" y="15807"/>
                  <a:pt x="12626" y="15850"/>
                </a:cubicBezTo>
              </a:path>
              <a:path w="10072" h="1861">
                <a:moveTo>
                  <a:pt x="13295" y="15429"/>
                </a:moveTo>
                <a:cubicBezTo>
                  <a:pt x="13295" y="15543"/>
                  <a:pt x="13289" y="15669"/>
                  <a:pt x="13320" y="15776"/>
                </a:cubicBezTo>
                <a:cubicBezTo>
                  <a:pt x="13337" y="15835"/>
                  <a:pt x="13370" y="15838"/>
                  <a:pt x="13370" y="15900"/>
                </a:cubicBezTo>
              </a:path>
              <a:path w="10072" h="1861">
                <a:moveTo>
                  <a:pt x="13122" y="15553"/>
                </a:moveTo>
                <a:cubicBezTo>
                  <a:pt x="13177" y="15585"/>
                  <a:pt x="13251" y="15599"/>
                  <a:pt x="13320" y="15602"/>
                </a:cubicBezTo>
                <a:cubicBezTo>
                  <a:pt x="13386" y="15602"/>
                  <a:pt x="13403" y="15602"/>
                  <a:pt x="13444" y="15602"/>
                </a:cubicBezTo>
              </a:path>
              <a:path w="10072" h="1861">
                <a:moveTo>
                  <a:pt x="13692" y="15280"/>
                </a:moveTo>
                <a:cubicBezTo>
                  <a:pt x="13806" y="15290"/>
                  <a:pt x="13803" y="15295"/>
                  <a:pt x="13866" y="15379"/>
                </a:cubicBezTo>
                <a:cubicBezTo>
                  <a:pt x="13892" y="15413"/>
                  <a:pt x="13920" y="15501"/>
                  <a:pt x="13866" y="15528"/>
                </a:cubicBezTo>
                <a:cubicBezTo>
                  <a:pt x="13851" y="15535"/>
                  <a:pt x="13808" y="15528"/>
                  <a:pt x="13791" y="15528"/>
                </a:cubicBezTo>
                <a:cubicBezTo>
                  <a:pt x="13803" y="15563"/>
                  <a:pt x="13839" y="15559"/>
                  <a:pt x="13866" y="15602"/>
                </a:cubicBezTo>
                <a:cubicBezTo>
                  <a:pt x="13916" y="15680"/>
                  <a:pt x="13959" y="15735"/>
                  <a:pt x="13990" y="15825"/>
                </a:cubicBezTo>
                <a:cubicBezTo>
                  <a:pt x="14009" y="15879"/>
                  <a:pt x="14047" y="15981"/>
                  <a:pt x="13990" y="16024"/>
                </a:cubicBezTo>
                <a:cubicBezTo>
                  <a:pt x="13951" y="16054"/>
                  <a:pt x="13879" y="16065"/>
                  <a:pt x="13841" y="16024"/>
                </a:cubicBezTo>
                <a:cubicBezTo>
                  <a:pt x="13790" y="15969"/>
                  <a:pt x="13751" y="15893"/>
                  <a:pt x="13717" y="15825"/>
                </a:cubicBezTo>
              </a:path>
              <a:path w="10072" h="1861">
                <a:moveTo>
                  <a:pt x="14238" y="15478"/>
                </a:moveTo>
                <a:cubicBezTo>
                  <a:pt x="14258" y="15645"/>
                  <a:pt x="14281" y="15768"/>
                  <a:pt x="14312" y="15925"/>
                </a:cubicBezTo>
                <a:cubicBezTo>
                  <a:pt x="14328" y="16006"/>
                  <a:pt x="14333" y="16089"/>
                  <a:pt x="14337" y="16173"/>
                </a:cubicBezTo>
                <a:cubicBezTo>
                  <a:pt x="14337" y="16181"/>
                  <a:pt x="14337" y="16189"/>
                  <a:pt x="14337" y="16197"/>
                </a:cubicBezTo>
                <a:cubicBezTo>
                  <a:pt x="14324" y="16163"/>
                  <a:pt x="14321" y="16183"/>
                  <a:pt x="14312" y="16148"/>
                </a:cubicBezTo>
                <a:cubicBezTo>
                  <a:pt x="14291" y="16066"/>
                  <a:pt x="14298" y="15984"/>
                  <a:pt x="14288" y="15900"/>
                </a:cubicBezTo>
                <a:cubicBezTo>
                  <a:pt x="14273" y="15773"/>
                  <a:pt x="14247" y="15653"/>
                  <a:pt x="14238" y="15528"/>
                </a:cubicBezTo>
                <a:cubicBezTo>
                  <a:pt x="14231" y="15430"/>
                  <a:pt x="14230" y="15350"/>
                  <a:pt x="14213" y="15255"/>
                </a:cubicBezTo>
                <a:cubicBezTo>
                  <a:pt x="14204" y="15204"/>
                  <a:pt x="14196" y="15156"/>
                  <a:pt x="14188" y="15106"/>
                </a:cubicBezTo>
                <a:cubicBezTo>
                  <a:pt x="14188" y="15098"/>
                  <a:pt x="14188" y="15089"/>
                  <a:pt x="14188" y="15081"/>
                </a:cubicBezTo>
                <a:cubicBezTo>
                  <a:pt x="14705" y="15081"/>
                  <a:pt x="15213" y="15106"/>
                  <a:pt x="15726" y="15106"/>
                </a:cubicBezTo>
                <a:cubicBezTo>
                  <a:pt x="15910" y="15106"/>
                  <a:pt x="16094" y="15090"/>
                  <a:pt x="16272" y="15081"/>
                </a:cubicBezTo>
                <a:cubicBezTo>
                  <a:pt x="16473" y="15071"/>
                  <a:pt x="16668" y="15098"/>
                  <a:pt x="16867" y="15106"/>
                </a:cubicBezTo>
                <a:cubicBezTo>
                  <a:pt x="17107" y="15116"/>
                  <a:pt x="17348" y="15123"/>
                  <a:pt x="17587" y="15131"/>
                </a:cubicBezTo>
                <a:cubicBezTo>
                  <a:pt x="17722" y="15135"/>
                  <a:pt x="17851" y="15146"/>
                  <a:pt x="17983" y="15156"/>
                </a:cubicBezTo>
                <a:cubicBezTo>
                  <a:pt x="18369" y="15185"/>
                  <a:pt x="18763" y="15157"/>
                  <a:pt x="19149" y="15180"/>
                </a:cubicBezTo>
                <a:cubicBezTo>
                  <a:pt x="19224" y="15184"/>
                  <a:pt x="19304" y="15200"/>
                  <a:pt x="19372" y="15205"/>
                </a:cubicBezTo>
                <a:cubicBezTo>
                  <a:pt x="19465" y="15212"/>
                  <a:pt x="19593" y="15187"/>
                  <a:pt x="19645" y="15180"/>
                </a:cubicBezTo>
                <a:cubicBezTo>
                  <a:pt x="19653" y="15180"/>
                  <a:pt x="19662" y="15180"/>
                  <a:pt x="19670" y="15180"/>
                </a:cubicBezTo>
              </a:path>
              <a:path w="10072" h="1861">
                <a:moveTo>
                  <a:pt x="14387" y="15503"/>
                </a:moveTo>
                <a:cubicBezTo>
                  <a:pt x="14435" y="15581"/>
                  <a:pt x="14504" y="15629"/>
                  <a:pt x="14560" y="15701"/>
                </a:cubicBezTo>
                <a:cubicBezTo>
                  <a:pt x="14644" y="15809"/>
                  <a:pt x="14736" y="15902"/>
                  <a:pt x="14833" y="15999"/>
                </a:cubicBezTo>
                <a:cubicBezTo>
                  <a:pt x="14934" y="16099"/>
                  <a:pt x="14989" y="16219"/>
                  <a:pt x="15081" y="16321"/>
                </a:cubicBezTo>
                <a:cubicBezTo>
                  <a:pt x="15127" y="16372"/>
                  <a:pt x="15171" y="16419"/>
                  <a:pt x="15205" y="16371"/>
                </a:cubicBezTo>
                <a:cubicBezTo>
                  <a:pt x="15205" y="16363"/>
                  <a:pt x="15205" y="16354"/>
                  <a:pt x="15205" y="16346"/>
                </a:cubicBezTo>
              </a:path>
              <a:path w="10072" h="1861">
                <a:moveTo>
                  <a:pt x="14759" y="15453"/>
                </a:moveTo>
                <a:cubicBezTo>
                  <a:pt x="14722" y="15554"/>
                  <a:pt x="14673" y="15650"/>
                  <a:pt x="14635" y="15751"/>
                </a:cubicBezTo>
                <a:cubicBezTo>
                  <a:pt x="14601" y="15842"/>
                  <a:pt x="14566" y="15938"/>
                  <a:pt x="14536" y="16024"/>
                </a:cubicBezTo>
                <a:cubicBezTo>
                  <a:pt x="14519" y="16071"/>
                  <a:pt x="14505" y="16159"/>
                  <a:pt x="14486" y="16197"/>
                </a:cubicBezTo>
                <a:cubicBezTo>
                  <a:pt x="14463" y="16243"/>
                  <a:pt x="14444" y="16244"/>
                  <a:pt x="14486" y="16272"/>
                </a:cubicBezTo>
              </a:path>
              <a:path w="10072" h="1861">
                <a:moveTo>
                  <a:pt x="15032" y="15379"/>
                </a:moveTo>
                <a:cubicBezTo>
                  <a:pt x="15032" y="15415"/>
                  <a:pt x="15025" y="15451"/>
                  <a:pt x="15007" y="15478"/>
                </a:cubicBezTo>
                <a:cubicBezTo>
                  <a:pt x="14984" y="15501"/>
                  <a:pt x="14976" y="15505"/>
                  <a:pt x="14982" y="15528"/>
                </a:cubicBezTo>
                <a:cubicBezTo>
                  <a:pt x="15006" y="15536"/>
                  <a:pt x="15029" y="15559"/>
                  <a:pt x="15056" y="15577"/>
                </a:cubicBezTo>
                <a:cubicBezTo>
                  <a:pt x="15106" y="15611"/>
                  <a:pt x="15126" y="15610"/>
                  <a:pt x="15180" y="15577"/>
                </a:cubicBezTo>
              </a:path>
              <a:path w="10072" h="1861">
                <a:moveTo>
                  <a:pt x="15180" y="15156"/>
                </a:moveTo>
                <a:cubicBezTo>
                  <a:pt x="15180" y="15252"/>
                  <a:pt x="15194" y="15339"/>
                  <a:pt x="15205" y="15429"/>
                </a:cubicBezTo>
                <a:cubicBezTo>
                  <a:pt x="15217" y="15522"/>
                  <a:pt x="15215" y="15612"/>
                  <a:pt x="15230" y="15701"/>
                </a:cubicBezTo>
                <a:cubicBezTo>
                  <a:pt x="15239" y="15755"/>
                  <a:pt x="15230" y="15819"/>
                  <a:pt x="15230" y="15875"/>
                </a:cubicBezTo>
              </a:path>
              <a:path w="10072" h="1861">
                <a:moveTo>
                  <a:pt x="15429" y="15925"/>
                </a:moveTo>
                <a:cubicBezTo>
                  <a:pt x="15486" y="15900"/>
                  <a:pt x="15518" y="15880"/>
                  <a:pt x="15577" y="15875"/>
                </a:cubicBezTo>
                <a:cubicBezTo>
                  <a:pt x="15642" y="15870"/>
                  <a:pt x="15688" y="15895"/>
                  <a:pt x="15751" y="15900"/>
                </a:cubicBezTo>
                <a:cubicBezTo>
                  <a:pt x="15817" y="15905"/>
                  <a:pt x="15872" y="15890"/>
                  <a:pt x="15925" y="15875"/>
                </a:cubicBezTo>
                <a:cubicBezTo>
                  <a:pt x="15933" y="15875"/>
                  <a:pt x="15941" y="15875"/>
                  <a:pt x="15949" y="15875"/>
                </a:cubicBezTo>
              </a:path>
              <a:path w="10072" h="1861">
                <a:moveTo>
                  <a:pt x="15776" y="15453"/>
                </a:moveTo>
                <a:cubicBezTo>
                  <a:pt x="15776" y="15547"/>
                  <a:pt x="15791" y="15640"/>
                  <a:pt x="15801" y="15726"/>
                </a:cubicBezTo>
                <a:cubicBezTo>
                  <a:pt x="15811" y="15809"/>
                  <a:pt x="15821" y="15894"/>
                  <a:pt x="15825" y="15974"/>
                </a:cubicBezTo>
                <a:cubicBezTo>
                  <a:pt x="15828" y="16038"/>
                  <a:pt x="15844" y="16088"/>
                  <a:pt x="15850" y="16148"/>
                </a:cubicBezTo>
                <a:cubicBezTo>
                  <a:pt x="15850" y="16156"/>
                  <a:pt x="15850" y="16165"/>
                  <a:pt x="15850" y="16173"/>
                </a:cubicBezTo>
              </a:path>
              <a:path w="10072" h="1861">
                <a:moveTo>
                  <a:pt x="16222" y="15602"/>
                </a:moveTo>
                <a:cubicBezTo>
                  <a:pt x="16305" y="15528"/>
                  <a:pt x="16317" y="15503"/>
                  <a:pt x="16421" y="15503"/>
                </a:cubicBezTo>
                <a:cubicBezTo>
                  <a:pt x="16475" y="15503"/>
                  <a:pt x="16503" y="15516"/>
                  <a:pt x="16545" y="15553"/>
                </a:cubicBezTo>
                <a:cubicBezTo>
                  <a:pt x="16572" y="15577"/>
                  <a:pt x="16616" y="15637"/>
                  <a:pt x="16594" y="15677"/>
                </a:cubicBezTo>
                <a:cubicBezTo>
                  <a:pt x="16578" y="15707"/>
                  <a:pt x="16522" y="15786"/>
                  <a:pt x="16495" y="15801"/>
                </a:cubicBezTo>
                <a:cubicBezTo>
                  <a:pt x="16472" y="15814"/>
                  <a:pt x="16384" y="15834"/>
                  <a:pt x="16371" y="15850"/>
                </a:cubicBezTo>
                <a:cubicBezTo>
                  <a:pt x="16350" y="15876"/>
                  <a:pt x="16343" y="15891"/>
                  <a:pt x="16297" y="15900"/>
                </a:cubicBezTo>
                <a:cubicBezTo>
                  <a:pt x="16306" y="15928"/>
                  <a:pt x="16330" y="15946"/>
                  <a:pt x="16371" y="15949"/>
                </a:cubicBezTo>
                <a:cubicBezTo>
                  <a:pt x="16427" y="15953"/>
                  <a:pt x="16448" y="15969"/>
                  <a:pt x="16495" y="15974"/>
                </a:cubicBezTo>
                <a:cubicBezTo>
                  <a:pt x="16554" y="15981"/>
                  <a:pt x="16579" y="16010"/>
                  <a:pt x="16619" y="16049"/>
                </a:cubicBezTo>
                <a:cubicBezTo>
                  <a:pt x="16650" y="16079"/>
                  <a:pt x="16677" y="16175"/>
                  <a:pt x="16669" y="16222"/>
                </a:cubicBezTo>
                <a:cubicBezTo>
                  <a:pt x="16658" y="16283"/>
                  <a:pt x="16650" y="16360"/>
                  <a:pt x="16594" y="16396"/>
                </a:cubicBezTo>
                <a:cubicBezTo>
                  <a:pt x="16544" y="16429"/>
                  <a:pt x="16503" y="16421"/>
                  <a:pt x="16446" y="16421"/>
                </a:cubicBezTo>
                <a:cubicBezTo>
                  <a:pt x="16408" y="16421"/>
                  <a:pt x="16345" y="16377"/>
                  <a:pt x="16321" y="16346"/>
                </a:cubicBezTo>
                <a:cubicBezTo>
                  <a:pt x="16278" y="16281"/>
                  <a:pt x="16267" y="16266"/>
                  <a:pt x="16247" y="16222"/>
                </a:cubicBezTo>
              </a:path>
              <a:path w="10072" h="1861">
                <a:moveTo>
                  <a:pt x="16743" y="15776"/>
                </a:moveTo>
                <a:cubicBezTo>
                  <a:pt x="16815" y="15833"/>
                  <a:pt x="16884" y="15899"/>
                  <a:pt x="16942" y="15974"/>
                </a:cubicBezTo>
                <a:cubicBezTo>
                  <a:pt x="17030" y="16087"/>
                  <a:pt x="17085" y="16205"/>
                  <a:pt x="17165" y="16321"/>
                </a:cubicBezTo>
                <a:cubicBezTo>
                  <a:pt x="17203" y="16376"/>
                  <a:pt x="17238" y="16410"/>
                  <a:pt x="17289" y="16446"/>
                </a:cubicBezTo>
              </a:path>
              <a:path w="10072" h="1861">
                <a:moveTo>
                  <a:pt x="17090" y="15677"/>
                </a:moveTo>
                <a:cubicBezTo>
                  <a:pt x="16974" y="15793"/>
                  <a:pt x="16927" y="15835"/>
                  <a:pt x="16867" y="15974"/>
                </a:cubicBezTo>
                <a:cubicBezTo>
                  <a:pt x="16839" y="16039"/>
                  <a:pt x="16780" y="16128"/>
                  <a:pt x="16768" y="16197"/>
                </a:cubicBezTo>
                <a:cubicBezTo>
                  <a:pt x="16756" y="16264"/>
                  <a:pt x="16758" y="16312"/>
                  <a:pt x="16743" y="16371"/>
                </a:cubicBezTo>
              </a:path>
              <a:path w="10072" h="1861">
                <a:moveTo>
                  <a:pt x="17264" y="15379"/>
                </a:moveTo>
                <a:cubicBezTo>
                  <a:pt x="17387" y="15342"/>
                  <a:pt x="17333" y="15368"/>
                  <a:pt x="17438" y="15404"/>
                </a:cubicBezTo>
                <a:cubicBezTo>
                  <a:pt x="17474" y="15416"/>
                  <a:pt x="17462" y="15435"/>
                  <a:pt x="17462" y="15478"/>
                </a:cubicBezTo>
                <a:cubicBezTo>
                  <a:pt x="17462" y="15522"/>
                  <a:pt x="17418" y="15547"/>
                  <a:pt x="17388" y="15577"/>
                </a:cubicBezTo>
                <a:cubicBezTo>
                  <a:pt x="17351" y="15613"/>
                  <a:pt x="17378" y="15614"/>
                  <a:pt x="17338" y="15627"/>
                </a:cubicBezTo>
                <a:cubicBezTo>
                  <a:pt x="17339" y="15630"/>
                  <a:pt x="17360" y="15698"/>
                  <a:pt x="17363" y="15701"/>
                </a:cubicBezTo>
                <a:cubicBezTo>
                  <a:pt x="17387" y="15720"/>
                  <a:pt x="17458" y="15742"/>
                  <a:pt x="17487" y="15751"/>
                </a:cubicBezTo>
                <a:cubicBezTo>
                  <a:pt x="17521" y="15761"/>
                  <a:pt x="17575" y="15751"/>
                  <a:pt x="17611" y="15751"/>
                </a:cubicBezTo>
              </a:path>
              <a:path w="10072" h="1861">
                <a:moveTo>
                  <a:pt x="18058" y="15528"/>
                </a:moveTo>
                <a:cubicBezTo>
                  <a:pt x="18058" y="15593"/>
                  <a:pt x="18037" y="15638"/>
                  <a:pt x="18033" y="15701"/>
                </a:cubicBezTo>
                <a:cubicBezTo>
                  <a:pt x="18020" y="15927"/>
                  <a:pt x="17781" y="16376"/>
                  <a:pt x="18008" y="16371"/>
                </a:cubicBezTo>
                <a:cubicBezTo>
                  <a:pt x="18016" y="16363"/>
                  <a:pt x="18025" y="16354"/>
                  <a:pt x="18033" y="16346"/>
                </a:cubicBezTo>
              </a:path>
              <a:path w="10072" h="1861">
                <a:moveTo>
                  <a:pt x="17835" y="15900"/>
                </a:moveTo>
                <a:cubicBezTo>
                  <a:pt x="17923" y="15913"/>
                  <a:pt x="18030" y="15934"/>
                  <a:pt x="18107" y="15949"/>
                </a:cubicBezTo>
                <a:cubicBezTo>
                  <a:pt x="18155" y="15958"/>
                  <a:pt x="18221" y="15956"/>
                  <a:pt x="18256" y="15925"/>
                </a:cubicBezTo>
                <a:cubicBezTo>
                  <a:pt x="18284" y="15900"/>
                  <a:pt x="18284" y="15880"/>
                  <a:pt x="18306" y="15850"/>
                </a:cubicBezTo>
              </a:path>
              <a:path w="10072" h="1861">
                <a:moveTo>
                  <a:pt x="18752" y="15528"/>
                </a:moveTo>
                <a:cubicBezTo>
                  <a:pt x="18780" y="15632"/>
                  <a:pt x="18782" y="15723"/>
                  <a:pt x="18802" y="15825"/>
                </a:cubicBezTo>
                <a:cubicBezTo>
                  <a:pt x="18828" y="15958"/>
                  <a:pt x="18849" y="16085"/>
                  <a:pt x="18852" y="16222"/>
                </a:cubicBezTo>
                <a:cubicBezTo>
                  <a:pt x="18855" y="16353"/>
                  <a:pt x="18838" y="16468"/>
                  <a:pt x="18827" y="165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22Z</dcterms:created>
  <dc:creator>jnewman</dc:creator>
  <dc:description/>
  <dc:language>en-US</dc:language>
  <cp:lastModifiedBy>abeason</cp:lastModifiedBy>
  <dcterms:modified xsi:type="dcterms:W3CDTF">2010-05-04T14:32:31Z</dcterms:modified>
  <cp:revision>12</cp:revision>
  <dc:subject/>
  <dc:title>Lesson 2.3 part one</dc:title>
</cp:coreProperties>
</file>